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094-D2AD-428C-8032-7E79EE98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E08-2D8A-49F8-8E7F-DB879919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809-C758-4896-94D0-E051DC72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1B7-A4BB-4FDC-8613-14DB89CD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69BA-4FB5-4C91-8DB6-D05F16A3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47D2-134E-47F7-902D-8E635F71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F312-4B41-4CD7-A3C2-100BBC93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76F2-C9DB-4964-9C99-AE2111DA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C4E3-3E57-458C-B811-872445E6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04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9794-E454-49C0-9AE8-2D80E1C4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5971-73F1-416F-B2A9-79FE69C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B02-2FCA-4A33-8043-D6B188AB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9FBA-24DD-4741-9DB3-679A5D7E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A9D5-A258-45AC-BD75-8DCFCF6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AE28-E814-45C2-8F0C-D2050A20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8793-EFB3-47BA-A9B4-97AF6C2E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BF56-A247-4075-A154-724070AA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6941-A9CF-4478-8B41-78979549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E36D-BA8D-46BD-87FA-CCB57D0E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E7EA-BF1A-4901-AE9C-8A812A29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E470-3EE8-487F-A9B3-CC517587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5C65-504E-4733-9966-E586B0A8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E0E-C83A-44BE-8A34-D34EED03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04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6762-8815-4CA3-9503-E84A9A1B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AE6A-FC94-4E54-B692-E31DB26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2D51-E960-4D85-BA80-214D482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2F6E-38EE-44E9-AE02-B8D2BE7A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324F-AA18-4F17-A7B4-C3A93CD8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7219-1081-4135-8562-C1DD95B6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6F3B-D230-4B8A-9249-42EE6B2A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11B-2818-4017-B144-5D4DD22B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E2C-CE6E-4BB3-BC0E-28CFFE10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04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245-5911-4ECE-B1A1-4C5E78E4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08A-DBDE-49EA-91E3-8374D9EA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87B-B495-4AA4-8863-F6AEA2D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6D9-7BF7-43B9-9180-9C4B3C4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 hidden="1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428760" y="1071720"/>
            <a:ext cx="5714640" cy="14256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" name="Picture 20" descr="D:\花朵.png"/>
          <p:cNvPicPr/>
          <p:nvPr/>
        </p:nvPicPr>
        <p:blipFill>
          <a:blip r:embed="rId2"/>
          <a:srcRect l="0" t="65382" r="5770" b="0"/>
          <a:stretch/>
        </p:blipFill>
        <p:spPr>
          <a:xfrm>
            <a:off x="5643720" y="0"/>
            <a:ext cx="3499920" cy="999720"/>
          </a:xfrm>
          <a:prstGeom prst="rect">
            <a:avLst/>
          </a:prstGeom>
          <a:ln w="9525">
            <a:noFill/>
          </a:ln>
        </p:spPr>
      </p:pic>
      <p:pic>
        <p:nvPicPr>
          <p:cNvPr id="3" name="Picture 24" descr="D:\花朵2.png"/>
          <p:cNvPicPr/>
          <p:nvPr/>
        </p:nvPicPr>
        <p:blipFill>
          <a:blip r:embed="rId3"/>
          <a:stretch/>
        </p:blipFill>
        <p:spPr>
          <a:xfrm>
            <a:off x="0" y="2705040"/>
            <a:ext cx="9143640" cy="4152600"/>
          </a:xfrm>
          <a:prstGeom prst="rect">
            <a:avLst/>
          </a:prstGeom>
          <a:ln w="9525">
            <a:noFill/>
          </a:ln>
        </p:spPr>
      </p:pic>
      <p:sp>
        <p:nvSpPr>
          <p:cNvPr id="4" name="矩形 4"/>
          <p:cNvSpPr/>
          <p:nvPr/>
        </p:nvSpPr>
        <p:spPr>
          <a:xfrm>
            <a:off x="0" y="0"/>
            <a:ext cx="9143640" cy="213840"/>
          </a:xfrm>
          <a:prstGeom prst="rect">
            <a:avLst/>
          </a:prstGeom>
          <a:solidFill>
            <a:srgbClr val="ffc0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4f271c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213336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1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213336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2A14AC-ACC6-4849-B5D6-93507C5EEB2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28760" y="1071720"/>
            <a:ext cx="5714640" cy="14256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" name="Picture 20" descr="D:\花朵.png"/>
          <p:cNvPicPr/>
          <p:nvPr/>
        </p:nvPicPr>
        <p:blipFill>
          <a:blip r:embed="rId2"/>
          <a:srcRect l="0" t="65382" r="5770" b="0"/>
          <a:stretch/>
        </p:blipFill>
        <p:spPr>
          <a:xfrm>
            <a:off x="5643720" y="0"/>
            <a:ext cx="3499920" cy="999720"/>
          </a:xfrm>
          <a:prstGeom prst="rect">
            <a:avLst/>
          </a:prstGeom>
          <a:ln w="9525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7568EB-5D66-44B1-B44D-B4ABFA2F7BD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428760" y="1071720"/>
            <a:ext cx="5714640" cy="14256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2" name="Picture 20" descr="D:\花朵.png"/>
          <p:cNvPicPr/>
          <p:nvPr/>
        </p:nvPicPr>
        <p:blipFill>
          <a:blip r:embed="rId2"/>
          <a:srcRect l="0" t="65382" r="5770" b="0"/>
          <a:stretch/>
        </p:blipFill>
        <p:spPr>
          <a:xfrm>
            <a:off x="5643720" y="0"/>
            <a:ext cx="3499920" cy="999720"/>
          </a:xfrm>
          <a:prstGeom prst="rect">
            <a:avLst/>
          </a:prstGeom>
          <a:ln w="9525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90DF63-926E-4399-84F2-4AE194090BB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72000" y="1001880"/>
            <a:ext cx="9401760" cy="4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可爱的彩色小花朵卡通矢量通用</a:t>
            </a:r>
            <a:r>
              <a:rPr b="1" lang="en-US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28840" y="2286000"/>
            <a:ext cx="640044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From</a:t>
            </a:r>
            <a:r>
              <a:rPr b="0" lang="zh-CN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Date</a:t>
            </a:r>
            <a:r>
              <a:rPr b="0" lang="zh-CN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8"/>
          <p:cNvGrpSpPr/>
          <p:nvPr/>
        </p:nvGrpSpPr>
        <p:grpSpPr>
          <a:xfrm>
            <a:off x="1963800" y="2143080"/>
            <a:ext cx="5108040" cy="571320"/>
            <a:chOff x="1963800" y="2143080"/>
            <a:chExt cx="5108040" cy="571320"/>
          </a:xfrm>
        </p:grpSpPr>
        <p:sp>
          <p:nvSpPr>
            <p:cNvPr id="139" name="矩形 3"/>
            <p:cNvSpPr/>
            <p:nvPr/>
          </p:nvSpPr>
          <p:spPr>
            <a:xfrm>
              <a:off x="2357280" y="2286000"/>
              <a:ext cx="4714560" cy="356760"/>
            </a:xfrm>
            <a:prstGeom prst="rect">
              <a:avLst/>
            </a:prstGeom>
            <a:solidFill>
              <a:schemeClr val="accent3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40" name="泪滴形 4"/>
            <p:cNvSpPr/>
            <p:nvPr/>
          </p:nvSpPr>
          <p:spPr>
            <a:xfrm>
              <a:off x="1963800" y="2143080"/>
              <a:ext cx="570960" cy="571320"/>
            </a:xfrm>
            <a:prstGeom prst="teardrop">
              <a:avLst>
                <a:gd name="adj" fmla="val 100000"/>
              </a:avLst>
            </a:prstGeom>
            <a:gradFill rotWithShape="0">
              <a:gsLst>
                <a:gs pos="0">
                  <a:srgbClr val="a21012"/>
                </a:gs>
                <a:gs pos="100000">
                  <a:srgbClr val="d21517"/>
                </a:gs>
              </a:gsLst>
              <a:lin ang="16200000"/>
            </a:gradFill>
            <a:ln>
              <a:solidFill>
                <a:srgbClr val="c22828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5"/>
            <p:cNvSpPr/>
            <p:nvPr/>
          </p:nvSpPr>
          <p:spPr>
            <a:xfrm>
              <a:off x="7000920" y="2286000"/>
              <a:ext cx="53640" cy="35676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42" name="组合 31"/>
          <p:cNvGrpSpPr/>
          <p:nvPr/>
        </p:nvGrpSpPr>
        <p:grpSpPr>
          <a:xfrm>
            <a:off x="1963800" y="4643280"/>
            <a:ext cx="5108040" cy="571320"/>
            <a:chOff x="1963800" y="4643280"/>
            <a:chExt cx="5108040" cy="571320"/>
          </a:xfrm>
        </p:grpSpPr>
        <p:sp>
          <p:nvSpPr>
            <p:cNvPr id="143" name="矩形 7"/>
            <p:cNvSpPr/>
            <p:nvPr/>
          </p:nvSpPr>
          <p:spPr>
            <a:xfrm>
              <a:off x="2357280" y="4786200"/>
              <a:ext cx="4714560" cy="356760"/>
            </a:xfrm>
            <a:prstGeom prst="rect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44" name="泪滴形 8"/>
            <p:cNvSpPr/>
            <p:nvPr/>
          </p:nvSpPr>
          <p:spPr>
            <a:xfrm>
              <a:off x="1963800" y="4643280"/>
              <a:ext cx="570960" cy="571320"/>
            </a:xfrm>
            <a:prstGeom prst="teardrop">
              <a:avLst>
                <a:gd name="adj" fmla="val 10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6200000"/>
            </a:gradFill>
            <a:ln>
              <a:solidFill>
                <a:srgbClr val="82a9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9"/>
            <p:cNvSpPr/>
            <p:nvPr/>
          </p:nvSpPr>
          <p:spPr>
            <a:xfrm>
              <a:off x="7000920" y="4786200"/>
              <a:ext cx="53640" cy="35676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46" name="组合 30"/>
          <p:cNvGrpSpPr/>
          <p:nvPr/>
        </p:nvGrpSpPr>
        <p:grpSpPr>
          <a:xfrm>
            <a:off x="1963800" y="3809880"/>
            <a:ext cx="5108040" cy="571320"/>
            <a:chOff x="1963800" y="3809880"/>
            <a:chExt cx="5108040" cy="571320"/>
          </a:xfrm>
        </p:grpSpPr>
        <p:sp>
          <p:nvSpPr>
            <p:cNvPr id="147" name="矩形 11"/>
            <p:cNvSpPr/>
            <p:nvPr/>
          </p:nvSpPr>
          <p:spPr>
            <a:xfrm>
              <a:off x="2357280" y="3952800"/>
              <a:ext cx="4714560" cy="356760"/>
            </a:xfrm>
            <a:prstGeom prst="rect">
              <a:avLst/>
            </a:prstGeom>
            <a:solidFill>
              <a:schemeClr val="accent2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48" name="泪滴形 12"/>
            <p:cNvSpPr/>
            <p:nvPr/>
          </p:nvSpPr>
          <p:spPr>
            <a:xfrm>
              <a:off x="1963800" y="3809880"/>
              <a:ext cx="570960" cy="571320"/>
            </a:xfrm>
            <a:prstGeom prst="teardrop">
              <a:avLst>
                <a:gd name="adj" fmla="val 100000"/>
              </a:avLst>
            </a:prstGeom>
            <a:gradFill rotWithShape="0">
              <a:gsLst>
                <a:gs pos="0">
                  <a:srgbClr val="c48c00"/>
                </a:gs>
                <a:gs pos="100000">
                  <a:srgbClr val="ffb600"/>
                </a:gs>
              </a:gsLst>
              <a:lin ang="162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3"/>
            <p:cNvSpPr/>
            <p:nvPr/>
          </p:nvSpPr>
          <p:spPr>
            <a:xfrm>
              <a:off x="7000920" y="3952800"/>
              <a:ext cx="53640" cy="35676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50" name="组合 29"/>
          <p:cNvGrpSpPr/>
          <p:nvPr/>
        </p:nvGrpSpPr>
        <p:grpSpPr>
          <a:xfrm>
            <a:off x="1963800" y="2976480"/>
            <a:ext cx="5108040" cy="571320"/>
            <a:chOff x="1963800" y="2976480"/>
            <a:chExt cx="5108040" cy="571320"/>
          </a:xfrm>
        </p:grpSpPr>
        <p:sp>
          <p:nvSpPr>
            <p:cNvPr id="151" name="矩形 15"/>
            <p:cNvSpPr/>
            <p:nvPr/>
          </p:nvSpPr>
          <p:spPr>
            <a:xfrm>
              <a:off x="2357280" y="3119400"/>
              <a:ext cx="4714560" cy="35676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52" name="泪滴形 16"/>
            <p:cNvSpPr/>
            <p:nvPr/>
          </p:nvSpPr>
          <p:spPr>
            <a:xfrm>
              <a:off x="1963800" y="2976480"/>
              <a:ext cx="570960" cy="571320"/>
            </a:xfrm>
            <a:prstGeom prst="teardrop">
              <a:avLst>
                <a:gd name="adj" fmla="val 10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7"/>
            <p:cNvSpPr/>
            <p:nvPr/>
          </p:nvSpPr>
          <p:spPr>
            <a:xfrm>
              <a:off x="7000920" y="3119400"/>
              <a:ext cx="53640" cy="35676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www.51pptmob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3"/>
          <p:cNvGrpSpPr/>
          <p:nvPr/>
        </p:nvGrpSpPr>
        <p:grpSpPr>
          <a:xfrm>
            <a:off x="2975040" y="2000160"/>
            <a:ext cx="2990880" cy="2968200"/>
            <a:chOff x="2975040" y="2000160"/>
            <a:chExt cx="2990880" cy="2968200"/>
          </a:xfrm>
        </p:grpSpPr>
        <p:sp>
          <p:nvSpPr>
            <p:cNvPr id="156" name="任意多边形 3"/>
            <p:cNvSpPr/>
            <p:nvPr/>
          </p:nvSpPr>
          <p:spPr>
            <a:xfrm>
              <a:off x="4514400" y="2006640"/>
              <a:ext cx="1359360" cy="1027080"/>
            </a:xfrm>
            <a:custGeom>
              <a:avLst/>
              <a:gdLst>
                <a:gd name="textAreaLeft" fmla="*/ 0 w 1359360"/>
                <a:gd name="textAreaRight" fmla="*/ 1359720 w 135936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350" h="1156512">
                  <a:moveTo>
                    <a:pt x="28575" y="812"/>
                  </a:moveTo>
                  <a:lnTo>
                    <a:pt x="0" y="165912"/>
                  </a:lnTo>
                  <a:lnTo>
                    <a:pt x="19050" y="337362"/>
                  </a:lnTo>
                  <a:lnTo>
                    <a:pt x="1358900" y="1156512"/>
                  </a:lnTo>
                  <a:lnTo>
                    <a:pt x="1530350" y="1131112"/>
                  </a:lnTo>
                  <a:cubicBezTo>
                    <a:pt x="1364192" y="550087"/>
                    <a:pt x="756708" y="-24588"/>
                    <a:pt x="28575" y="812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7" name="任意多边形 4"/>
            <p:cNvSpPr/>
            <p:nvPr/>
          </p:nvSpPr>
          <p:spPr>
            <a:xfrm>
              <a:off x="5335200" y="3133080"/>
              <a:ext cx="630360" cy="14954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710054" h="1683825">
                  <a:moveTo>
                    <a:pt x="647700" y="2662"/>
                  </a:moveTo>
                  <a:cubicBezTo>
                    <a:pt x="571500" y="-2100"/>
                    <a:pt x="485775" y="-3688"/>
                    <a:pt x="419100" y="26475"/>
                  </a:cubicBezTo>
                  <a:lnTo>
                    <a:pt x="0" y="1545712"/>
                  </a:lnTo>
                  <a:cubicBezTo>
                    <a:pt x="34925" y="1609212"/>
                    <a:pt x="66675" y="1650487"/>
                    <a:pt x="95250" y="1683825"/>
                  </a:cubicBezTo>
                  <a:cubicBezTo>
                    <a:pt x="460375" y="1466337"/>
                    <a:pt x="868362" y="732913"/>
                    <a:pt x="647700" y="2662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8" name="任意多边形 5"/>
            <p:cNvSpPr/>
            <p:nvPr/>
          </p:nvSpPr>
          <p:spPr>
            <a:xfrm>
              <a:off x="3693600" y="4599720"/>
              <a:ext cx="1635840" cy="368640"/>
            </a:xfrm>
            <a:custGeom>
              <a:avLst/>
              <a:gdLst>
                <a:gd name="textAreaLeft" fmla="*/ 0 w 1635840"/>
                <a:gd name="textAreaRight" fmla="*/ 1636200 w 163584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1841500" h="415206">
                  <a:moveTo>
                    <a:pt x="0" y="133350"/>
                  </a:moveTo>
                  <a:lnTo>
                    <a:pt x="44450" y="6350"/>
                  </a:lnTo>
                  <a:lnTo>
                    <a:pt x="936625" y="53975"/>
                  </a:lnTo>
                  <a:lnTo>
                    <a:pt x="1552575" y="19050"/>
                  </a:lnTo>
                  <a:lnTo>
                    <a:pt x="1768475" y="0"/>
                  </a:lnTo>
                  <a:lnTo>
                    <a:pt x="1841500" y="107950"/>
                  </a:lnTo>
                  <a:cubicBezTo>
                    <a:pt x="1183217" y="583142"/>
                    <a:pt x="382058" y="439208"/>
                    <a:pt x="0" y="133350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9" name="任意多边形 6"/>
            <p:cNvSpPr/>
            <p:nvPr/>
          </p:nvSpPr>
          <p:spPr>
            <a:xfrm>
              <a:off x="2976480" y="3104640"/>
              <a:ext cx="680400" cy="154836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1548360"/>
                <a:gd name="textAreaBottom" fmla="*/ 1548720 h 1548360"/>
              </a:gdLst>
              <a:ahLst/>
              <a:rect l="textAreaLeft" t="textAreaTop" r="textAreaRight" b="textAreaBottom"/>
              <a:pathLst>
                <a:path w="766060" h="1743075">
                  <a:moveTo>
                    <a:pt x="80260" y="0"/>
                  </a:moveTo>
                  <a:lnTo>
                    <a:pt x="378710" y="92075"/>
                  </a:lnTo>
                  <a:lnTo>
                    <a:pt x="766060" y="1565275"/>
                  </a:lnTo>
                  <a:lnTo>
                    <a:pt x="689860" y="1743075"/>
                  </a:lnTo>
                  <a:cubicBezTo>
                    <a:pt x="199852" y="1399117"/>
                    <a:pt x="-169507" y="677333"/>
                    <a:pt x="80260" y="0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0" name="任意多边形 7"/>
            <p:cNvSpPr/>
            <p:nvPr/>
          </p:nvSpPr>
          <p:spPr>
            <a:xfrm>
              <a:off x="3065400" y="2000160"/>
              <a:ext cx="1423440" cy="1095480"/>
            </a:xfrm>
            <a:custGeom>
              <a:avLst/>
              <a:gdLst>
                <a:gd name="textAreaLeft" fmla="*/ 0 w 1423440"/>
                <a:gd name="textAreaRight" fmla="*/ 1423800 w 1423440"/>
                <a:gd name="textAreaTop" fmla="*/ 0 h 1095480"/>
                <a:gd name="textAreaBottom" fmla="*/ 1095840 h 1095480"/>
              </a:gdLst>
              <a:ahLst/>
              <a:rect l="textAreaLeft" t="textAreaTop" r="textAreaRight" b="textAreaBottom"/>
              <a:pathLst>
                <a:path w="1602580" h="1233487">
                  <a:moveTo>
                    <a:pt x="0" y="1150143"/>
                  </a:moveTo>
                  <a:lnTo>
                    <a:pt x="399256" y="1233487"/>
                  </a:lnTo>
                  <a:lnTo>
                    <a:pt x="1602580" y="279400"/>
                  </a:lnTo>
                  <a:lnTo>
                    <a:pt x="1555749" y="0"/>
                  </a:lnTo>
                  <a:cubicBezTo>
                    <a:pt x="418041" y="73025"/>
                    <a:pt x="82814" y="901699"/>
                    <a:pt x="0" y="1150143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1" name="椭圆 8"/>
            <p:cNvSpPr/>
            <p:nvPr/>
          </p:nvSpPr>
          <p:spPr>
            <a:xfrm>
              <a:off x="3099600" y="2147760"/>
              <a:ext cx="2720160" cy="2720160"/>
            </a:xfrm>
            <a:prstGeom prst="ellipse">
              <a:avLst/>
            </a:prstGeom>
            <a:gradFill rotWithShape="0">
              <a:gsLst>
                <a:gs pos="0">
                  <a:srgbClr val="119707"/>
                </a:gs>
                <a:gs pos="100000">
                  <a:srgbClr val="8ad53f"/>
                </a:gs>
              </a:gsLst>
              <a:lin ang="0"/>
            </a:gra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2" name="椭圆 9"/>
            <p:cNvSpPr/>
            <p:nvPr/>
          </p:nvSpPr>
          <p:spPr>
            <a:xfrm>
              <a:off x="3382200" y="2430720"/>
              <a:ext cx="2154600" cy="2154600"/>
            </a:xfrm>
            <a:prstGeom prst="ellipse">
              <a:avLst/>
            </a:prstGeom>
            <a:gradFill rotWithShape="0">
              <a:gsLst>
                <a:gs pos="0">
                  <a:srgbClr val="ff7711"/>
                </a:gs>
                <a:gs pos="100000">
                  <a:srgbClr val="ffaa01"/>
                </a:gs>
              </a:gsLst>
              <a:lin ang="1200000"/>
            </a:gra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3" name="椭圆 10"/>
            <p:cNvSpPr/>
            <p:nvPr/>
          </p:nvSpPr>
          <p:spPr>
            <a:xfrm>
              <a:off x="3763800" y="2812320"/>
              <a:ext cx="1391400" cy="1391400"/>
            </a:xfrm>
            <a:prstGeom prst="ellipse">
              <a:avLst/>
            </a:prstGeom>
            <a:gradFill rotWithShape="0">
              <a:gsLst>
                <a:gs pos="0">
                  <a:srgbClr val="d2144f"/>
                </a:gs>
                <a:gs pos="100000">
                  <a:srgbClr val="f87477"/>
                </a:gs>
              </a:gsLst>
              <a:lin ang="0"/>
            </a:gradFill>
            <a:ln w="31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4" name="椭圆 22"/>
            <p:cNvSpPr/>
            <p:nvPr/>
          </p:nvSpPr>
          <p:spPr>
            <a:xfrm>
              <a:off x="3063240" y="2003760"/>
              <a:ext cx="1391400" cy="1449360"/>
            </a:xfrm>
            <a:custGeom>
              <a:avLst/>
              <a:gdLst>
                <a:gd name="textAreaLeft" fmla="*/ 0 w 1391400"/>
                <a:gd name="textAreaRight" fmla="*/ 1391760 w 13914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460575" h="1521735">
                  <a:moveTo>
                    <a:pt x="1454513" y="0"/>
                  </a:moveTo>
                  <a:cubicBezTo>
                    <a:pt x="1293969" y="435475"/>
                    <a:pt x="1402782" y="1424616"/>
                    <a:pt x="1460575" y="1521735"/>
                  </a:cubicBezTo>
                  <a:cubicBezTo>
                    <a:pt x="1062533" y="1435093"/>
                    <a:pt x="402483" y="1281839"/>
                    <a:pt x="0" y="1075295"/>
                  </a:cubicBezTo>
                  <a:cubicBezTo>
                    <a:pt x="193143" y="454413"/>
                    <a:pt x="770857" y="2983"/>
                    <a:pt x="1454513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5" name="椭圆 28"/>
            <p:cNvSpPr/>
            <p:nvPr/>
          </p:nvSpPr>
          <p:spPr>
            <a:xfrm>
              <a:off x="4489560" y="2005920"/>
              <a:ext cx="1388520" cy="1444320"/>
            </a:xfrm>
            <a:custGeom>
              <a:avLst/>
              <a:gdLst>
                <a:gd name="textAreaLeft" fmla="*/ 0 w 1388520"/>
                <a:gd name="textAreaRight" fmla="*/ 1388880 w 138852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457819" h="1516201">
                  <a:moveTo>
                    <a:pt x="48969" y="0"/>
                  </a:moveTo>
                  <a:cubicBezTo>
                    <a:pt x="732909" y="0"/>
                    <a:pt x="1261776" y="442542"/>
                    <a:pt x="1457819" y="1061574"/>
                  </a:cubicBezTo>
                  <a:lnTo>
                    <a:pt x="1457540" y="1065351"/>
                  </a:lnTo>
                  <a:cubicBezTo>
                    <a:pt x="1154260" y="1304450"/>
                    <a:pt x="184859" y="1502102"/>
                    <a:pt x="0" y="1516201"/>
                  </a:cubicBezTo>
                  <a:cubicBezTo>
                    <a:pt x="98365" y="1328721"/>
                    <a:pt x="238825" y="345432"/>
                    <a:pt x="48969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6" name="椭圆 31"/>
            <p:cNvSpPr/>
            <p:nvPr/>
          </p:nvSpPr>
          <p:spPr>
            <a:xfrm>
              <a:off x="4504320" y="3130200"/>
              <a:ext cx="1461600" cy="1509120"/>
            </a:xfrm>
            <a:custGeom>
              <a:avLst/>
              <a:gdLst>
                <a:gd name="textAreaLeft" fmla="*/ 0 w 1461600"/>
                <a:gd name="textAreaRight" fmla="*/ 1461960 w 1461600"/>
                <a:gd name="textAreaTop" fmla="*/ 0 h 1509120"/>
                <a:gd name="textAreaBottom" fmla="*/ 1509480 h 1509120"/>
              </a:gdLst>
              <a:ahLst/>
              <a:rect l="textAreaLeft" t="textAreaTop" r="textAreaRight" b="textAreaBottom"/>
              <a:pathLst>
                <a:path w="1534306" h="1584156">
                  <a:moveTo>
                    <a:pt x="1479901" y="0"/>
                  </a:moveTo>
                  <a:cubicBezTo>
                    <a:pt x="1526073" y="145423"/>
                    <a:pt x="1538671" y="244042"/>
                    <a:pt x="1533061" y="404758"/>
                  </a:cubicBezTo>
                  <a:cubicBezTo>
                    <a:pt x="1514283" y="942706"/>
                    <a:pt x="1314558" y="1314057"/>
                    <a:pt x="954661" y="1584156"/>
                  </a:cubicBezTo>
                  <a:cubicBezTo>
                    <a:pt x="598941" y="1356799"/>
                    <a:pt x="154404" y="714967"/>
                    <a:pt x="0" y="375110"/>
                  </a:cubicBezTo>
                  <a:cubicBezTo>
                    <a:pt x="311481" y="414369"/>
                    <a:pt x="1241607" y="362215"/>
                    <a:pt x="1479901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7" name="椭圆 34"/>
            <p:cNvSpPr/>
            <p:nvPr/>
          </p:nvSpPr>
          <p:spPr>
            <a:xfrm>
              <a:off x="3698640" y="3507120"/>
              <a:ext cx="1637280" cy="1460880"/>
            </a:xfrm>
            <a:custGeom>
              <a:avLst/>
              <a:gdLst>
                <a:gd name="textAreaLeft" fmla="*/ 0 w 1637280"/>
                <a:gd name="textAreaRight" fmla="*/ 1637640 w 1637280"/>
                <a:gd name="textAreaTop" fmla="*/ 0 h 1460880"/>
                <a:gd name="textAreaBottom" fmla="*/ 1461240 h 1460880"/>
              </a:gdLst>
              <a:ahLst/>
              <a:rect l="textAreaLeft" t="textAreaTop" r="textAreaRight" b="textAreaBottom"/>
              <a:pathLst>
                <a:path w="1718703" h="1533592">
                  <a:moveTo>
                    <a:pt x="822354" y="0"/>
                  </a:moveTo>
                  <a:cubicBezTo>
                    <a:pt x="907260" y="570946"/>
                    <a:pt x="1276134" y="1179779"/>
                    <a:pt x="1718703" y="1243151"/>
                  </a:cubicBezTo>
                  <a:cubicBezTo>
                    <a:pt x="1467776" y="1426364"/>
                    <a:pt x="1158387" y="1533592"/>
                    <a:pt x="823954" y="1533592"/>
                  </a:cubicBezTo>
                  <a:cubicBezTo>
                    <a:pt x="486750" y="1533592"/>
                    <a:pt x="246060" y="1430500"/>
                    <a:pt x="0" y="1274056"/>
                  </a:cubicBezTo>
                  <a:cubicBezTo>
                    <a:pt x="500562" y="1152788"/>
                    <a:pt x="727295" y="437715"/>
                    <a:pt x="822354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8" name="椭圆 37"/>
            <p:cNvSpPr/>
            <p:nvPr/>
          </p:nvSpPr>
          <p:spPr>
            <a:xfrm>
              <a:off x="2975040" y="3106800"/>
              <a:ext cx="1471320" cy="1549800"/>
            </a:xfrm>
            <a:custGeom>
              <a:avLst/>
              <a:gdLst>
                <a:gd name="textAreaLeft" fmla="*/ 0 w 1471320"/>
                <a:gd name="textAreaRight" fmla="*/ 1471680 w 1471320"/>
                <a:gd name="textAreaTop" fmla="*/ 0 h 1549800"/>
                <a:gd name="textAreaBottom" fmla="*/ 1550160 h 1549800"/>
              </a:gdLst>
              <a:ahLst/>
              <a:rect l="textAreaLeft" t="textAreaTop" r="textAreaRight" b="textAreaBottom"/>
              <a:pathLst>
                <a:path w="1544664" h="1627148">
                  <a:moveTo>
                    <a:pt x="74692" y="0"/>
                  </a:moveTo>
                  <a:cubicBezTo>
                    <a:pt x="285991" y="386343"/>
                    <a:pt x="1294067" y="472922"/>
                    <a:pt x="1544664" y="395724"/>
                  </a:cubicBezTo>
                  <a:cubicBezTo>
                    <a:pt x="1445407" y="704415"/>
                    <a:pt x="889729" y="1417053"/>
                    <a:pt x="645606" y="1627148"/>
                  </a:cubicBezTo>
                  <a:cubicBezTo>
                    <a:pt x="292114" y="1382909"/>
                    <a:pt x="14803" y="927163"/>
                    <a:pt x="0" y="412872"/>
                  </a:cubicBezTo>
                  <a:cubicBezTo>
                    <a:pt x="0" y="251371"/>
                    <a:pt x="27967" y="146040"/>
                    <a:pt x="74692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169" name="TextBox 11"/>
          <p:cNvSpPr/>
          <p:nvPr/>
        </p:nvSpPr>
        <p:spPr>
          <a:xfrm flipH="1">
            <a:off x="1001520" y="240228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直接连接符 17"/>
          <p:cNvCxnSpPr/>
          <p:nvPr/>
        </p:nvCxnSpPr>
        <p:spPr>
          <a:xfrm>
            <a:off x="1100520" y="2827440"/>
            <a:ext cx="199908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1" name="TextBox 11"/>
          <p:cNvSpPr/>
          <p:nvPr/>
        </p:nvSpPr>
        <p:spPr>
          <a:xfrm flipH="1">
            <a:off x="1001520" y="342972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19"/>
          <p:cNvCxnSpPr/>
          <p:nvPr/>
        </p:nvCxnSpPr>
        <p:spPr>
          <a:xfrm>
            <a:off x="1100520" y="3854880"/>
            <a:ext cx="199908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3" name="TextBox 11"/>
          <p:cNvSpPr/>
          <p:nvPr/>
        </p:nvSpPr>
        <p:spPr>
          <a:xfrm flipH="1">
            <a:off x="1001520" y="453096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21"/>
          <p:cNvCxnSpPr/>
          <p:nvPr/>
        </p:nvCxnSpPr>
        <p:spPr>
          <a:xfrm>
            <a:off x="1100520" y="4956480"/>
            <a:ext cx="341460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5" name="TextBox 11"/>
          <p:cNvSpPr/>
          <p:nvPr/>
        </p:nvSpPr>
        <p:spPr>
          <a:xfrm flipH="1">
            <a:off x="7169400" y="240228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直接连接符 23"/>
          <p:cNvCxnSpPr/>
          <p:nvPr/>
        </p:nvCxnSpPr>
        <p:spPr>
          <a:xfrm>
            <a:off x="5819760" y="2827440"/>
            <a:ext cx="235008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7" name="TextBox 11"/>
          <p:cNvSpPr/>
          <p:nvPr/>
        </p:nvSpPr>
        <p:spPr>
          <a:xfrm flipH="1">
            <a:off x="7169400" y="413712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25"/>
          <p:cNvCxnSpPr/>
          <p:nvPr/>
        </p:nvCxnSpPr>
        <p:spPr>
          <a:xfrm>
            <a:off x="5460840" y="4562280"/>
            <a:ext cx="270900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9" name="TextBox 11"/>
          <p:cNvSpPr/>
          <p:nvPr/>
        </p:nvSpPr>
        <p:spPr>
          <a:xfrm flipH="1">
            <a:off x="7169400" y="373896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0"/>
          <p:cNvSpPr/>
          <p:nvPr/>
        </p:nvSpPr>
        <p:spPr>
          <a:xfrm>
            <a:off x="1874520" y="4653000"/>
            <a:ext cx="5222520" cy="1257120"/>
          </a:xfrm>
          <a:prstGeom prst="ellipse">
            <a:avLst/>
          </a:prstGeom>
          <a:gradFill rotWithShape="0">
            <a:gsLst>
              <a:gs pos="0">
                <a:srgbClr val="121212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7030a0"/>
              </a:solidFill>
              <a:latin typeface="微软雅黑"/>
              <a:ea typeface="微软雅黑"/>
            </a:endParaRPr>
          </a:p>
        </p:txBody>
      </p:sp>
      <p:sp>
        <p:nvSpPr>
          <p:cNvPr id="182" name="椭圆 10"/>
          <p:cNvSpPr/>
          <p:nvPr/>
        </p:nvSpPr>
        <p:spPr>
          <a:xfrm>
            <a:off x="2143080" y="5000760"/>
            <a:ext cx="4714560" cy="1222200"/>
          </a:xfrm>
          <a:prstGeom prst="ellipse">
            <a:avLst/>
          </a:prstGeom>
          <a:gradFill rotWithShape="0">
            <a:gsLst>
              <a:gs pos="0">
                <a:srgbClr val="121212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4"/>
          <p:cNvSpPr/>
          <p:nvPr/>
        </p:nvSpPr>
        <p:spPr>
          <a:xfrm rot="19495800">
            <a:off x="3025440" y="209088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c31b4f"/>
              </a:gs>
              <a:gs pos="100000">
                <a:srgbClr val="e55d8e"/>
              </a:gs>
            </a:gsLst>
            <a:lin ang="19494000"/>
          </a:gradFill>
          <a:ln>
            <a:solidFill>
              <a:srgbClr val="d121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" name="任意多边形 5"/>
          <p:cNvSpPr/>
          <p:nvPr/>
        </p:nvSpPr>
        <p:spPr>
          <a:xfrm rot="10998000">
            <a:off x="3673800" y="404496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c31b4f"/>
              </a:gs>
              <a:gs pos="100000">
                <a:srgbClr val="e55d8e"/>
              </a:gs>
            </a:gsLst>
            <a:lin ang="10998000"/>
          </a:gradFill>
          <a:ln>
            <a:solidFill>
              <a:srgbClr val="d121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5" name="任意多边形 6"/>
          <p:cNvSpPr/>
          <p:nvPr/>
        </p:nvSpPr>
        <p:spPr>
          <a:xfrm rot="15116400">
            <a:off x="2698560" y="329112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e4a302"/>
              </a:gs>
              <a:gs pos="100000">
                <a:srgbClr val="ffdd71"/>
              </a:gs>
            </a:gsLst>
            <a:lin ang="5514000"/>
          </a:gra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6" name="任意多边形 7"/>
          <p:cNvSpPr/>
          <p:nvPr/>
        </p:nvSpPr>
        <p:spPr>
          <a:xfrm rot="2232000">
            <a:off x="4316400" y="207324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238b07"/>
              </a:gs>
              <a:gs pos="100000">
                <a:srgbClr val="92d050"/>
              </a:gs>
            </a:gsLst>
            <a:lin ang="2226000"/>
          </a:gradFill>
          <a:ln>
            <a:solidFill>
              <a:srgbClr val="54a4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7" name="任意多边形 8"/>
          <p:cNvSpPr/>
          <p:nvPr/>
        </p:nvSpPr>
        <p:spPr>
          <a:xfrm rot="6572400">
            <a:off x="4713480" y="329760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dd5a09"/>
              </a:gs>
              <a:gs pos="100000">
                <a:srgbClr val="ffc000"/>
              </a:gs>
            </a:gsLst>
            <a:lin ang="12570000"/>
          </a:gra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8" name="椭圆 9"/>
          <p:cNvSpPr/>
          <p:nvPr/>
        </p:nvSpPr>
        <p:spPr>
          <a:xfrm>
            <a:off x="3929040" y="2952360"/>
            <a:ext cx="1071360" cy="1071360"/>
          </a:xfrm>
          <a:prstGeom prst="ellipse">
            <a:avLst/>
          </a:prstGeom>
          <a:gradFill rotWithShape="0">
            <a:gsLst>
              <a:gs pos="0">
                <a:srgbClr val="00688e"/>
              </a:gs>
              <a:gs pos="100000">
                <a:srgbClr val="0094ca"/>
              </a:gs>
            </a:gsLst>
            <a:lin ang="16200000"/>
          </a:gradFill>
          <a:ln>
            <a:solidFill>
              <a:srgbClr val="0088b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89" name="直接连接符 10"/>
          <p:cNvCxnSpPr/>
          <p:nvPr/>
        </p:nvCxnSpPr>
        <p:spPr>
          <a:xfrm flipH="1">
            <a:off x="1857240" y="478620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190" name="直接连接符 11"/>
          <p:cNvCxnSpPr/>
          <p:nvPr/>
        </p:nvCxnSpPr>
        <p:spPr>
          <a:xfrm flipH="1">
            <a:off x="642600" y="385740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191" name="直接连接符 12"/>
          <p:cNvCxnSpPr/>
          <p:nvPr/>
        </p:nvCxnSpPr>
        <p:spPr>
          <a:xfrm flipH="1">
            <a:off x="5786280" y="385740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192" name="直接连接符 13"/>
          <p:cNvCxnSpPr/>
          <p:nvPr/>
        </p:nvCxnSpPr>
        <p:spPr>
          <a:xfrm flipH="1">
            <a:off x="5429160" y="242856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193" name="直接连接符 14"/>
          <p:cNvCxnSpPr/>
          <p:nvPr/>
        </p:nvCxnSpPr>
        <p:spPr>
          <a:xfrm flipH="1">
            <a:off x="1071360" y="242856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194" name="矩形 15"/>
          <p:cNvSpPr/>
          <p:nvPr/>
        </p:nvSpPr>
        <p:spPr>
          <a:xfrm>
            <a:off x="4083480" y="3199680"/>
            <a:ext cx="773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6"/>
          <p:cNvSpPr/>
          <p:nvPr/>
        </p:nvSpPr>
        <p:spPr>
          <a:xfrm>
            <a:off x="5875560" y="1928880"/>
            <a:ext cx="26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7"/>
          <p:cNvSpPr/>
          <p:nvPr/>
        </p:nvSpPr>
        <p:spPr>
          <a:xfrm>
            <a:off x="6667920" y="3429000"/>
            <a:ext cx="255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8"/>
          <p:cNvSpPr/>
          <p:nvPr/>
        </p:nvSpPr>
        <p:spPr>
          <a:xfrm>
            <a:off x="1887840" y="4357800"/>
            <a:ext cx="242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9"/>
          <p:cNvSpPr/>
          <p:nvPr/>
        </p:nvSpPr>
        <p:spPr>
          <a:xfrm>
            <a:off x="686160" y="3429000"/>
            <a:ext cx="217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0"/>
          <p:cNvSpPr/>
          <p:nvPr/>
        </p:nvSpPr>
        <p:spPr>
          <a:xfrm>
            <a:off x="1121040" y="2000160"/>
            <a:ext cx="205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79640" y="64810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2"/>
          <p:cNvSpPr/>
          <p:nvPr/>
        </p:nvSpPr>
        <p:spPr>
          <a:xfrm>
            <a:off x="3929040" y="2000160"/>
            <a:ext cx="4928760" cy="3785760"/>
          </a:xfrm>
          <a:prstGeom prst="rect">
            <a:avLst/>
          </a:prstGeom>
          <a:solidFill>
            <a:srgbClr val="3891a7">
              <a:alpha val="30000"/>
            </a:srgbClr>
          </a:solidFill>
          <a:ln w="9525"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2" name="左弧形箭头 10"/>
          <p:cNvSpPr/>
          <p:nvPr/>
        </p:nvSpPr>
        <p:spPr>
          <a:xfrm flipV="1" rot="20118000">
            <a:off x="2608920" y="3476880"/>
            <a:ext cx="649080" cy="2704320"/>
          </a:xfrm>
          <a:prstGeom prst="curvedRightArrow">
            <a:avLst>
              <a:gd name="adj1" fmla="val 50000"/>
              <a:gd name="adj2" fmla="val 50000"/>
              <a:gd name="adj3" fmla="val 25000"/>
            </a:avLst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3912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1"/>
          <p:cNvSpPr/>
          <p:nvPr/>
        </p:nvSpPr>
        <p:spPr>
          <a:xfrm>
            <a:off x="1892520" y="2715480"/>
            <a:ext cx="1594080" cy="177120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4" name="心形 3"/>
          <p:cNvSpPr/>
          <p:nvPr/>
        </p:nvSpPr>
        <p:spPr>
          <a:xfrm rot="2290200">
            <a:off x="2156040" y="1857240"/>
            <a:ext cx="1889280" cy="1889280"/>
          </a:xfrm>
          <a:prstGeom prst="heart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8486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5" name="心形 4"/>
          <p:cNvSpPr/>
          <p:nvPr/>
        </p:nvSpPr>
        <p:spPr>
          <a:xfrm flipV="1" rot="2289000">
            <a:off x="915480" y="3435120"/>
            <a:ext cx="1889280" cy="1889640"/>
          </a:xfrm>
          <a:prstGeom prst="heart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7692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6" name="心形 5"/>
          <p:cNvSpPr/>
          <p:nvPr/>
        </p:nvSpPr>
        <p:spPr>
          <a:xfrm rot="18489600">
            <a:off x="653400" y="1953720"/>
            <a:ext cx="1889280" cy="1889280"/>
          </a:xfrm>
          <a:prstGeom prst="hear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3086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07" name="心形 6"/>
          <p:cNvSpPr/>
          <p:nvPr/>
        </p:nvSpPr>
        <p:spPr>
          <a:xfrm rot="7689600">
            <a:off x="2372040" y="3303360"/>
            <a:ext cx="1889280" cy="1889280"/>
          </a:xfrm>
          <a:prstGeom prst="hear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2286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08" name="泪滴形 7"/>
          <p:cNvSpPr/>
          <p:nvPr/>
        </p:nvSpPr>
        <p:spPr>
          <a:xfrm rot="18574800">
            <a:off x="571320" y="4819680"/>
            <a:ext cx="471960" cy="4719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ffe8cf"/>
              </a:gs>
              <a:gs pos="100000">
                <a:srgbClr val="fff6ec"/>
              </a:gs>
            </a:gsLst>
            <a:lin ang="13170000"/>
          </a:gradFill>
          <a:ln>
            <a:solidFill>
              <a:srgbClr val="feb603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 rot="18652200">
            <a:off x="2156400" y="2773800"/>
            <a:ext cx="175104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GRASP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7030a0"/>
              </a:solidFill>
              <a:latin typeface="微软雅黑"/>
              <a:ea typeface="微软雅黑"/>
            </a:endParaRPr>
          </a:p>
        </p:txBody>
      </p:sp>
      <p:sp>
        <p:nvSpPr>
          <p:cNvPr id="211" name="椭圆 10"/>
          <p:cNvSpPr/>
          <p:nvPr/>
        </p:nvSpPr>
        <p:spPr>
          <a:xfrm>
            <a:off x="1788480" y="5415120"/>
            <a:ext cx="5222520" cy="1085400"/>
          </a:xfrm>
          <a:prstGeom prst="ellipse">
            <a:avLst/>
          </a:prstGeom>
          <a:gradFill rotWithShape="0">
            <a:gsLst>
              <a:gs pos="0">
                <a:srgbClr val="808080">
                  <a:alpha val="6117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5"/>
          <p:cNvSpPr/>
          <p:nvPr/>
        </p:nvSpPr>
        <p:spPr>
          <a:xfrm>
            <a:off x="3934800" y="155772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0 h 2145240"/>
              <a:gd name="textAreaBottom" fmla="*/ 214560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68426"/>
              </a:gs>
            </a:gsLst>
            <a:lin ang="540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3" name="任意多边形 6"/>
          <p:cNvSpPr/>
          <p:nvPr/>
        </p:nvSpPr>
        <p:spPr>
          <a:xfrm rot="2637000">
            <a:off x="4667400" y="184104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0 h 2145240"/>
              <a:gd name="textAreaBottom" fmla="*/ 214560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568129"/>
              </a:gs>
              <a:gs pos="100000">
                <a:srgbClr val="7bb73b"/>
              </a:gs>
            </a:gsLst>
            <a:lin ang="18834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4" name="任意多边形 7"/>
          <p:cNvSpPr/>
          <p:nvPr/>
        </p:nvSpPr>
        <p:spPr>
          <a:xfrm flipH="1" rot="18963000">
            <a:off x="3180960" y="1877400"/>
            <a:ext cx="965160" cy="2145240"/>
          </a:xfrm>
          <a:custGeom>
            <a:avLst/>
            <a:gdLst>
              <a:gd name="textAreaLeft" fmla="*/ -360 w 965160"/>
              <a:gd name="textAreaRight" fmla="*/ 965160 w 965160"/>
              <a:gd name="textAreaTop" fmla="*/ 0 h 2145240"/>
              <a:gd name="textAreaBottom" fmla="*/ 214560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568129"/>
              </a:gs>
              <a:gs pos="100000">
                <a:srgbClr val="7bb73b"/>
              </a:gs>
            </a:gsLst>
            <a:lin ang="1356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5" name="任意多边形 8"/>
          <p:cNvSpPr/>
          <p:nvPr/>
        </p:nvSpPr>
        <p:spPr>
          <a:xfrm flipV="1" rot="18963000">
            <a:off x="4656600" y="332964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-360 h 2145240"/>
              <a:gd name="textAreaBottom" fmla="*/ 214524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992941"/>
              </a:gs>
              <a:gs pos="100000">
                <a:srgbClr val="db3b5d"/>
              </a:gs>
            </a:gsLst>
            <a:lin ang="276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6" name="任意多边形 9"/>
          <p:cNvSpPr/>
          <p:nvPr/>
        </p:nvSpPr>
        <p:spPr>
          <a:xfrm flipH="1" flipV="1" rot="2637000">
            <a:off x="3158640" y="3331080"/>
            <a:ext cx="965160" cy="2144880"/>
          </a:xfrm>
          <a:custGeom>
            <a:avLst/>
            <a:gdLst>
              <a:gd name="textAreaLeft" fmla="*/ -360 w 965160"/>
              <a:gd name="textAreaRight" fmla="*/ 965160 w 965160"/>
              <a:gd name="textAreaTop" fmla="*/ 360 h 2144880"/>
              <a:gd name="textAreaBottom" fmla="*/ 2145600 h 214488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992941"/>
              </a:gs>
              <a:gs pos="100000">
                <a:srgbClr val="db3b5d"/>
              </a:gs>
            </a:gsLst>
            <a:lin ang="8034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7" name="任意多边形 10"/>
          <p:cNvSpPr/>
          <p:nvPr/>
        </p:nvSpPr>
        <p:spPr>
          <a:xfrm flipV="1">
            <a:off x="3934800" y="366480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-360 h 2145240"/>
              <a:gd name="textAreaBottom" fmla="*/ 214524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977100"/>
              </a:gs>
              <a:gs pos="100000">
                <a:srgbClr val="d6a100"/>
              </a:gs>
            </a:gsLst>
            <a:lin ang="540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8" name="任意多边形 11"/>
          <p:cNvSpPr/>
          <p:nvPr/>
        </p:nvSpPr>
        <p:spPr>
          <a:xfrm rot="5400000">
            <a:off x="5019840" y="261072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0 h 2145240"/>
              <a:gd name="textAreaBottom" fmla="*/ 214560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00688e"/>
              </a:gs>
              <a:gs pos="100000">
                <a:srgbClr val="0094ca"/>
              </a:gs>
            </a:gsLst>
            <a:lin ang="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9" name="任意多边形 12"/>
          <p:cNvSpPr/>
          <p:nvPr/>
        </p:nvSpPr>
        <p:spPr>
          <a:xfrm flipV="1" rot="5400000">
            <a:off x="2804760" y="261000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-360 h 2145240"/>
              <a:gd name="textAreaBottom" fmla="*/ 214524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00688e"/>
              </a:gs>
              <a:gs pos="100000">
                <a:srgbClr val="0094ca"/>
              </a:gs>
            </a:gsLst>
            <a:lin ang="1080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0" name="椭圆 13"/>
          <p:cNvSpPr/>
          <p:nvPr/>
        </p:nvSpPr>
        <p:spPr>
          <a:xfrm>
            <a:off x="2574360" y="1815120"/>
            <a:ext cx="3599640" cy="3599640"/>
          </a:xfrm>
          <a:prstGeom prst="ellipse">
            <a:avLst/>
          </a:prstGeom>
          <a:solidFill>
            <a:srgbClr val="ffffff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1" name="椭圆 14"/>
          <p:cNvSpPr/>
          <p:nvPr/>
        </p:nvSpPr>
        <p:spPr>
          <a:xfrm>
            <a:off x="3046320" y="2324880"/>
            <a:ext cx="2628000" cy="2627640"/>
          </a:xfrm>
          <a:prstGeom prst="ellipse">
            <a:avLst/>
          </a:prstGeom>
          <a:solidFill>
            <a:srgbClr val="ffffff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5000400" cy="1213920"/>
          </a:xfrm>
          <a:prstGeom prst="rect">
            <a:avLst/>
          </a:prstGeom>
          <a:ln w="9525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28840" y="2928960"/>
            <a:ext cx="640044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FROM: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73">
  <a:themeElements>
    <a:clrScheme name="夏至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73">
  <a:themeElements>
    <a:clrScheme name="夏至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73">
  <a:themeElements>
    <a:clrScheme name="夏至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73</Template>
  <TotalTime>63</TotalTime>
  <Application>LibreOffice/7.4.7.2$Linux_X86_64 LibreOffice_project/40$Build-2</Application>
  <AppVersion>15.0000</AppVersion>
  <Words>83</Words>
  <Paragraphs>31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5:23Z</dcterms:created>
  <dc:creator>符号</dc:creator>
  <dc:description/>
  <dc:language>en-US</dc:language>
  <cp:lastModifiedBy>王玉清</cp:lastModifiedBy>
  <dcterms:modified xsi:type="dcterms:W3CDTF">2016-02-24T02:38:45Z</dcterms:modified>
  <cp:revision>1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