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4F5D-D238-4F90-873C-3238CD762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E42-A4C1-4314-B16E-FC8394E5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57A-A918-4ECB-A788-698F15039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453-A018-4C8B-BF7D-96079ECA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ABAAD-14C1-4396-98EC-38CFD561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AC0B-3A75-416A-9FC7-4A9B17C9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53BC-DCD6-4E59-85C5-9B9B80BE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0198-0093-4E5F-91EF-CB0299B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C3F7-DECE-495F-8A77-0E640941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7A10-C240-4CE9-81DA-4A432AE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AA90-4D98-45F5-8B82-3D41F054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65C1-A7FE-48AA-8E7C-6D688E07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9FA1-A243-4EF4-9BE6-DE63D8B8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D4FD8-BB0A-431C-BC97-D0D7AF6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4C6-028A-4A88-9E32-AC1AFEA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8276-6D3A-4554-9B2E-8E7DEDF75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697A-3295-4D4F-A7D3-09CA9FB6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D090-4C2D-47AB-8D30-4B8EE0BE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5604-2490-4FC0-91AE-30880FF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3C37-BE57-46C6-B1D0-DDE2B0E7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4B92-3E78-4691-8A7E-3AF1FF77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A5F-26ED-4475-A727-F97BC4AD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4267-2CC8-4E3F-A44B-274F7EC8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795-10F4-412A-B473-4F17227F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5F6C-CBD7-4D68-B519-813739137FEE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97F7-BEA7-4153-9E32-BB9578DE647C}" type="slidenum">
              <a:rPr b="0" lang="zh-TW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560" y="4365360"/>
            <a:ext cx="3887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66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33600" y="117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可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PMingLiU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292572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3DB3-CDD1-4974-9C54-35112CC814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51:47Z</dcterms:modified>
  <cp:revision>8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