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FE5-739A-40F8-994A-CAFB65DD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148-8060-4D42-9D03-A9C24E4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81A-57F8-4333-A46D-29E0B54A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E08-42DC-46A5-ABE9-7ECC6313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B48-E3F5-443E-BE84-B7F7D96E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D076-1DCC-4548-8C3B-E6935EA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0DB3-C766-4BA3-A45C-AA3BA8A9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3BF-7E13-4D09-8309-B179C9D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481-18BD-4BBD-B8A1-3EF729FC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44B1-4C24-4752-81C2-DE2945CE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07C-CF25-4824-AF42-48DA496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A37-9DAB-4CFF-A624-1F76815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B3FB-B7BD-447B-94A3-C124F34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A31-5E90-4400-8759-B845591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6A4-92C8-4073-B852-BAC9B21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B49-05C7-4B4A-A98F-FB0398AB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ABCC-40AE-474D-A503-115A31FB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863-3B6C-4797-A71D-5BB5D1F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62A-D1A4-40BF-BF0D-867AFBA4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31B-E25E-4DDE-83F4-B655742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7F5-9E8A-4C65-94B8-7C08A2E3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D49-4AF4-41FA-8F9B-84086EA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78B-3B7A-4100-82E7-47E799C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66F-3BBB-45C5-9792-2ED71E30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0B5-FCF8-49AA-A342-1664399D95F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0F31-57D3-42E0-AF7F-C91696A350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5F6-8363-4D27-A46D-6EE57832DD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1.png"/><Relationship Id="rId21" Type="http://schemas.openxmlformats.org/officeDocument/2006/relationships/hyperlink" Target="http://www.eeppt.com/sucai/" TargetMode="External"/><Relationship Id="rId2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-1440"/>
            <a:ext cx="915192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4" descr="10.png"/>
          <p:cNvPicPr/>
          <p:nvPr/>
        </p:nvPicPr>
        <p:blipFill>
          <a:blip r:embed="rId2"/>
          <a:srcRect l="5961" t="3579" r="2981" b="17609"/>
          <a:stretch/>
        </p:blipFill>
        <p:spPr>
          <a:xfrm>
            <a:off x="9877320" y="-109440"/>
            <a:ext cx="2219400" cy="1977840"/>
          </a:xfrm>
          <a:prstGeom prst="rect">
            <a:avLst/>
          </a:prstGeom>
          <a:ln w="0">
            <a:noFill/>
          </a:ln>
        </p:spPr>
      </p:pic>
      <p:sp>
        <p:nvSpPr>
          <p:cNvPr id="84" name="椭圆 8"/>
          <p:cNvSpPr/>
          <p:nvPr/>
        </p:nvSpPr>
        <p:spPr>
          <a:xfrm>
            <a:off x="10737720" y="407880"/>
            <a:ext cx="498600" cy="480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3"/>
          <a:srcRect l="0" t="5137" r="55258" b="36204"/>
          <a:stretch/>
        </p:blipFill>
        <p:spPr>
          <a:xfrm>
            <a:off x="9144000" y="1379520"/>
            <a:ext cx="9144000" cy="1712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5" descr=""/>
          <p:cNvPicPr/>
          <p:nvPr/>
        </p:nvPicPr>
        <p:blipFill>
          <a:blip r:embed="rId4"/>
          <a:srcRect l="0" t="5137" r="55258" b="36204"/>
          <a:stretch/>
        </p:blipFill>
        <p:spPr>
          <a:xfrm>
            <a:off x="9151920" y="1379520"/>
            <a:ext cx="9144000" cy="1712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" descr=""/>
          <p:cNvPicPr/>
          <p:nvPr/>
        </p:nvPicPr>
        <p:blipFill>
          <a:blip r:embed="rId5"/>
          <a:srcRect l="0" t="5137" r="55258" b="36204"/>
          <a:stretch/>
        </p:blipFill>
        <p:spPr>
          <a:xfrm>
            <a:off x="0" y="1379520"/>
            <a:ext cx="9144000" cy="1712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0" descr=""/>
          <p:cNvPicPr/>
          <p:nvPr/>
        </p:nvPicPr>
        <p:blipFill>
          <a:blip r:embed="rId6"/>
          <a:stretch/>
        </p:blipFill>
        <p:spPr>
          <a:xfrm>
            <a:off x="9809280" y="1285920"/>
            <a:ext cx="457200" cy="1901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6" descr=""/>
          <p:cNvPicPr/>
          <p:nvPr/>
        </p:nvPicPr>
        <p:blipFill>
          <a:blip r:embed="rId7"/>
          <a:stretch/>
        </p:blipFill>
        <p:spPr>
          <a:xfrm>
            <a:off x="0" y="3048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5" descr=""/>
          <p:cNvPicPr/>
          <p:nvPr/>
        </p:nvPicPr>
        <p:blipFill>
          <a:blip r:embed="rId8"/>
          <a:stretch/>
        </p:blipFill>
        <p:spPr>
          <a:xfrm>
            <a:off x="9144000" y="30528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30" descr=""/>
          <p:cNvPicPr/>
          <p:nvPr/>
        </p:nvPicPr>
        <p:blipFill>
          <a:blip r:embed="rId9"/>
          <a:stretch/>
        </p:blipFill>
        <p:spPr>
          <a:xfrm>
            <a:off x="9144000" y="30528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92" name="椭圆 3"/>
          <p:cNvSpPr/>
          <p:nvPr/>
        </p:nvSpPr>
        <p:spPr>
          <a:xfrm>
            <a:off x="2657520" y="3824280"/>
            <a:ext cx="1120680" cy="414360"/>
          </a:xfrm>
          <a:prstGeom prst="ellipse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7"/>
          <p:cNvGrpSpPr/>
          <p:nvPr/>
        </p:nvGrpSpPr>
        <p:grpSpPr>
          <a:xfrm>
            <a:off x="2683440" y="2802960"/>
            <a:ext cx="928080" cy="1134000"/>
            <a:chOff x="2683440" y="2802960"/>
            <a:chExt cx="928080" cy="1134000"/>
          </a:xfrm>
        </p:grpSpPr>
        <p:pic>
          <p:nvPicPr>
            <p:cNvPr id="94" name="图片 14" descr=""/>
            <p:cNvPicPr/>
            <p:nvPr/>
          </p:nvPicPr>
          <p:blipFill>
            <a:blip r:embed="rId10"/>
            <a:stretch/>
          </p:blipFill>
          <p:spPr>
            <a:xfrm>
              <a:off x="2925360" y="3268440"/>
              <a:ext cx="68616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56"/>
            <p:cNvSpPr/>
            <p:nvPr/>
          </p:nvSpPr>
          <p:spPr>
            <a:xfrm rot="19509600">
              <a:off x="2828880" y="2838240"/>
              <a:ext cx="3142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图片 7" descr=""/>
          <p:cNvPicPr/>
          <p:nvPr/>
        </p:nvPicPr>
        <p:blipFill>
          <a:blip r:embed="rId11"/>
          <a:stretch/>
        </p:blipFill>
        <p:spPr>
          <a:xfrm rot="448200">
            <a:off x="2957400" y="2852280"/>
            <a:ext cx="519120" cy="66852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8"/>
          <p:cNvGrpSpPr/>
          <p:nvPr/>
        </p:nvGrpSpPr>
        <p:grpSpPr>
          <a:xfrm>
            <a:off x="2860560" y="2933640"/>
            <a:ext cx="831600" cy="1003320"/>
            <a:chOff x="2860560" y="2933640"/>
            <a:chExt cx="831600" cy="1003320"/>
          </a:xfrm>
        </p:grpSpPr>
        <p:pic>
          <p:nvPicPr>
            <p:cNvPr id="98" name="图片 11" descr=""/>
            <p:cNvPicPr/>
            <p:nvPr/>
          </p:nvPicPr>
          <p:blipFill>
            <a:blip r:embed="rId12"/>
            <a:stretch/>
          </p:blipFill>
          <p:spPr>
            <a:xfrm>
              <a:off x="2860560" y="3376080"/>
              <a:ext cx="574560" cy="5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圆角矩形 17"/>
            <p:cNvSpPr/>
            <p:nvPr/>
          </p:nvSpPr>
          <p:spPr>
            <a:xfrm rot="2056200">
              <a:off x="3296880" y="2967120"/>
              <a:ext cx="276120" cy="50796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507960"/>
                <a:gd name="textAreaBottom" fmla="*/ 494640 h 507960"/>
              </a:gdLst>
              <a:ahLst/>
              <a:rect l="textAreaLeft" t="textAreaTop" r="textAreaRight" b="textAreaBottom"/>
              <a:pathLst>
                <a:path w="21600" h="39713">
                  <a:moveTo>
                    <a:pt x="3600" y="0"/>
                  </a:moveTo>
                  <a:arcTo wR="3600" hR="3600" stAng="16200000" swAng="-5400000"/>
                  <a:lnTo>
                    <a:pt x="0" y="36113"/>
                  </a:lnTo>
                  <a:arcTo wR="3600" hR="3600" stAng="10800000" swAng="-5400000"/>
                  <a:lnTo>
                    <a:pt x="18000" y="397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图片 10" descr=""/>
          <p:cNvPicPr/>
          <p:nvPr/>
        </p:nvPicPr>
        <p:blipFill>
          <a:blip r:embed="rId13"/>
          <a:stretch/>
        </p:blipFill>
        <p:spPr>
          <a:xfrm>
            <a:off x="2452680" y="28432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9" descr=""/>
          <p:cNvPicPr/>
          <p:nvPr/>
        </p:nvPicPr>
        <p:blipFill>
          <a:blip r:embed="rId14"/>
          <a:stretch/>
        </p:blipFill>
        <p:spPr>
          <a:xfrm>
            <a:off x="2846520" y="2970360"/>
            <a:ext cx="503280" cy="480960"/>
          </a:xfrm>
          <a:prstGeom prst="rect">
            <a:avLst/>
          </a:prstGeom>
          <a:ln w="0">
            <a:noFill/>
          </a:ln>
        </p:spPr>
      </p:pic>
      <p:pic>
        <p:nvPicPr>
          <p:cNvPr id="102" name="Shape" descr=""/>
          <p:cNvPicPr/>
          <p:nvPr/>
        </p:nvPicPr>
        <p:blipFill>
          <a:blip r:embed="rId15"/>
          <a:stretch/>
        </p:blipFill>
        <p:spPr>
          <a:xfrm>
            <a:off x="3762360" y="-369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9" descr=""/>
          <p:cNvPicPr/>
          <p:nvPr/>
        </p:nvPicPr>
        <p:blipFill>
          <a:blip r:embed="rId16"/>
          <a:stretch/>
        </p:blipFill>
        <p:spPr>
          <a:xfrm>
            <a:off x="9904320" y="1373040"/>
            <a:ext cx="268560" cy="255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" descr=""/>
          <p:cNvPicPr/>
          <p:nvPr/>
        </p:nvPicPr>
        <p:blipFill>
          <a:blip r:embed="rId17"/>
          <a:stretch/>
        </p:blipFill>
        <p:spPr>
          <a:xfrm>
            <a:off x="2798640" y="2193840"/>
            <a:ext cx="730440" cy="7765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5" descr=""/>
          <p:cNvPicPr/>
          <p:nvPr/>
        </p:nvPicPr>
        <p:blipFill>
          <a:blip r:embed="rId18"/>
          <a:stretch/>
        </p:blipFill>
        <p:spPr>
          <a:xfrm>
            <a:off x="2440080" y="2193840"/>
            <a:ext cx="1352520" cy="20415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6" descr=""/>
          <p:cNvPicPr/>
          <p:nvPr/>
        </p:nvPicPr>
        <p:blipFill>
          <a:blip r:embed="rId19"/>
          <a:stretch/>
        </p:blipFill>
        <p:spPr>
          <a:xfrm>
            <a:off x="6384960" y="6308640"/>
            <a:ext cx="2651040" cy="2167200"/>
          </a:xfrm>
          <a:prstGeom prst="rect">
            <a:avLst/>
          </a:prstGeom>
          <a:ln w="0">
            <a:noFill/>
          </a:ln>
        </p:spPr>
      </p:pic>
      <p:sp>
        <p:nvSpPr>
          <p:cNvPr id="107" name="云形 29"/>
          <p:cNvSpPr/>
          <p:nvPr/>
        </p:nvSpPr>
        <p:spPr>
          <a:xfrm>
            <a:off x="9277200" y="230040"/>
            <a:ext cx="516240" cy="316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云形 30"/>
          <p:cNvSpPr/>
          <p:nvPr/>
        </p:nvSpPr>
        <p:spPr>
          <a:xfrm>
            <a:off x="9823320" y="142920"/>
            <a:ext cx="887400" cy="4903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云形 31"/>
          <p:cNvSpPr/>
          <p:nvPr/>
        </p:nvSpPr>
        <p:spPr>
          <a:xfrm>
            <a:off x="13860360" y="290520"/>
            <a:ext cx="515880" cy="3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云形 32"/>
          <p:cNvSpPr/>
          <p:nvPr/>
        </p:nvSpPr>
        <p:spPr>
          <a:xfrm>
            <a:off x="14643000" y="133200"/>
            <a:ext cx="887400" cy="4921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hape" descr=""/>
          <p:cNvPicPr/>
          <p:nvPr/>
        </p:nvPicPr>
        <p:blipFill>
          <a:blip r:embed="rId20"/>
          <a:stretch/>
        </p:blipFill>
        <p:spPr>
          <a:xfrm>
            <a:off x="4803840" y="-11732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2" name="云形 33"/>
          <p:cNvSpPr/>
          <p:nvPr/>
        </p:nvSpPr>
        <p:spPr>
          <a:xfrm>
            <a:off x="14030280" y="647640"/>
            <a:ext cx="1225440" cy="576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云形 5"/>
          <p:cNvSpPr/>
          <p:nvPr/>
        </p:nvSpPr>
        <p:spPr>
          <a:xfrm>
            <a:off x="9228240" y="600120"/>
            <a:ext cx="1224000" cy="576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9264600" y="386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47322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3320" y="3398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9.87654E-007 L -0.3592 -1.21852 E">
                                      <p:cBhvr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35921 -1.21664 L -0.31094 -1.17812 L -0.37761 -1.17812 L -0.31424 -1.16332 L -0.37761 -1.15747 L -0.32084 -1.13682 L -0.38594 -1.13374 L -0.30764 -1.11001 L -0.40921 -1.11309 L -0.31094 -1.08936 L -0.41094 -1.08351 L -0.31094 -1.06872 L -0.42431 -1.06564 L -0.29098 -1.04807 L -0.40261 -1.04499 L -0.29098 -1.03328 L -0.42431 -1.01849 L -0.29757 -0.99784 L -0.4125 -0.97411 L -0.29584 -0.96826 L -0.41424 -0.9473 L -0.30417 -0.92973 L -0.42084 -0.91772 L -0.2875 -0.89707 L -0.41094 -0.86748 L -0.32917 -0.85855 L -0.33091 -0.03636 E">
                                      <p:cBhvr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7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0">
                                  <p:stCondLst>
                                    <p:cond delay="6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autoRev="1" nodeType="withEffect" fill="hold" presetClass="emph" presetID="6" repeatCount="indefinite">
                                  <p:stCondLst>
                                    <p:cond delay="680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32" repeatCount="indefinite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2" repeatCount="indefinite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32" repeatCount="indefinite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autoRev="1" nodeType="withEffect" fill="hold" presetClass="emph" presetID="8" repeatCount="indefinite">
                                  <p:stCondLst>
                                    <p:cond delay="6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3599820">
                                      <p:cBhvr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2" repeatCount="indefinite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dur="indefinite" autoRev="1" nodeType="withEffect" fill="hold" presetClass="emph" presetID="8" repeatCount="indefinite">
                                  <p:stCondLst>
                                    <p:cond delay="6800"/>
                                  </p:stCondLst>
                                  <p:childTnLst>
                                    <p:animRot by="3600000">
                                      <p:cBhvr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-3.31688E-006 L -1.98438 -0.0111 E">
                                      <p:cBhvr>
                                        <p:cTn id="65" dur="20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 repeatCount="indefinite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9.87654E-007 L -1.9842 -0.00556 E">
                                      <p:cBhvr>
                                        <p:cTn id="67" dur="20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-3.31688E-006 L -1.98438 -0.0111 E">
                                      <p:cBhvr>
                                        <p:cTn id="72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42" repeatCount="indefinite">
                                  <p:stCondLst>
                                    <p:cond delay="18700"/>
                                  </p:stCondLst>
                                  <p:childTnLst>
                                    <p:animMotion origin="layout" path="M 0 -4.59735E-006 L -1.9849 -0.00709 E">
                                      <p:cBhvr>
                                        <p:cTn id="74" dur="20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42" repeatCount="indefinite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-3.05556E-006 -3.57297E-006 L -1.2908 -0.01635 E">
                                      <p:cBhvr>
                                        <p:cTn id="76" dur="1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42" repeatCount="indefinite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-3.05556E-006 2.11663E-006 L -1.28854 -0.00957 E">
                                      <p:cBhvr>
                                        <p:cTn id="78" dur="1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42" repeatCount="indefinite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9.87654E-007 L -1.9842 -0.00556 E">
                                      <p:cBhvr>
                                        <p:cTn id="80" dur="20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42" repeatCount="indefinite">
                                  <p:stCondLst>
                                    <p:cond delay="18700"/>
                                  </p:stCondLst>
                                  <p:childTnLst>
                                    <p:animMotion origin="layout" path="M 0 -4.59735E-006 L -1.9849 -0.00709 E">
                                      <p:cBhvr>
                                        <p:cTn id="82" dur="20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206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42" repeatCount="indefinite">
                                  <p:stCondLst>
                                    <p:cond delay="22800"/>
                                  </p:stCondLst>
                                  <p:childTnLst>
                                    <p:animMotion origin="layout" path="M -5.55556E-007 -1.51711E-006 L -1.34184 -0.0037 E">
                                      <p:cBhvr>
                                        <p:cTn id="87" dur="20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42" repeatCount="indefinite">
                                  <p:stCondLst>
                                    <p:cond delay="25800"/>
                                  </p:stCondLst>
                                  <p:childTnLst>
                                    <p:animMotion origin="layout" path="M -2.5E-006 5.21122E-007 L -1.24722 0.00709 E">
                                      <p:cBhvr>
                                        <p:cTn id="89" dur="1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 repeatCount="indefinite">
                                  <p:stCondLst>
                                    <p:cond delay="28000"/>
                                  </p:stCondLst>
                                  <p:childTnLst>
                                    <p:animMotion origin="layout" path="M 2.77778E-007 -3.23466E-006 L -1.22882 0.00648 E">
                                      <p:cBhvr>
                                        <p:cTn id="91" dur="10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42" repeatCount="indefinite">
                                  <p:stCondLst>
                                    <p:cond delay="25900"/>
                                  </p:stCondLst>
                                  <p:childTnLst>
                                    <p:animMotion origin="layout" path="M -2.5E-006 3.47826E-006 L -1.60868 -0.0071 E">
                                      <p:cBhvr>
                                        <p:cTn id="93" dur="20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42" repeatCount="indefinite">
                                  <p:stCondLst>
                                    <p:cond delay="28100"/>
                                  </p:stCondLst>
                                  <p:childTnLst>
                                    <p:animMotion origin="layout" path="M 3.61111E-006 -2.67201E-006 L -1.81927 0.03425 E">
                                      <p:cBhvr>
                                        <p:cTn id="95" dur="1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42" repeatCount="indefinite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4.72222E-006 -2.57945E-006 L -1.77848 0.00988 E">
                                      <p:cBhvr>
                                        <p:cTn id="97" dur="10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mph" presetID="32" repeatCount="indefinite">
                                  <p:stCondLst>
                                    <p:cond delay="28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0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path" presetID="42">
                                  <p:stCondLst>
                                    <p:cond delay="28100"/>
                                  </p:stCondLst>
                                  <p:childTnLst>
                                    <p:animMotion origin="layout" path="M -2.5E-006 1.07616E-006 L -1.30798 0.00031 E">
                                      <p:cBhvr>
                                        <p:cTn id="105" dur="50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42">
                                  <p:stCondLst>
                                    <p:cond delay="28100"/>
                                  </p:stCondLst>
                                  <p:childTnLst>
                                    <p:animMotion origin="layout" path="M -2.5E-006 5.64292E-007 L -1.30798 0.01018 E">
                                      <p:cBhvr>
                                        <p:cTn id="107" dur="5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path" presetID="42">
                                  <p:stCondLst>
                                    <p:cond delay="36000"/>
                                  </p:stCondLst>
                                  <p:childTnLst>
                                    <p:animMotion origin="layout" path="M -8.33333E-007 -3.92471E-006 L -0.62569 -0.0003 E">
                                      <p:cBhvr>
                                        <p:cTn id="109" dur="20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2DC-1F3B-4559-8A25-620E8EAC2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2:06:00Z</dcterms:created>
  <dc:creator>区委办公室</dc:creator>
  <dc:description/>
  <dc:language>en-US</dc:language>
  <cp:lastModifiedBy>微软用户</cp:lastModifiedBy>
  <dcterms:modified xsi:type="dcterms:W3CDTF">2015-07-20T12:09:14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