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7F00-D84F-49A7-9D95-3D97A97B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8F6-FCBD-473A-BB1D-49367A56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F6B-9CB0-4D52-A3AE-BE0E4D7F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55D-E5C2-4E7D-9728-F8EEE8C6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93E-112A-4531-8CE1-ED9B9C5C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C99-B157-4C40-912E-C4F38446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A4F-2386-464C-8802-91B0E0B6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DD1-234D-42EE-AD2F-8EFC275D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4D4-84F3-40DB-97EC-B847BE95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158-CEB6-4E36-82B0-20EB1F64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DD09-A9E9-484B-B6F7-2317A02D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22C-9896-431D-BF5A-21D8BD10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4390-A641-4FE4-AE4E-22D1220A3D6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7E6C-333E-40C6-BE2D-9A094774F2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Administrator\Desktop\素材\www.51pptmoban.com团队合作3D小人商务图片素材 (1)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252360" y="6669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1080" y="-171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小人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图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Administrator\Desktop\素材\www.51pptmoban.com团队合作3D小人商务图片素材 (3).jpg"/>
          <p:cNvPicPr/>
          <p:nvPr/>
        </p:nvPicPr>
        <p:blipFill>
          <a:blip r:embed="rId1"/>
          <a:stretch/>
        </p:blipFill>
        <p:spPr>
          <a:xfrm>
            <a:off x="-395280" y="-458640"/>
            <a:ext cx="10296360" cy="77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Administrator\Desktop\素材\www.51pptmoban.com团队合作3D小人商务图片素材 (4).jpg"/>
          <p:cNvPicPr/>
          <p:nvPr/>
        </p:nvPicPr>
        <p:blipFill>
          <a:blip r:embed="rId1"/>
          <a:stretch/>
        </p:blipFill>
        <p:spPr>
          <a:xfrm>
            <a:off x="-755640" y="-1177920"/>
            <a:ext cx="10656720" cy="8785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156852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Administrator\Desktop\素材\www.51pptmoban.com团队合作3D小人商务图片素材 (6).jpg"/>
          <p:cNvPicPr/>
          <p:nvPr/>
        </p:nvPicPr>
        <p:blipFill>
          <a:blip r:embed="rId1"/>
          <a:stretch/>
        </p:blipFill>
        <p:spPr>
          <a:xfrm>
            <a:off x="-1692360" y="-482760"/>
            <a:ext cx="12841200" cy="801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C57-EA11-4210-A3BA-319FCE7A36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04:5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56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