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F12-3F1D-48DC-952A-55E198CB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46F-062E-49AB-8346-A641EF67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352C9-682B-4D82-9CC1-A7CED63A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96646-E5BB-4E39-A7F4-AE9F0E05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101CE-D14F-4D24-BE94-9FCAD6E8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72196-19BF-4A5F-9895-B64E4ED3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EDDC5-313C-4AA5-934A-CC554D40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CC1BD-89E2-4F78-8EB2-C30FD11B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B9355-C7C5-4407-A4E6-30DA3D86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DEDD2-655D-4436-9712-E887FD14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D1F41-37E9-4B4E-949C-0764C15F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65BEE-817E-4317-8ADD-F9B5EC30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814-FF59-4B13-9CD6-CB7A8C9D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3182D-AAFE-4A06-920D-CC9D3B78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3DDAB-7995-4EC1-9B79-2D0068F5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862FD-133F-485E-99B0-0DF4DEB9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A680F-AEF8-43EF-A511-805222A4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49111-D466-4745-9C67-FB7798EF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89C4E-5721-44FC-8BD5-79D142B0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ABD48-86AA-454F-BC79-143DF66D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D4042-CFE5-4660-A9CF-D4ED3110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61A61-9597-425E-8149-CF48EC91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2BD9D-541E-40AD-AF93-F8365539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815-E098-4FEA-A2B5-035E06D7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CA3A7-B611-486C-A142-27C87290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6CF3F-4BF7-4CF7-A3C6-E6BF3CE9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00358-7C36-4FD1-A311-3554E507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A90BA-EEFB-4061-A760-65F85F0F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9C2AC-8B69-494E-AFA1-CE49C6D9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27E27-FA90-462B-81D8-888C3818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DDC29-508F-4CA0-9AE9-3BE4C689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CBAE3-FFFB-4717-A054-7981F443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E015D-D2E4-49C6-9CBE-C7CF057D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FEB26-2267-4191-B587-2E951169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A669-EFF4-4A9F-81D3-59A07AAF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6683F-FC56-4FBE-A28B-4214523C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3AF0D-1C4E-44B1-AACF-775AE8AA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69E5F-104B-4660-A52A-F2606F0C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D5C65-AF3E-41E9-8A71-F7B80AF1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4AF58-E803-4036-A455-1B809D11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69F0F-5407-4288-8D71-EF9913A4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4381C-FA53-4381-83F1-9E2DC6A0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104F0-68D2-4629-B388-137DB652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CA5B4-6CBB-4256-802C-22814220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80FC4-65E1-4EF8-AD64-DFDEAF3F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2CE5-6DC0-413D-9773-D603DBD4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DC41C-5511-48AC-A8B2-0F9CB8E6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625E9-A815-41E5-88A1-CF3080A5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CBBEA-DC43-4B61-A8A6-85FD1232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16EB1-0DA6-4817-AB09-C6E46FBF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2C0CB-C922-44F2-B91E-BA121B61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BF996-3A67-42CC-AB5E-455DFDD1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A1BAF-A5EC-446A-AC14-091F768A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3C614-BB88-4432-AE09-2E4CF348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2ED42-944B-4F5E-8249-A3EC869A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98E42-8780-473C-9C5B-059FABD6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AAC0-357E-4F21-9967-8B49866C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7CE83-ED19-41A7-A850-F746598E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1A385-8364-4576-81AF-9EA53479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F445C-12D7-45A3-8180-0F2D074D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F6968-B95F-461B-88E5-2C205579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23542-C71F-4C5C-A33F-00ED5DA2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6B871-BD9E-4071-B3BC-F999E9F6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07A1F-6B08-46DB-8C78-CD12BDD9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1D2B-7A29-438C-B4A7-2220F691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0A5A-FD1F-4A36-A020-8A7C9702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AEF5-3A04-4B71-B0C0-2B36FB5B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99BF-BD8B-4D81-A676-CEB59BF2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5E9-3A7A-4D3B-8A16-3D4D9764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9FB2-859D-488F-964F-2119657E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A071-805E-46D1-BCF4-A06DA682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1BF6-E13A-438A-8BD4-0016D955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B5B6-89FF-4163-A027-7C02FD13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0A97-ADB8-469B-8127-BCE53379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DD90D-23F4-4224-9EDE-278EDC19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31FBC-D217-425F-8911-282D4B51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D4035-C712-4723-9662-910F5C6D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2168-657C-48D6-88C2-32983EA8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9DE3E-1CE7-41FA-97D7-4AF9BE39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6C1-38DA-43D8-BDA9-D337D4F3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3C8C-F284-4C7B-9CC8-914BFFAC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C606-1375-4D10-8329-7C0737AA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052EB-F3F5-42C4-B1D5-93500134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4303C-F69C-484D-8DFD-792D2D20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189E4-E98D-4C6D-9F54-1D37028A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59ACE-A307-4C3A-89B6-9E17CB1C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70EFC-A9DF-489A-B605-49B85219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9B371-802A-4D89-A6AB-3750F5D2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BE080-0930-4BBB-8076-C91CCFF5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6A227-805D-4C21-9DD9-D571FCF8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839-16D5-4751-95B7-17536544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D26CC-3EAB-467C-A919-743FC22A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34CC0-A936-4F0C-95C4-B333192A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228FC-50D1-424E-A123-087F42A5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EE5F3-C98C-4222-BA88-5F31DBC5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DF057-1D54-459E-98C1-A4D37738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165FC-F058-4A81-B303-48686D72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D025-990F-4B99-AD14-8E0BB228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D97A-D99B-4385-9F5F-7C2D3341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EBB90-DFC4-4F05-BC61-AA998EB4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8D646-F04A-4461-9C54-49DEA82D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68B-59AA-46E9-B02B-AE89EF35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57C90-1B6C-4D1B-8F91-07E8CC6E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14E8E-0AE3-4E0D-9901-100658D5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6EFAB-60C0-4267-82B1-BAE8DFD3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8CFC3-FAAF-474C-B716-34AB056D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44CAB-D527-49B5-8DC5-85AE222F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F4808-935B-4F95-B132-49AF709B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E0492-2CAA-4B5C-9ED0-C15E57E3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A4DFF-5491-442E-AFE7-4765E120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11032-EAAD-4EFE-8924-42AB6E00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F2BEB-BF1B-4097-A9D6-A7C7931C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98E-1D87-46A2-A8BC-E12B9164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D82F8-A77D-4F97-88C7-39A04635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C7519-6287-41B9-9368-351CD74F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5CB90-D9E3-4F54-BE13-F0ADD445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1F824-DF0E-4A26-9585-850EA794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CB88B-D651-46A7-8DF8-21EBE986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99225-94AE-4AF0-A7BC-E53ED378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26C7B-0C4D-426E-9018-CD25B3F5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D2451-23B2-4AAB-B0E8-418C7C14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9F782-FA2F-4E18-81A5-12547AA2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4FCB1-BAD6-424C-BC6A-1D5320D7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765-D20D-43B1-833D-8EE61C51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F0316-CD7F-42FC-AF32-E4AC63AF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4FFB6-EB11-4B03-B2CA-042E5C6C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461C4-6A72-4EC6-B51D-8BDA2E2F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FA40A-8D80-4498-9ECE-63EF6576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10AEE-0FF2-4F53-901E-EF67F894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72383-FD6C-49AE-90AE-8782CE1F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726ED-C6F3-46F5-8194-F098BFC2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6D4E7-8E0E-4EAF-9E3A-ED0CFC82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79A56-8E1F-4CB5-9A73-50C06D73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B92C4-C889-4108-8322-090436B6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944-EFEE-4669-8DCC-EE9D3887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D489F-5841-4BA9-8E11-B46B3ED2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F1440-366B-42EC-ABF8-784BEC93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5E13F-EA00-46E5-9599-68C06597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C22B0-6945-4EE6-91B3-138C8AD6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8693D-A25D-4D54-8C78-7095FF36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6E8F5-4045-4C9B-82BF-1934A696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CF6D8-373B-44D8-AAB4-CA9BC04F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CFB3C-6F28-4D60-9D00-7B0C16AB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82F37-54B8-46F3-A05F-F35F976E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B70AD-CEC8-4297-8628-1B51687E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CF6-D8FF-4665-8215-828ADA34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37C80-CF2A-43D1-9DBE-109C977B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2E8FD-FEC8-4FBC-A126-833598BD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57938-F2C9-45D6-B4C3-B313E55E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77712-ADA0-4399-BF05-3BE11A60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82D3E-D47A-48BD-8A9D-6119EE44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DC40E-4607-46FF-BEE6-FC12FE26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5AD95-0F65-4811-AEE0-45BFF161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CEB7D-58CA-4545-B3DD-DAFB19FA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E7863-C466-4640-9966-7EAE9098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0FDE4-6A3F-42B0-80DE-1CF76624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59640" y="26028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0920" y="6337440"/>
            <a:ext cx="504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08360" y="6341760"/>
            <a:ext cx="1584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DB6B-C509-4F87-89FD-CE90354E0551}" type="slidenum"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C24C-CFB5-4D96-B426-F60E0B31808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96A0-471D-4106-9996-16DDE069C8C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A56C-E75B-4989-8755-6DDE09E109C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1742-16B5-4489-A1AA-A20174FE574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B837-C4B7-4632-BE38-80EE8F5F4B6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68000" y="188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700000" y="188640"/>
            <a:ext cx="45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08720" y="188640"/>
            <a:ext cx="1486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BCB0-F94D-4DEC-AA82-1D565A242023}" type="slidenum"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2F89-29AE-4C13-8CF9-9C27A2FC436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5A26-9EA7-4004-A965-469F27CBD77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941D-415E-4D08-82A1-597DEC9133A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8AC3-3F08-4172-B1DC-C93B5E44799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BF32-6072-45E0-9D57-FD0349942A9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066C-EA3C-4FC1-895C-4F46756340E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339920" y="692280"/>
            <a:ext cx="72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汉真广标"/>
                <a:ea typeface="汉真广标"/>
              </a:rPr>
              <a:t>卡通小熊爱心动态</a:t>
            </a:r>
            <a:r>
              <a:rPr b="0" lang="en-US" sz="4000" spc="-1" strike="noStrike">
                <a:solidFill>
                  <a:srgbClr val="800000"/>
                </a:solidFill>
                <a:latin typeface="汉真广标"/>
                <a:ea typeface="汉真广标"/>
              </a:rPr>
              <a:t>PPT</a:t>
            </a:r>
            <a:r>
              <a:rPr b="0" lang="zh-CN" sz="4000" spc="-1" strike="noStrike">
                <a:solidFill>
                  <a:srgbClr val="800000"/>
                </a:solidFill>
                <a:latin typeface="汉真广标"/>
                <a:ea typeface="汉真广标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8"/>
          <p:cNvSpPr/>
          <p:nvPr/>
        </p:nvSpPr>
        <p:spPr>
          <a:xfrm>
            <a:off x="755640" y="6607080"/>
            <a:ext cx="6127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S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AE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Flash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S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4:18:59Z</dcterms:created>
  <dc:creator>Alexey</dc:creator>
  <dc:description/>
  <dc:language>en-US</dc:language>
  <cp:lastModifiedBy>王玉清</cp:lastModifiedBy>
  <dcterms:modified xsi:type="dcterms:W3CDTF">2016-02-16T08:48:59Z</dcterms:modified>
  <cp:revision>21</cp:revision>
  <dc:subject/>
  <dc:title>Слайд 1</dc:title>
</cp:coreProperties>
</file>