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E946-95A2-4281-A9EB-FCAA3296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169-F70C-45D6-9C1A-621DC3AE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9A3-9B49-4405-A008-114A68235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225-0AB3-4DD0-8B93-B23A835D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E43-1328-4014-A6DA-78C871DF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5D27-9191-4FB3-9025-B8A0295F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BFB-5F32-41B5-9644-22C5EBBB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278-A162-4319-A676-1DD258EC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A82D-22D7-44A3-963C-F16B7923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D68C-BBAE-4A77-B7E7-77F87701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8AE-BFDA-4B00-A255-FC6483BB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403-A0BE-4394-A819-80CF036D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e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87D1-7864-48DC-9048-2354A479353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16AA-1CCE-4563-8BE1-0C081DE8DB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酷炫创意简历动态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日期占位符 3"/>
          <p:cNvSpPr/>
          <p:nvPr/>
        </p:nvSpPr>
        <p:spPr>
          <a:xfrm>
            <a:off x="45720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3B6C-8E28-43C6-94AB-5B782476FF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314280" y="4767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直接连接符 4"/>
          <p:cNvSpPr/>
          <p:nvPr/>
        </p:nvSpPr>
        <p:spPr>
          <a:xfrm flipH="1">
            <a:off x="0" y="0"/>
            <a:ext cx="3780000" cy="386712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直接连接符 6"/>
          <p:cNvSpPr/>
          <p:nvPr/>
        </p:nvSpPr>
        <p:spPr>
          <a:xfrm>
            <a:off x="0" y="1347840"/>
            <a:ext cx="3780000" cy="379584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 rot="2718000">
            <a:off x="1329840" y="2713320"/>
            <a:ext cx="3462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7f7f7f"/>
                </a:solidFill>
                <a:latin typeface="方正兰亭粗黑_GBK"/>
              </a:rPr>
              <a:t>201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0"/>
          <p:cNvSpPr/>
          <p:nvPr/>
        </p:nvSpPr>
        <p:spPr>
          <a:xfrm rot="18872400">
            <a:off x="576360" y="73620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ONT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 rot="18889800">
            <a:off x="2125080" y="8154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36c09"/>
                </a:solidFill>
                <a:latin typeface="微软雅黑"/>
                <a:ea typeface="微软雅黑"/>
              </a:rPr>
              <a:t>简历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5"/>
          <p:cNvGrpSpPr/>
          <p:nvPr/>
        </p:nvGrpSpPr>
        <p:grpSpPr>
          <a:xfrm>
            <a:off x="3622680" y="1623960"/>
            <a:ext cx="1611360" cy="1587600"/>
            <a:chOff x="3622680" y="1623960"/>
            <a:chExt cx="1611360" cy="1587600"/>
          </a:xfrm>
        </p:grpSpPr>
        <p:sp>
          <p:nvSpPr>
            <p:cNvPr id="51" name="五边形 13"/>
            <p:cNvSpPr/>
            <p:nvPr/>
          </p:nvSpPr>
          <p:spPr>
            <a:xfrm rot="18864600">
              <a:off x="3640320" y="1713960"/>
              <a:ext cx="333360" cy="1900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五边形 21"/>
            <p:cNvSpPr/>
            <p:nvPr/>
          </p:nvSpPr>
          <p:spPr>
            <a:xfrm rot="18864600">
              <a:off x="3950640" y="2018160"/>
              <a:ext cx="333360" cy="1900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五边形 22"/>
            <p:cNvSpPr/>
            <p:nvPr/>
          </p:nvSpPr>
          <p:spPr>
            <a:xfrm rot="18864600">
              <a:off x="4261320" y="2322360"/>
              <a:ext cx="333360" cy="1900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五边形 23"/>
            <p:cNvSpPr/>
            <p:nvPr/>
          </p:nvSpPr>
          <p:spPr>
            <a:xfrm rot="18864600">
              <a:off x="4882680" y="2930760"/>
              <a:ext cx="333360" cy="1900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五边形 24"/>
            <p:cNvSpPr/>
            <p:nvPr/>
          </p:nvSpPr>
          <p:spPr>
            <a:xfrm rot="18864600">
              <a:off x="4572000" y="2626560"/>
              <a:ext cx="333360" cy="19008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26"/>
          <p:cNvSpPr/>
          <p:nvPr/>
        </p:nvSpPr>
        <p:spPr>
          <a:xfrm flipH="1" rot="18931200">
            <a:off x="3724920" y="779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bout 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7"/>
          <p:cNvSpPr/>
          <p:nvPr/>
        </p:nvSpPr>
        <p:spPr>
          <a:xfrm rot="18930600">
            <a:off x="4090680" y="12301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8"/>
          <p:cNvSpPr/>
          <p:nvPr/>
        </p:nvSpPr>
        <p:spPr>
          <a:xfrm rot="18930600">
            <a:off x="4350600" y="142704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9"/>
          <p:cNvSpPr/>
          <p:nvPr/>
        </p:nvSpPr>
        <p:spPr>
          <a:xfrm rot="18930600">
            <a:off x="4708080" y="18604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0"/>
          <p:cNvSpPr/>
          <p:nvPr/>
        </p:nvSpPr>
        <p:spPr>
          <a:xfrm rot="18930600">
            <a:off x="5019120" y="21744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直接连接符 2"/>
          <p:cNvSpPr/>
          <p:nvPr/>
        </p:nvSpPr>
        <p:spPr>
          <a:xfrm>
            <a:off x="4861080" y="0"/>
            <a:ext cx="0" cy="514368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"/>
          <p:cNvSpPr/>
          <p:nvPr/>
        </p:nvSpPr>
        <p:spPr>
          <a:xfrm flipV="1">
            <a:off x="0" y="-19440"/>
            <a:ext cx="3203640" cy="309564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6"/>
          <p:cNvSpPr/>
          <p:nvPr/>
        </p:nvSpPr>
        <p:spPr>
          <a:xfrm>
            <a:off x="3203640" y="0"/>
            <a:ext cx="0" cy="228276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8"/>
          <p:cNvSpPr/>
          <p:nvPr/>
        </p:nvSpPr>
        <p:spPr>
          <a:xfrm>
            <a:off x="3203640" y="2282760"/>
            <a:ext cx="1655640" cy="1800"/>
          </a:xfrm>
          <a:prstGeom prst="line">
            <a:avLst/>
          </a:prstGeom>
          <a:ln w="190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角三角形 9"/>
          <p:cNvSpPr/>
          <p:nvPr/>
        </p:nvSpPr>
        <p:spPr>
          <a:xfrm>
            <a:off x="0" y="3076560"/>
            <a:ext cx="4861080" cy="2067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5"/>
          <p:cNvGrpSpPr/>
          <p:nvPr/>
        </p:nvGrpSpPr>
        <p:grpSpPr>
          <a:xfrm>
            <a:off x="2592360" y="1755720"/>
            <a:ext cx="1224000" cy="1224000"/>
            <a:chOff x="2592360" y="1755720"/>
            <a:chExt cx="1224000" cy="1224000"/>
          </a:xfrm>
        </p:grpSpPr>
        <p:sp>
          <p:nvSpPr>
            <p:cNvPr id="67" name="矩形 10"/>
            <p:cNvSpPr/>
            <p:nvPr/>
          </p:nvSpPr>
          <p:spPr>
            <a:xfrm>
              <a:off x="2592360" y="1755720"/>
              <a:ext cx="1224000" cy="1224000"/>
            </a:xfrm>
            <a:prstGeom prst="rect">
              <a:avLst/>
            </a:prstGeom>
            <a:solidFill>
              <a:srgbClr val="333e50"/>
            </a:solidFill>
            <a:ln w="57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11" descr=""/>
            <p:cNvPicPr/>
            <p:nvPr/>
          </p:nvPicPr>
          <p:blipFill>
            <a:blip r:embed="rId1"/>
            <a:stretch/>
          </p:blipFill>
          <p:spPr>
            <a:xfrm>
              <a:off x="2652840" y="1816200"/>
              <a:ext cx="1102680" cy="110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14"/>
          <p:cNvSpPr/>
          <p:nvPr/>
        </p:nvSpPr>
        <p:spPr>
          <a:xfrm rot="18940800">
            <a:off x="384840" y="83016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bout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8"/>
          <p:cNvSpPr/>
          <p:nvPr/>
        </p:nvSpPr>
        <p:spPr>
          <a:xfrm rot="18956400">
            <a:off x="1413720" y="8002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个人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9"/>
          <p:cNvSpPr/>
          <p:nvPr/>
        </p:nvSpPr>
        <p:spPr>
          <a:xfrm>
            <a:off x="250920" y="4105440"/>
            <a:ext cx="10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微软雅黑"/>
                <a:ea typeface="微软雅黑"/>
              </a:rPr>
              <a:t>Motto</a:t>
            </a:r>
            <a:r>
              <a:rPr b="0" lang="zh-CN" sz="1600" spc="-1" strike="noStrike">
                <a:solidFill>
                  <a:srgbClr val="006666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50920" y="4465800"/>
            <a:ext cx="29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微软雅黑"/>
                <a:ea typeface="微软雅黑"/>
              </a:rPr>
              <a:t>Tomorrow will be be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5429160" y="11365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Nam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5429160" y="1619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ex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3"/>
          <p:cNvSpPr/>
          <p:nvPr/>
        </p:nvSpPr>
        <p:spPr>
          <a:xfrm>
            <a:off x="5429160" y="30718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Email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4"/>
          <p:cNvSpPr/>
          <p:nvPr/>
        </p:nvSpPr>
        <p:spPr>
          <a:xfrm>
            <a:off x="5429160" y="2587680"/>
            <a:ext cx="25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lephone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5"/>
          <p:cNvSpPr/>
          <p:nvPr/>
        </p:nvSpPr>
        <p:spPr>
          <a:xfrm>
            <a:off x="5429160" y="21034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hool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直接连接符 2"/>
          <p:cNvSpPr/>
          <p:nvPr/>
        </p:nvSpPr>
        <p:spPr>
          <a:xfrm flipV="1">
            <a:off x="0" y="0"/>
            <a:ext cx="4067280" cy="2427120"/>
          </a:xfrm>
          <a:prstGeom prst="line">
            <a:avLst/>
          </a:prstGeom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4"/>
          <p:cNvSpPr/>
          <p:nvPr/>
        </p:nvSpPr>
        <p:spPr>
          <a:xfrm>
            <a:off x="4067280" y="0"/>
            <a:ext cx="1440" cy="5143680"/>
          </a:xfrm>
          <a:prstGeom prst="line">
            <a:avLst/>
          </a:prstGeom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5"/>
          <p:cNvSpPr/>
          <p:nvPr/>
        </p:nvSpPr>
        <p:spPr>
          <a:xfrm>
            <a:off x="3887640" y="993600"/>
            <a:ext cx="360360" cy="360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椭圆 9"/>
          <p:cNvSpPr/>
          <p:nvPr/>
        </p:nvSpPr>
        <p:spPr>
          <a:xfrm>
            <a:off x="3887640" y="2071800"/>
            <a:ext cx="360360" cy="3603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椭圆 10"/>
          <p:cNvSpPr/>
          <p:nvPr/>
        </p:nvSpPr>
        <p:spPr>
          <a:xfrm>
            <a:off x="3887640" y="3149640"/>
            <a:ext cx="360360" cy="3603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11"/>
          <p:cNvSpPr/>
          <p:nvPr/>
        </p:nvSpPr>
        <p:spPr>
          <a:xfrm>
            <a:off x="3887640" y="4226040"/>
            <a:ext cx="360360" cy="3618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 rot="19744800">
            <a:off x="815400" y="70344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 rot="19770000">
            <a:off x="1809000" y="89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教育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4427640" y="752400"/>
            <a:ext cx="2881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school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008-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6"/>
          <p:cNvSpPr/>
          <p:nvPr/>
        </p:nvSpPr>
        <p:spPr>
          <a:xfrm>
            <a:off x="1332000" y="1779480"/>
            <a:ext cx="28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University (2011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1332000" y="3940200"/>
            <a:ext cx="2879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XXXXXXXX (2018-20X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8"/>
          <p:cNvSpPr/>
          <p:nvPr/>
        </p:nvSpPr>
        <p:spPr>
          <a:xfrm>
            <a:off x="4427640" y="2860560"/>
            <a:ext cx="2881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ostgraduate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2015-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同心圆 1"/>
          <p:cNvSpPr/>
          <p:nvPr/>
        </p:nvSpPr>
        <p:spPr>
          <a:xfrm>
            <a:off x="108000" y="1131840"/>
            <a:ext cx="2158920" cy="1789200"/>
          </a:xfrm>
          <a:custGeom>
            <a:avLst/>
            <a:gdLst>
              <a:gd name="textAreaLeft" fmla="*/ 316080 w 2158920"/>
              <a:gd name="textAreaRight" fmla="*/ 1842840 w 2158920"/>
              <a:gd name="textAreaTop" fmla="*/ 261720 h 1789200"/>
              <a:gd name="textAreaBottom" fmla="*/ 152748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32" y="10800"/>
                </a:moveTo>
                <a:cubicBezTo>
                  <a:pt x="832" y="16305"/>
                  <a:pt x="5295" y="20768"/>
                  <a:pt x="10800" y="20768"/>
                </a:cubicBezTo>
                <a:cubicBezTo>
                  <a:pt x="16305" y="20768"/>
                  <a:pt x="20768" y="16305"/>
                  <a:pt x="20768" y="10800"/>
                </a:cubicBezTo>
                <a:cubicBezTo>
                  <a:pt x="20768" y="5295"/>
                  <a:pt x="16305" y="832"/>
                  <a:pt x="10800" y="832"/>
                </a:cubicBezTo>
                <a:cubicBezTo>
                  <a:pt x="5295" y="832"/>
                  <a:pt x="832" y="5295"/>
                  <a:pt x="832" y="1080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"/>
          <p:cNvSpPr/>
          <p:nvPr/>
        </p:nvSpPr>
        <p:spPr>
          <a:xfrm>
            <a:off x="2195640" y="2293920"/>
            <a:ext cx="6948360" cy="1440"/>
          </a:xfrm>
          <a:prstGeom prst="line">
            <a:avLst/>
          </a:prstGeom>
          <a:ln w="3816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173160" y="17748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5"/>
          <p:cNvSpPr/>
          <p:nvPr/>
        </p:nvSpPr>
        <p:spPr>
          <a:xfrm>
            <a:off x="466560" y="213984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e36c09"/>
                </a:solidFill>
                <a:latin typeface="微软雅黑"/>
                <a:ea typeface="微软雅黑"/>
              </a:rPr>
              <a:t>工作经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18"/>
          <p:cNvSpPr/>
          <p:nvPr/>
        </p:nvSpPr>
        <p:spPr>
          <a:xfrm>
            <a:off x="2577960" y="2111400"/>
            <a:ext cx="417600" cy="417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19"/>
          <p:cNvSpPr/>
          <p:nvPr/>
        </p:nvSpPr>
        <p:spPr>
          <a:xfrm>
            <a:off x="7845480" y="2111400"/>
            <a:ext cx="415800" cy="417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20"/>
          <p:cNvSpPr/>
          <p:nvPr/>
        </p:nvSpPr>
        <p:spPr>
          <a:xfrm>
            <a:off x="6089760" y="2111400"/>
            <a:ext cx="415800" cy="4176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1"/>
          <p:cNvSpPr/>
          <p:nvPr/>
        </p:nvSpPr>
        <p:spPr>
          <a:xfrm>
            <a:off x="4334040" y="2111400"/>
            <a:ext cx="415800" cy="4176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4"/>
          <p:cNvSpPr/>
          <p:nvPr/>
        </p:nvSpPr>
        <p:spPr>
          <a:xfrm flipH="1">
            <a:off x="2787120" y="0"/>
            <a:ext cx="1279800" cy="2111400"/>
          </a:xfrm>
          <a:prstGeom prst="line">
            <a:avLst/>
          </a:prstGeom>
          <a:ln w="381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7"/>
          <p:cNvSpPr/>
          <p:nvPr/>
        </p:nvSpPr>
        <p:spPr>
          <a:xfrm flipH="1">
            <a:off x="6297480" y="-28440"/>
            <a:ext cx="1154160" cy="2112840"/>
          </a:xfrm>
          <a:prstGeom prst="line">
            <a:avLst/>
          </a:prstGeom>
          <a:ln w="38160">
            <a:solidFill>
              <a:srgbClr val="a5a5a5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30"/>
          <p:cNvSpPr/>
          <p:nvPr/>
        </p:nvSpPr>
        <p:spPr>
          <a:xfrm flipH="1">
            <a:off x="2995200" y="2529000"/>
            <a:ext cx="1515960" cy="2614680"/>
          </a:xfrm>
          <a:prstGeom prst="line">
            <a:avLst/>
          </a:prstGeom>
          <a:ln w="381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32"/>
          <p:cNvSpPr/>
          <p:nvPr/>
        </p:nvSpPr>
        <p:spPr>
          <a:xfrm flipH="1">
            <a:off x="6505560" y="2500200"/>
            <a:ext cx="1527120" cy="2643480"/>
          </a:xfrm>
          <a:prstGeom prst="line">
            <a:avLst/>
          </a:prstGeom>
          <a:ln w="381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7"/>
          <p:cNvSpPr/>
          <p:nvPr/>
        </p:nvSpPr>
        <p:spPr>
          <a:xfrm>
            <a:off x="571680" y="1362240"/>
            <a:ext cx="12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8"/>
          <p:cNvSpPr/>
          <p:nvPr/>
        </p:nvSpPr>
        <p:spPr>
          <a:xfrm rot="18114000">
            <a:off x="2178000" y="56736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5-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9"/>
          <p:cNvSpPr/>
          <p:nvPr/>
        </p:nvSpPr>
        <p:spPr>
          <a:xfrm rot="18055200">
            <a:off x="2487600" y="3405600"/>
            <a:ext cx="20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a5a5"/>
                </a:solidFill>
                <a:latin typeface="Calibri"/>
              </a:rPr>
              <a:t>2016-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0"/>
          <p:cNvSpPr/>
          <p:nvPr/>
        </p:nvSpPr>
        <p:spPr>
          <a:xfrm rot="18055200">
            <a:off x="5935680" y="355860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a5a5"/>
                </a:solidFill>
                <a:latin typeface="Calibri"/>
              </a:rPr>
              <a:t>2018-2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1"/>
          <p:cNvSpPr/>
          <p:nvPr/>
        </p:nvSpPr>
        <p:spPr>
          <a:xfrm rot="17934600">
            <a:off x="5562720" y="720000"/>
            <a:ext cx="20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017-20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2"/>
          <p:cNvSpPr/>
          <p:nvPr/>
        </p:nvSpPr>
        <p:spPr>
          <a:xfrm>
            <a:off x="3606840" y="79200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3"/>
          <p:cNvSpPr/>
          <p:nvPr/>
        </p:nvSpPr>
        <p:spPr>
          <a:xfrm>
            <a:off x="7010280" y="846000"/>
            <a:ext cx="1871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4"/>
          <p:cNvSpPr/>
          <p:nvPr/>
        </p:nvSpPr>
        <p:spPr>
          <a:xfrm>
            <a:off x="939960" y="3435480"/>
            <a:ext cx="187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5"/>
          <p:cNvSpPr/>
          <p:nvPr/>
        </p:nvSpPr>
        <p:spPr>
          <a:xfrm>
            <a:off x="4511520" y="3441600"/>
            <a:ext cx="187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47"/>
          <p:cNvSpPr/>
          <p:nvPr/>
        </p:nvSpPr>
        <p:spPr>
          <a:xfrm>
            <a:off x="3851280" y="39204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48"/>
          <p:cNvSpPr/>
          <p:nvPr/>
        </p:nvSpPr>
        <p:spPr>
          <a:xfrm>
            <a:off x="7278840" y="428760"/>
            <a:ext cx="13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9"/>
          <p:cNvSpPr/>
          <p:nvPr/>
        </p:nvSpPr>
        <p:spPr>
          <a:xfrm>
            <a:off x="1197000" y="30780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0"/>
          <p:cNvSpPr/>
          <p:nvPr/>
        </p:nvSpPr>
        <p:spPr>
          <a:xfrm>
            <a:off x="4708440" y="3035160"/>
            <a:ext cx="13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同心圆 30"/>
          <p:cNvSpPr/>
          <p:nvPr/>
        </p:nvSpPr>
        <p:spPr>
          <a:xfrm>
            <a:off x="4800600" y="2216160"/>
            <a:ext cx="1162080" cy="1160280"/>
          </a:xfrm>
          <a:custGeom>
            <a:avLst/>
            <a:gdLst>
              <a:gd name="textAreaLeft" fmla="*/ 169920 w 1162080"/>
              <a:gd name="textAreaRight" fmla="*/ 992160 w 116208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92" y="10800"/>
                </a:moveTo>
                <a:cubicBezTo>
                  <a:pt x="3392" y="14891"/>
                  <a:pt x="6709" y="18208"/>
                  <a:pt x="10800" y="18208"/>
                </a:cubicBezTo>
                <a:cubicBezTo>
                  <a:pt x="14891" y="18208"/>
                  <a:pt x="18208" y="14891"/>
                  <a:pt x="18208" y="10800"/>
                </a:cubicBezTo>
                <a:cubicBezTo>
                  <a:pt x="18208" y="6709"/>
                  <a:pt x="14891" y="3392"/>
                  <a:pt x="10800" y="3392"/>
                </a:cubicBezTo>
                <a:cubicBezTo>
                  <a:pt x="6709" y="3392"/>
                  <a:pt x="3392" y="6709"/>
                  <a:pt x="3392" y="1080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"/>
          <p:cNvSpPr/>
          <p:nvPr/>
        </p:nvSpPr>
        <p:spPr>
          <a:xfrm>
            <a:off x="4464000" y="0"/>
            <a:ext cx="0" cy="843120"/>
          </a:xfrm>
          <a:prstGeom prst="line">
            <a:avLst/>
          </a:prstGeom>
          <a:ln w="2844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五边形 3"/>
          <p:cNvSpPr/>
          <p:nvPr/>
        </p:nvSpPr>
        <p:spPr>
          <a:xfrm rot="5400000">
            <a:off x="4212360" y="770760"/>
            <a:ext cx="503280" cy="216000"/>
          </a:xfrm>
          <a:custGeom>
            <a:avLst/>
            <a:gdLst>
              <a:gd name="textAreaLeft" fmla="*/ 0 w 503280"/>
              <a:gd name="textAreaRight" fmla="*/ 503640 w 503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8"/>
          <p:cNvSpPr/>
          <p:nvPr/>
        </p:nvSpPr>
        <p:spPr>
          <a:xfrm>
            <a:off x="2987640" y="11304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9"/>
          <p:cNvSpPr/>
          <p:nvPr/>
        </p:nvSpPr>
        <p:spPr>
          <a:xfrm>
            <a:off x="4643280" y="120348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e36c09"/>
                </a:solidFill>
                <a:latin typeface="微软雅黑"/>
                <a:ea typeface="微软雅黑"/>
              </a:rPr>
              <a:t>技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0"/>
          <p:cNvSpPr/>
          <p:nvPr/>
        </p:nvSpPr>
        <p:spPr>
          <a:xfrm>
            <a:off x="1417320" y="365112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1"/>
          <p:cNvSpPr/>
          <p:nvPr/>
        </p:nvSpPr>
        <p:spPr>
          <a:xfrm>
            <a:off x="2997360" y="3651120"/>
            <a:ext cx="14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hoto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2"/>
          <p:cNvSpPr/>
          <p:nvPr/>
        </p:nvSpPr>
        <p:spPr>
          <a:xfrm>
            <a:off x="6753240" y="3651120"/>
            <a:ext cx="108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D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4786560" y="36511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llustr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4"/>
          <p:cNvSpPr/>
          <p:nvPr/>
        </p:nvSpPr>
        <p:spPr>
          <a:xfrm>
            <a:off x="6926400" y="258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5"/>
          <p:cNvSpPr/>
          <p:nvPr/>
        </p:nvSpPr>
        <p:spPr>
          <a:xfrm>
            <a:off x="5075280" y="258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1523880" y="25812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7"/>
          <p:cNvSpPr/>
          <p:nvPr/>
        </p:nvSpPr>
        <p:spPr>
          <a:xfrm>
            <a:off x="3348000" y="25812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同心圆 1"/>
          <p:cNvSpPr/>
          <p:nvPr/>
        </p:nvSpPr>
        <p:spPr>
          <a:xfrm>
            <a:off x="1279440" y="2216160"/>
            <a:ext cx="1160640" cy="1160280"/>
          </a:xfrm>
          <a:custGeom>
            <a:avLst/>
            <a:gdLst>
              <a:gd name="textAreaLeft" fmla="*/ 169920 w 1160640"/>
              <a:gd name="textAreaRight" fmla="*/ 990720 w 116064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92" y="10800"/>
                </a:moveTo>
                <a:cubicBezTo>
                  <a:pt x="3392" y="14891"/>
                  <a:pt x="6709" y="18208"/>
                  <a:pt x="10800" y="18208"/>
                </a:cubicBezTo>
                <a:cubicBezTo>
                  <a:pt x="14891" y="18208"/>
                  <a:pt x="18208" y="14891"/>
                  <a:pt x="18208" y="10800"/>
                </a:cubicBezTo>
                <a:cubicBezTo>
                  <a:pt x="18208" y="6709"/>
                  <a:pt x="14891" y="3392"/>
                  <a:pt x="10800" y="3392"/>
                </a:cubicBezTo>
                <a:cubicBezTo>
                  <a:pt x="6709" y="3392"/>
                  <a:pt x="3392" y="6709"/>
                  <a:pt x="3392" y="1080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同心圆 28"/>
          <p:cNvSpPr/>
          <p:nvPr/>
        </p:nvSpPr>
        <p:spPr>
          <a:xfrm>
            <a:off x="1279440" y="2216160"/>
            <a:ext cx="1160640" cy="116028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1161674" h="1161674">
                <a:moveTo>
                  <a:pt x="580837" y="0"/>
                </a:moveTo>
                <a:cubicBezTo>
                  <a:pt x="901624" y="0"/>
                  <a:pt x="1161674" y="260050"/>
                  <a:pt x="1161674" y="580837"/>
                </a:cubicBezTo>
                <a:cubicBezTo>
                  <a:pt x="1161674" y="901624"/>
                  <a:pt x="901624" y="1161674"/>
                  <a:pt x="580837" y="1161674"/>
                </a:cubicBezTo>
                <a:cubicBezTo>
                  <a:pt x="260050" y="1161674"/>
                  <a:pt x="0" y="901624"/>
                  <a:pt x="0" y="580837"/>
                </a:cubicBezTo>
                <a:cubicBezTo>
                  <a:pt x="0" y="500438"/>
                  <a:pt x="16335" y="423853"/>
                  <a:pt x="47884" y="355192"/>
                </a:cubicBezTo>
                <a:lnTo>
                  <a:pt x="222217" y="414655"/>
                </a:lnTo>
                <a:cubicBezTo>
                  <a:pt x="195671" y="464184"/>
                  <a:pt x="182464" y="520969"/>
                  <a:pt x="182464" y="580837"/>
                </a:cubicBezTo>
                <a:cubicBezTo>
                  <a:pt x="182464" y="800852"/>
                  <a:pt x="360822" y="979210"/>
                  <a:pt x="580837" y="979210"/>
                </a:cubicBezTo>
                <a:cubicBezTo>
                  <a:pt x="800852" y="979210"/>
                  <a:pt x="979210" y="800852"/>
                  <a:pt x="979210" y="580837"/>
                </a:cubicBezTo>
                <a:cubicBezTo>
                  <a:pt x="979210" y="360822"/>
                  <a:pt x="800852" y="182464"/>
                  <a:pt x="580837" y="182464"/>
                </a:cubicBezTo>
                <a:lnTo>
                  <a:pt x="549508" y="185622"/>
                </a:lnTo>
                <a:lnTo>
                  <a:pt x="549508" y="3158"/>
                </a:lnTo>
                <a:cubicBezTo>
                  <a:pt x="559798" y="281"/>
                  <a:pt x="570285" y="0"/>
                  <a:pt x="580837" y="0"/>
                </a:cubicBezTo>
                <a:close/>
              </a:path>
            </a:pathLst>
          </a:custGeom>
          <a:solidFill>
            <a:srgbClr val="00b0f0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同心圆 31"/>
          <p:cNvSpPr/>
          <p:nvPr/>
        </p:nvSpPr>
        <p:spPr>
          <a:xfrm>
            <a:off x="3087720" y="2216160"/>
            <a:ext cx="1162080" cy="1160280"/>
          </a:xfrm>
          <a:custGeom>
            <a:avLst/>
            <a:gdLst>
              <a:gd name="textAreaLeft" fmla="*/ 169920 w 1162080"/>
              <a:gd name="textAreaRight" fmla="*/ 992160 w 116208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92" y="10800"/>
                </a:moveTo>
                <a:cubicBezTo>
                  <a:pt x="3392" y="14891"/>
                  <a:pt x="6709" y="18208"/>
                  <a:pt x="10800" y="18208"/>
                </a:cubicBezTo>
                <a:cubicBezTo>
                  <a:pt x="14891" y="18208"/>
                  <a:pt x="18208" y="14891"/>
                  <a:pt x="18208" y="10800"/>
                </a:cubicBezTo>
                <a:cubicBezTo>
                  <a:pt x="18208" y="6709"/>
                  <a:pt x="14891" y="3392"/>
                  <a:pt x="10800" y="3392"/>
                </a:cubicBezTo>
                <a:cubicBezTo>
                  <a:pt x="6709" y="3392"/>
                  <a:pt x="3392" y="6709"/>
                  <a:pt x="3392" y="1080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同心圆 32"/>
          <p:cNvSpPr/>
          <p:nvPr/>
        </p:nvSpPr>
        <p:spPr>
          <a:xfrm>
            <a:off x="6656400" y="2216160"/>
            <a:ext cx="1160280" cy="1160280"/>
          </a:xfrm>
          <a:custGeom>
            <a:avLst/>
            <a:gdLst>
              <a:gd name="textAreaLeft" fmla="*/ 169920 w 1160280"/>
              <a:gd name="textAreaRight" fmla="*/ 990360 w 1160280"/>
              <a:gd name="textAreaTop" fmla="*/ 169920 h 1160280"/>
              <a:gd name="textAreaBottom" fmla="*/ 990360 h 1160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92" y="10800"/>
                </a:moveTo>
                <a:cubicBezTo>
                  <a:pt x="3392" y="14891"/>
                  <a:pt x="6709" y="18208"/>
                  <a:pt x="10800" y="18208"/>
                </a:cubicBezTo>
                <a:cubicBezTo>
                  <a:pt x="14891" y="18208"/>
                  <a:pt x="18208" y="14891"/>
                  <a:pt x="18208" y="10800"/>
                </a:cubicBezTo>
                <a:cubicBezTo>
                  <a:pt x="18208" y="6709"/>
                  <a:pt x="14891" y="3392"/>
                  <a:pt x="10800" y="3392"/>
                </a:cubicBezTo>
                <a:cubicBezTo>
                  <a:pt x="6709" y="3392"/>
                  <a:pt x="3392" y="6709"/>
                  <a:pt x="3392" y="10800"/>
                </a:cubicBezTo>
                <a:close/>
              </a:path>
            </a:pathLst>
          </a:custGeom>
          <a:solidFill>
            <a:srgbClr val="ffffff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同心圆 28"/>
          <p:cNvSpPr/>
          <p:nvPr/>
        </p:nvSpPr>
        <p:spPr>
          <a:xfrm>
            <a:off x="3132000" y="2216160"/>
            <a:ext cx="1121040" cy="1160280"/>
          </a:xfrm>
          <a:custGeom>
            <a:avLst/>
            <a:gdLst>
              <a:gd name="textAreaLeft" fmla="*/ 0 w 1121040"/>
              <a:gd name="textAreaRight" fmla="*/ 1121400 w 112104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1121630" h="1161674">
                <a:moveTo>
                  <a:pt x="540793" y="0"/>
                </a:moveTo>
                <a:cubicBezTo>
                  <a:pt x="861580" y="0"/>
                  <a:pt x="1121630" y="260050"/>
                  <a:pt x="1121630" y="580837"/>
                </a:cubicBezTo>
                <a:cubicBezTo>
                  <a:pt x="1121630" y="901624"/>
                  <a:pt x="861580" y="1161674"/>
                  <a:pt x="540793" y="1161674"/>
                </a:cubicBezTo>
                <a:cubicBezTo>
                  <a:pt x="293532" y="1161674"/>
                  <a:pt x="82356" y="1007172"/>
                  <a:pt x="0" y="788881"/>
                </a:cubicBezTo>
                <a:lnTo>
                  <a:pt x="168195" y="718082"/>
                </a:lnTo>
                <a:cubicBezTo>
                  <a:pt x="222931" y="870710"/>
                  <a:pt x="369192" y="979210"/>
                  <a:pt x="540793" y="979210"/>
                </a:cubicBezTo>
                <a:cubicBezTo>
                  <a:pt x="760808" y="979210"/>
                  <a:pt x="939166" y="800852"/>
                  <a:pt x="939166" y="580837"/>
                </a:cubicBezTo>
                <a:cubicBezTo>
                  <a:pt x="939166" y="360822"/>
                  <a:pt x="760808" y="182464"/>
                  <a:pt x="540793" y="182464"/>
                </a:cubicBezTo>
                <a:lnTo>
                  <a:pt x="509464" y="185622"/>
                </a:lnTo>
                <a:lnTo>
                  <a:pt x="509464" y="3158"/>
                </a:lnTo>
                <a:cubicBezTo>
                  <a:pt x="519754" y="281"/>
                  <a:pt x="530241" y="0"/>
                  <a:pt x="540793" y="0"/>
                </a:cubicBezTo>
                <a:close/>
              </a:path>
            </a:pathLst>
          </a:custGeom>
          <a:solidFill>
            <a:srgbClr val="00b0f0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同心圆 28"/>
          <p:cNvSpPr/>
          <p:nvPr/>
        </p:nvSpPr>
        <p:spPr>
          <a:xfrm>
            <a:off x="5364000" y="2216160"/>
            <a:ext cx="617760" cy="1160280"/>
          </a:xfrm>
          <a:custGeom>
            <a:avLst/>
            <a:gdLst>
              <a:gd name="textAreaLeft" fmla="*/ 0 w 617760"/>
              <a:gd name="textAreaRight" fmla="*/ 618120 w 617760"/>
              <a:gd name="textAreaTop" fmla="*/ 0 h 1160280"/>
              <a:gd name="textAreaBottom" fmla="*/ 1160280 h 1160280"/>
            </a:gdLst>
            <a:ahLst/>
            <a:rect l="textAreaLeft" t="textAreaTop" r="textAreaRight" b="textAreaBottom"/>
            <a:pathLst>
              <a:path w="617574" h="1161674">
                <a:moveTo>
                  <a:pt x="36737" y="0"/>
                </a:moveTo>
                <a:cubicBezTo>
                  <a:pt x="357524" y="0"/>
                  <a:pt x="617574" y="260050"/>
                  <a:pt x="617574" y="580837"/>
                </a:cubicBezTo>
                <a:cubicBezTo>
                  <a:pt x="617574" y="901624"/>
                  <a:pt x="357524" y="1161674"/>
                  <a:pt x="36737" y="1161674"/>
                </a:cubicBezTo>
                <a:lnTo>
                  <a:pt x="0" y="1158817"/>
                </a:lnTo>
                <a:lnTo>
                  <a:pt x="0" y="976319"/>
                </a:lnTo>
                <a:cubicBezTo>
                  <a:pt x="12022" y="978641"/>
                  <a:pt x="24313" y="979210"/>
                  <a:pt x="36737" y="979210"/>
                </a:cubicBezTo>
                <a:cubicBezTo>
                  <a:pt x="256752" y="979210"/>
                  <a:pt x="435110" y="800852"/>
                  <a:pt x="435110" y="580837"/>
                </a:cubicBezTo>
                <a:cubicBezTo>
                  <a:pt x="435110" y="360822"/>
                  <a:pt x="256752" y="182464"/>
                  <a:pt x="36737" y="182464"/>
                </a:cubicBezTo>
                <a:lnTo>
                  <a:pt x="5408" y="185622"/>
                </a:lnTo>
                <a:lnTo>
                  <a:pt x="5408" y="3158"/>
                </a:lnTo>
                <a:cubicBezTo>
                  <a:pt x="15698" y="281"/>
                  <a:pt x="26185" y="0"/>
                  <a:pt x="36737" y="0"/>
                </a:cubicBezTo>
                <a:close/>
              </a:path>
            </a:pathLst>
          </a:custGeom>
          <a:solidFill>
            <a:srgbClr val="e36c09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同心圆 28"/>
          <p:cNvSpPr/>
          <p:nvPr/>
        </p:nvSpPr>
        <p:spPr>
          <a:xfrm>
            <a:off x="7209000" y="2216160"/>
            <a:ext cx="610920" cy="831960"/>
          </a:xfrm>
          <a:custGeom>
            <a:avLst/>
            <a:gdLst>
              <a:gd name="textAreaLeft" fmla="*/ 0 w 610920"/>
              <a:gd name="textAreaRight" fmla="*/ 611280 w 6109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612166" h="832025">
                <a:moveTo>
                  <a:pt x="31329" y="0"/>
                </a:moveTo>
                <a:cubicBezTo>
                  <a:pt x="352116" y="0"/>
                  <a:pt x="612166" y="260050"/>
                  <a:pt x="612166" y="580837"/>
                </a:cubicBezTo>
                <a:cubicBezTo>
                  <a:pt x="612166" y="671165"/>
                  <a:pt x="591547" y="756677"/>
                  <a:pt x="552897" y="832025"/>
                </a:cubicBezTo>
                <a:lnTo>
                  <a:pt x="394506" y="743069"/>
                </a:lnTo>
                <a:cubicBezTo>
                  <a:pt x="417355" y="693728"/>
                  <a:pt x="429702" y="638724"/>
                  <a:pt x="429702" y="580837"/>
                </a:cubicBezTo>
                <a:cubicBezTo>
                  <a:pt x="429702" y="360822"/>
                  <a:pt x="251344" y="182464"/>
                  <a:pt x="31329" y="182464"/>
                </a:cubicBezTo>
                <a:lnTo>
                  <a:pt x="0" y="185622"/>
                </a:lnTo>
                <a:lnTo>
                  <a:pt x="0" y="3158"/>
                </a:lnTo>
                <a:cubicBezTo>
                  <a:pt x="10290" y="281"/>
                  <a:pt x="20777" y="0"/>
                  <a:pt x="31329" y="0"/>
                </a:cubicBezTo>
                <a:close/>
              </a:path>
            </a:pathLst>
          </a:custGeom>
          <a:solidFill>
            <a:srgbClr val="e36c09"/>
          </a:solidFill>
          <a:ln w="1908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314280" y="4767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6"/>
          <p:cNvGrpSpPr/>
          <p:nvPr/>
        </p:nvGrpSpPr>
        <p:grpSpPr>
          <a:xfrm>
            <a:off x="2832120" y="905040"/>
            <a:ext cx="3324240" cy="3324240"/>
            <a:chOff x="2832120" y="905040"/>
            <a:chExt cx="3324240" cy="3324240"/>
          </a:xfrm>
        </p:grpSpPr>
        <p:sp>
          <p:nvSpPr>
            <p:cNvPr id="137" name="矩形 1"/>
            <p:cNvSpPr/>
            <p:nvPr/>
          </p:nvSpPr>
          <p:spPr>
            <a:xfrm rot="2719200">
              <a:off x="3573720" y="1646640"/>
              <a:ext cx="1840320" cy="1840320"/>
            </a:xfrm>
            <a:prstGeom prst="rect">
              <a:avLst/>
            </a:prstGeom>
            <a:solidFill>
              <a:srgbClr val="333e50"/>
            </a:solidFill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等腰三角形 2"/>
            <p:cNvSpPr/>
            <p:nvPr/>
          </p:nvSpPr>
          <p:spPr>
            <a:xfrm rot="10800000">
              <a:off x="4171680" y="905040"/>
              <a:ext cx="644040" cy="36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等腰三角形 3"/>
            <p:cNvSpPr/>
            <p:nvPr/>
          </p:nvSpPr>
          <p:spPr>
            <a:xfrm rot="16200000">
              <a:off x="5653800" y="2386080"/>
              <a:ext cx="644040" cy="36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等腰三角形 4"/>
            <p:cNvSpPr/>
            <p:nvPr/>
          </p:nvSpPr>
          <p:spPr>
            <a:xfrm rot="5400000">
              <a:off x="2690280" y="2386440"/>
              <a:ext cx="644040" cy="36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等腰三角形 5"/>
            <p:cNvSpPr/>
            <p:nvPr/>
          </p:nvSpPr>
          <p:spPr>
            <a:xfrm>
              <a:off x="4172040" y="3868560"/>
              <a:ext cx="644040" cy="360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a5a5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7"/>
          <p:cNvSpPr/>
          <p:nvPr/>
        </p:nvSpPr>
        <p:spPr>
          <a:xfrm>
            <a:off x="4013280" y="1830240"/>
            <a:ext cx="11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奖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841920" y="2465280"/>
            <a:ext cx="16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79520" y="1955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ize </a:t>
            </a: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6227640" y="199548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ize </a:t>
            </a: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3995640" y="43005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ize </a:t>
            </a: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4024440" y="4428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ize </a:t>
            </a:r>
            <a:r>
              <a:rPr b="0" lang="en-US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5060880" y="339840"/>
            <a:ext cx="27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6264360" y="2325600"/>
            <a:ext cx="27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5"/>
          <p:cNvSpPr/>
          <p:nvPr/>
        </p:nvSpPr>
        <p:spPr>
          <a:xfrm>
            <a:off x="442800" y="2297160"/>
            <a:ext cx="27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060880" y="4219560"/>
            <a:ext cx="27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dd what you want to s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6T07:01:00Z</dcterms:created>
  <dc:creator>heqing</dc:creator>
  <dc:description/>
  <cp:keywords/>
  <dc:language>en-US</dc:language>
  <cp:lastModifiedBy>王玉清</cp:lastModifiedBy>
  <dcterms:modified xsi:type="dcterms:W3CDTF">2016-02-19T03:16:52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