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373-09B7-4D6D-9CC6-DD79BD13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B69-8B8A-48AA-BB11-6186C132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26D-7C68-4B3D-A38C-473497F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CC9-2F2C-4731-9B15-F62B9C84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0CD-55C3-4DD8-B600-D1F175D6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F3E-A99F-4040-AE34-0C67B37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7AE-9C84-4A3D-8DA2-D0C3E442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CCC-37B2-4BEB-A45C-0A0C8722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259-4387-47F6-A1AB-977269B7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54B-E0DE-40EF-911A-8F28F15E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1AA-F2CC-46E7-BEF5-2B4EE40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873-D665-4C1C-AB1F-B75E196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171F-06D0-4232-A23E-CAEAA85DB3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酷炫蓝色商务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  <a:ea typeface="宋体"/>
              </a:rPr>
              <a:t>模板免费下载</a:t>
            </a:r>
            <a:endParaRPr b="0" lang="en-US" sz="4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r>
              <a:rPr b="0" lang="en-US" sz="2000" spc="-1" strike="noStrike">
                <a:solidFill>
                  <a:srgbClr val="99ccff"/>
                </a:solidFill>
                <a:latin typeface="Verdana"/>
                <a:ea typeface="宋体"/>
              </a:rPr>
              <a:t>– PowerPoint2002</a:t>
            </a: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cce4b9"/>
              </a:gs>
              <a:gs pos="100000">
                <a:srgbClr val="86c05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d4d4ff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3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7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6c05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86c05a">
                  <a:alpha val="32156"/>
                </a:srgbClr>
              </a:gs>
              <a:gs pos="100000">
                <a:srgbClr val="3e592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96831"/>
              </a:gs>
              <a:gs pos="50000">
                <a:srgbClr val="86c05a"/>
              </a:gs>
              <a:gs pos="100000">
                <a:srgbClr val="4968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7a39"/>
              </a:gs>
              <a:gs pos="100000">
                <a:srgbClr val="86c05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8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9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9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5" name="Text Box 39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07" name="Group 41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308" name="Oval 42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9" name="Oval 43"/>
            <p:cNvSpPr/>
            <p:nvPr/>
          </p:nvSpPr>
          <p:spPr>
            <a:xfrm>
              <a:off x="1266840" y="3411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0" name="Oval 44"/>
            <p:cNvSpPr/>
            <p:nvPr/>
          </p:nvSpPr>
          <p:spPr>
            <a:xfrm>
              <a:off x="1280160" y="3425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1" name="Oval 45"/>
            <p:cNvSpPr/>
            <p:nvPr/>
          </p:nvSpPr>
          <p:spPr>
            <a:xfrm>
              <a:off x="1351800" y="3462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2" name="Text Box 46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13" name="Oval 47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8" name="Text Box 52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33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4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5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6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37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2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3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5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46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8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49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0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6eac7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51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2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9999ff">
                  <a:alpha val="32156"/>
                </a:srgbClr>
              </a:gs>
              <a:gs pos="100000">
                <a:srgbClr val="4747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3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3538a"/>
              </a:gs>
              <a:gs pos="50000">
                <a:srgbClr val="9999ff"/>
              </a:gs>
              <a:gs pos="100000">
                <a:srgbClr val="53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4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161a2"/>
              </a:gs>
              <a:gs pos="100000">
                <a:srgbClr val="99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5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56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7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8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9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60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61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4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7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69" name="AutoShape 47"/>
          <p:cNvSpPr/>
          <p:nvPr/>
        </p:nvSpPr>
        <p:spPr>
          <a:xfrm>
            <a:off x="109224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0" name="AutoShape 48"/>
          <p:cNvSpPr/>
          <p:nvPr/>
        </p:nvSpPr>
        <p:spPr>
          <a:xfrm>
            <a:off x="112536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1" name="AutoShape 49"/>
          <p:cNvSpPr/>
          <p:nvPr/>
        </p:nvSpPr>
        <p:spPr>
          <a:xfrm>
            <a:off x="114300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2" name="AutoShape 50"/>
          <p:cNvSpPr/>
          <p:nvPr/>
        </p:nvSpPr>
        <p:spPr>
          <a:xfrm>
            <a:off x="114300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73" name="Group 51"/>
          <p:cNvGrpSpPr/>
          <p:nvPr/>
        </p:nvGrpSpPr>
        <p:grpSpPr>
          <a:xfrm>
            <a:off x="1836720" y="1787400"/>
            <a:ext cx="642960" cy="642960"/>
            <a:chOff x="1836720" y="1787400"/>
            <a:chExt cx="642960" cy="642960"/>
          </a:xfrm>
        </p:grpSpPr>
        <p:sp>
          <p:nvSpPr>
            <p:cNvPr id="374" name="Oval 52"/>
            <p:cNvSpPr/>
            <p:nvPr/>
          </p:nvSpPr>
          <p:spPr>
            <a:xfrm>
              <a:off x="183672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5" name="Oval 53"/>
            <p:cNvSpPr/>
            <p:nvPr/>
          </p:nvSpPr>
          <p:spPr>
            <a:xfrm>
              <a:off x="184320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6" name="Oval 54"/>
            <p:cNvSpPr/>
            <p:nvPr/>
          </p:nvSpPr>
          <p:spPr>
            <a:xfrm>
              <a:off x="1851120" y="179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7" name="Oval 55"/>
            <p:cNvSpPr/>
            <p:nvPr/>
          </p:nvSpPr>
          <p:spPr>
            <a:xfrm>
              <a:off x="185760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8" name="Oval 56"/>
            <p:cNvSpPr/>
            <p:nvPr/>
          </p:nvSpPr>
          <p:spPr>
            <a:xfrm>
              <a:off x="189144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79" name="Text Box 57"/>
          <p:cNvSpPr/>
          <p:nvPr/>
        </p:nvSpPr>
        <p:spPr>
          <a:xfrm>
            <a:off x="197676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116856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1" name="AutoShape 59"/>
          <p:cNvSpPr/>
          <p:nvPr/>
        </p:nvSpPr>
        <p:spPr>
          <a:xfrm>
            <a:off x="5816520" y="2095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2" name="AutoShape 60"/>
          <p:cNvSpPr/>
          <p:nvPr/>
        </p:nvSpPr>
        <p:spPr>
          <a:xfrm>
            <a:off x="5850000" y="210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3" name="AutoShape 61"/>
          <p:cNvSpPr/>
          <p:nvPr/>
        </p:nvSpPr>
        <p:spPr>
          <a:xfrm>
            <a:off x="5867280" y="4167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4" name="AutoShape 62"/>
          <p:cNvSpPr/>
          <p:nvPr/>
        </p:nvSpPr>
        <p:spPr>
          <a:xfrm>
            <a:off x="5867280" y="2125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6561000" y="1787400"/>
            <a:ext cx="642960" cy="642960"/>
            <a:chOff x="6561000" y="1787400"/>
            <a:chExt cx="642960" cy="642960"/>
          </a:xfrm>
        </p:grpSpPr>
        <p:sp>
          <p:nvSpPr>
            <p:cNvPr id="386" name="Oval 64"/>
            <p:cNvSpPr/>
            <p:nvPr/>
          </p:nvSpPr>
          <p:spPr>
            <a:xfrm>
              <a:off x="656100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7" name="Oval 65"/>
            <p:cNvSpPr/>
            <p:nvPr/>
          </p:nvSpPr>
          <p:spPr>
            <a:xfrm>
              <a:off x="656748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8" name="Oval 66"/>
            <p:cNvSpPr/>
            <p:nvPr/>
          </p:nvSpPr>
          <p:spPr>
            <a:xfrm>
              <a:off x="6575400" y="179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9" name="Oval 67"/>
            <p:cNvSpPr/>
            <p:nvPr/>
          </p:nvSpPr>
          <p:spPr>
            <a:xfrm>
              <a:off x="658188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90" name="Oval 68"/>
            <p:cNvSpPr/>
            <p:nvPr/>
          </p:nvSpPr>
          <p:spPr>
            <a:xfrm>
              <a:off x="661572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91" name="Text Box 69"/>
          <p:cNvSpPr/>
          <p:nvPr/>
        </p:nvSpPr>
        <p:spPr>
          <a:xfrm>
            <a:off x="670104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2" name="Text Box 70"/>
          <p:cNvSpPr/>
          <p:nvPr/>
        </p:nvSpPr>
        <p:spPr>
          <a:xfrm>
            <a:off x="589284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3" name="AutoShape 71"/>
          <p:cNvSpPr/>
          <p:nvPr/>
        </p:nvSpPr>
        <p:spPr>
          <a:xfrm>
            <a:off x="345456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4" name="AutoShape 72"/>
          <p:cNvSpPr/>
          <p:nvPr/>
        </p:nvSpPr>
        <p:spPr>
          <a:xfrm>
            <a:off x="348768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5" name="AutoShape 73"/>
          <p:cNvSpPr/>
          <p:nvPr/>
        </p:nvSpPr>
        <p:spPr>
          <a:xfrm>
            <a:off x="350532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6" name="AutoShape 74"/>
          <p:cNvSpPr/>
          <p:nvPr/>
        </p:nvSpPr>
        <p:spPr>
          <a:xfrm>
            <a:off x="350532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7" name="Oval 75"/>
          <p:cNvSpPr/>
          <p:nvPr/>
        </p:nvSpPr>
        <p:spPr>
          <a:xfrm>
            <a:off x="4199040" y="178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4205160" y="1792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4213080" y="1795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0" name="Oval 78"/>
          <p:cNvSpPr/>
          <p:nvPr/>
        </p:nvSpPr>
        <p:spPr>
          <a:xfrm>
            <a:off x="4219560" y="180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1" name="Oval 79"/>
          <p:cNvSpPr/>
          <p:nvPr/>
        </p:nvSpPr>
        <p:spPr>
          <a:xfrm>
            <a:off x="4254480" y="181764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433908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353052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407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08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09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10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13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16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7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8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9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21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22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3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4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5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27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28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31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-360 h 412920"/>
                    <a:gd name="textAreaBottom" fmla="*/ 412920 h 41292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0 h 337680"/>
                    <a:gd name="textAreaBottom" fmla="*/ 337680 h 3376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4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5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6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7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438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39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0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1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2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44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45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48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0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51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2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3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4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5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56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57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8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9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0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62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63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>
                    <a:gd name="textAreaLeft" fmla="*/ 0 w 2444760"/>
                    <a:gd name="textAreaRight" fmla="*/ 2445120 w 2444760"/>
                    <a:gd name="textAreaTop" fmla="*/ 0 h 538560"/>
                    <a:gd name="textAreaBottom" fmla="*/ 538920 h 538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440640"/>
                    <a:gd name="textAreaBottom" fmla="*/ 441000 h 4406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66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>
                    <a:gd name="textAreaLeft" fmla="*/ 0 w 1875960"/>
                    <a:gd name="textAreaRight" fmla="*/ 1876320 w 1875960"/>
                    <a:gd name="textAreaTop" fmla="*/ 360 h 413280"/>
                    <a:gd name="textAreaBottom" fmla="*/ 414000 h 4132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>
                    <a:gd name="textAreaLeft" fmla="*/ 0 w 294840"/>
                    <a:gd name="textAreaRight" fmla="*/ 295200 w 294840"/>
                    <a:gd name="textAreaTop" fmla="*/ -360 h 338040"/>
                    <a:gd name="textAreaBottom" fmla="*/ 338040 h 3380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69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0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1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2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3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74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475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6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7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0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1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2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3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4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5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6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87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8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9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0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cxnSp>
        <p:nvCxnSpPr>
          <p:cNvPr id="491" name="AutoShape 89"/>
          <p:cNvCxnSpPr>
            <a:stCxn id="487" idx="3"/>
            <a:endCxn id="488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2" name="AutoShape 90"/>
          <p:cNvCxnSpPr>
            <a:stCxn id="488" idx="3"/>
            <a:endCxn id="489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3" name="AutoShape 91"/>
          <p:cNvCxnSpPr>
            <a:stCxn id="489" idx="3"/>
            <a:endCxn id="490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6c0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592a"/>
              </a:gs>
              <a:gs pos="100000">
                <a:srgbClr val="86c05a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9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0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27120" y="1752480"/>
          <a:ext cx="7734240" cy="3505320"/>
        </p:xfrm>
        <a:graphic>
          <a:graphicData uri="http://schemas.openxmlformats.org/drawingml/2006/table">
            <a:tbl>
              <a:tblPr/>
              <a:tblGrid>
                <a:gridCol w="1041480"/>
                <a:gridCol w="2020680"/>
                <a:gridCol w="372960"/>
                <a:gridCol w="2043360"/>
                <a:gridCol w="357120"/>
                <a:gridCol w="18986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 w="5760">
                      <a:solidFill>
                        <a:srgbClr val="99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4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506" name="Group 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07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09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0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600480"/>
                  <a:gd name="textAreaBottom" fmla="*/ 600840 h 6004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1" name="Text Box 1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2" name="Group 1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13" name="Group 1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14" name="Oval 1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5" name="Freeform 1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6" name="Text Box 1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7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18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19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0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1" name="Text Box 2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22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23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24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5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>
                  <a:gd name="textAreaLeft" fmla="*/ 0 w 1553040"/>
                  <a:gd name="textAreaRight" fmla="*/ 1553400 w 155304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6" name="Text Box 2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28" name="Group 22"/>
          <p:cNvGrpSpPr/>
          <p:nvPr/>
        </p:nvGrpSpPr>
        <p:grpSpPr>
          <a:xfrm>
            <a:off x="1225800" y="1455120"/>
            <a:ext cx="6667920" cy="4675680"/>
            <a:chOff x="1225800" y="1455120"/>
            <a:chExt cx="6667920" cy="4675680"/>
          </a:xfrm>
        </p:grpSpPr>
        <p:sp>
          <p:nvSpPr>
            <p:cNvPr id="529" name="Oval 3"/>
            <p:cNvSpPr/>
            <p:nvPr/>
          </p:nvSpPr>
          <p:spPr>
            <a:xfrm>
              <a:off x="2262240" y="4465800"/>
              <a:ext cx="5562720" cy="132552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0" name="Oval 4"/>
            <p:cNvSpPr/>
            <p:nvPr/>
          </p:nvSpPr>
          <p:spPr>
            <a:xfrm rot="20601600">
              <a:off x="153684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1" name="Oval 5"/>
            <p:cNvSpPr/>
            <p:nvPr/>
          </p:nvSpPr>
          <p:spPr>
            <a:xfrm rot="20601600">
              <a:off x="159336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2" name="Arc 6"/>
            <p:cNvSpPr/>
            <p:nvPr/>
          </p:nvSpPr>
          <p:spPr>
            <a:xfrm rot="20601600">
              <a:off x="4241880" y="2268000"/>
              <a:ext cx="2851200" cy="15386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640"/>
                <a:gd name="textAreaBottom" fmla="*/ 1539000 h 153864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3" name="Arc 7"/>
            <p:cNvSpPr/>
            <p:nvPr/>
          </p:nvSpPr>
          <p:spPr>
            <a:xfrm flipH="1" rot="20602200">
              <a:off x="1646640" y="3580920"/>
              <a:ext cx="2876760" cy="1630440"/>
            </a:xfrm>
            <a:custGeom>
              <a:avLst/>
              <a:gdLst>
                <a:gd name="textAreaLeft" fmla="*/ -360 w 2876760"/>
                <a:gd name="textAreaRight" fmla="*/ 2876760 w 2876760"/>
                <a:gd name="textAreaTop" fmla="*/ 0 h 1630440"/>
                <a:gd name="textAreaBottom" fmla="*/ 1630800 h 163044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4" name="Arc 8"/>
            <p:cNvSpPr/>
            <p:nvPr/>
          </p:nvSpPr>
          <p:spPr>
            <a:xfrm rot="20601600">
              <a:off x="3486240" y="19965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5" name="Arc 9"/>
            <p:cNvSpPr/>
            <p:nvPr/>
          </p:nvSpPr>
          <p:spPr>
            <a:xfrm flipH="1" rot="20602200">
              <a:off x="1447560" y="264924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6" name="Oval 10"/>
            <p:cNvSpPr/>
            <p:nvPr/>
          </p:nvSpPr>
          <p:spPr>
            <a:xfrm rot="20601600">
              <a:off x="305424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23698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427464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9" name="Text Box 13"/>
            <p:cNvSpPr/>
            <p:nvPr/>
          </p:nvSpPr>
          <p:spPr>
            <a:xfrm>
              <a:off x="59511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0" name="Freeform 14"/>
            <p:cNvSpPr/>
            <p:nvPr/>
          </p:nvSpPr>
          <p:spPr>
            <a:xfrm>
              <a:off x="6377040" y="3203640"/>
              <a:ext cx="1295280" cy="171144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1" name="Arc 15"/>
            <p:cNvSpPr/>
            <p:nvPr/>
          </p:nvSpPr>
          <p:spPr>
            <a:xfrm rot="20539200">
              <a:off x="4775040" y="3209400"/>
              <a:ext cx="2984760" cy="134640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346400"/>
                <a:gd name="textAreaBottom" fmla="*/ 1346760 h 134640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2" name="Freeform 16"/>
            <p:cNvSpPr/>
            <p:nvPr/>
          </p:nvSpPr>
          <p:spPr>
            <a:xfrm>
              <a:off x="4676760" y="3684600"/>
              <a:ext cx="1758960" cy="123660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3" name="Text Box 17"/>
            <p:cNvSpPr/>
            <p:nvPr/>
          </p:nvSpPr>
          <p:spPr>
            <a:xfrm>
              <a:off x="5951160" y="3660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4" name="Text Box 18"/>
            <p:cNvSpPr/>
            <p:nvPr/>
          </p:nvSpPr>
          <p:spPr>
            <a:xfrm>
              <a:off x="41986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5" name="Text Box 19"/>
            <p:cNvSpPr/>
            <p:nvPr/>
          </p:nvSpPr>
          <p:spPr>
            <a:xfrm>
              <a:off x="22935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rot="20601600">
              <a:off x="31561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7" name="Freeform 21"/>
            <p:cNvSpPr/>
            <p:nvPr/>
          </p:nvSpPr>
          <p:spPr>
            <a:xfrm>
              <a:off x="4853160" y="4079880"/>
              <a:ext cx="1282680" cy="102852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48" name="Text Box 7"/>
          <p:cNvSpPr/>
          <p:nvPr/>
        </p:nvSpPr>
        <p:spPr>
          <a:xfrm>
            <a:off x="309600" y="635328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50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51" name="Freeform 4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1306440"/>
                <a:gd name="textAreaBottom" fmla="*/ 1306800 h 130644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2" name="Freeform 5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>
                <a:gd name="textAreaLeft" fmla="*/ 0 w 4334760"/>
                <a:gd name="textAreaRight" fmla="*/ 4335120 w 4334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3" name="Freeform 6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>
                <a:gd name="textAreaLeft" fmla="*/ 0 w 4785120"/>
                <a:gd name="textAreaRight" fmla="*/ 4785480 w 47851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4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55" name="Freeform 8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6" name="Freeform 9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>
                <a:gd name="textAreaLeft" fmla="*/ 0 w 3256920"/>
                <a:gd name="textAreaRight" fmla="*/ 3257280 w 325692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7" name="Freeform 10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>
                <a:gd name="textAreaLeft" fmla="*/ 0 w 3781440"/>
                <a:gd name="textAreaRight" fmla="*/ 3781800 w 3781440"/>
                <a:gd name="textAreaTop" fmla="*/ 0 h 766800"/>
                <a:gd name="textAreaBottom" fmla="*/ 767160 h 7668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8" name="Group 11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59" name="Freeform 12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>
                <a:gd name="textAreaLeft" fmla="*/ 0 w 720000"/>
                <a:gd name="textAreaRight" fmla="*/ 720000 w 7200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0" name="Freeform 13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>
                <a:gd name="textAreaLeft" fmla="*/ 0 w 2174400"/>
                <a:gd name="textAreaRight" fmla="*/ 2174760 w 21744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1" name="Freeform 14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>
                <a:gd name="textAreaLeft" fmla="*/ 0 w 2813760"/>
                <a:gd name="textAreaRight" fmla="*/ 2814120 w 281376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63" name="Freeform 16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893880"/>
                <a:gd name="textAreaBottom" fmla="*/ 894240 h 89388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>
                <a:gd name="textAreaLeft" fmla="*/ 0 w 1084680"/>
                <a:gd name="textAreaRight" fmla="*/ 1085040 w 108468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>
                <a:gd name="textAreaLeft" fmla="*/ 0 w 1831320"/>
                <a:gd name="textAreaRight" fmla="*/ 1831680 w 1831320"/>
                <a:gd name="textAreaTop" fmla="*/ 0 h 761040"/>
                <a:gd name="textAreaBottom" fmla="*/ 761400 h 76104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6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67" name="Freeform 20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>
                <a:gd name="textAreaLeft" fmla="*/ 0 w 850320"/>
                <a:gd name="textAreaRight" fmla="*/ 850680 w 85032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9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70" name="Line 23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1" name="Line 24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2" name="Line 25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3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4" name="Line 27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5" name="Line 28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76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7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9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0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1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2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3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4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5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6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7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9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90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AutoShape 63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Text Box 64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AutoShape 65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fd2ea"/>
              </a:gs>
              <a:gs pos="100000">
                <a:srgbClr val="378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Text Box 66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1" name="AutoShape 67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Text Box 68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AutoShape 69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fd2ea"/>
              </a:gs>
              <a:gs pos="100000">
                <a:srgbClr val="378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Text Box 70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AutoShape 71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8f1df"/>
              </a:gs>
              <a:gs pos="100000">
                <a:srgbClr val="48be6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Text Box 72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97" name="Group 73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98" name="Rectangle 74"/>
            <p:cNvSpPr/>
            <p:nvPr/>
          </p:nvSpPr>
          <p:spPr>
            <a:xfrm>
              <a:off x="2897280" y="167796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" name="Rectangle 75"/>
            <p:cNvSpPr/>
            <p:nvPr/>
          </p:nvSpPr>
          <p:spPr>
            <a:xfrm>
              <a:off x="2895480" y="257940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" name="Rectangle 76"/>
            <p:cNvSpPr/>
            <p:nvPr/>
          </p:nvSpPr>
          <p:spPr>
            <a:xfrm>
              <a:off x="2900520" y="32605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1" name="Rectangle 77"/>
            <p:cNvSpPr/>
            <p:nvPr/>
          </p:nvSpPr>
          <p:spPr>
            <a:xfrm>
              <a:off x="2897280" y="394632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2" name="Rectangle 78"/>
            <p:cNvSpPr/>
            <p:nvPr/>
          </p:nvSpPr>
          <p:spPr>
            <a:xfrm>
              <a:off x="2897280" y="4630680"/>
              <a:ext cx="110880" cy="1699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3" name="Rectangle 79"/>
            <p:cNvSpPr/>
            <p:nvPr/>
          </p:nvSpPr>
          <p:spPr>
            <a:xfrm>
              <a:off x="2900520" y="532764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4" name="Group 80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105" name="Rectangle 81"/>
            <p:cNvSpPr/>
            <p:nvPr/>
          </p:nvSpPr>
          <p:spPr>
            <a:xfrm>
              <a:off x="5895720" y="1676520"/>
              <a:ext cx="117720" cy="3812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" name="Rectangle 82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Rectangle 83"/>
            <p:cNvSpPr/>
            <p:nvPr/>
          </p:nvSpPr>
          <p:spPr>
            <a:xfrm>
              <a:off x="5898960" y="32594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Rectangle 84"/>
            <p:cNvSpPr/>
            <p:nvPr/>
          </p:nvSpPr>
          <p:spPr>
            <a:xfrm>
              <a:off x="5895720" y="394524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Rectangle 85"/>
            <p:cNvSpPr/>
            <p:nvPr/>
          </p:nvSpPr>
          <p:spPr>
            <a:xfrm>
              <a:off x="5895720" y="462924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0" name="Rectangle 86"/>
            <p:cNvSpPr/>
            <p:nvPr/>
          </p:nvSpPr>
          <p:spPr>
            <a:xfrm>
              <a:off x="5898960" y="5326200"/>
              <a:ext cx="117360" cy="38088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1" name="Rectangle 87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5f87d7">
                  <a:alpha val="0"/>
                </a:srgbClr>
              </a:gs>
              <a:gs pos="50000">
                <a:srgbClr val="2c3e63">
                  <a:alpha val="58039"/>
                </a:srgbClr>
              </a:gs>
              <a:gs pos="100000">
                <a:srgbClr val="5f87d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WordArt 3"/>
          <p:cNvSpPr txBox="1"/>
          <p:nvPr/>
        </p:nvSpPr>
        <p:spPr>
          <a:xfrm>
            <a:off x="1981080" y="2514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87d7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87d7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371240"/>
            <a:ext cx="8132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aeae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d9ebc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23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24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25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a4a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126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d2d2ff"/>
                  </a:gs>
                  <a:gs pos="100000">
                    <a:srgbClr val="99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127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e592a"/>
                </a:gs>
                <a:gs pos="100000">
                  <a:srgbClr val="86c0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0"/>
                  </a:srgbClr>
                </a:gs>
                <a:gs pos="100000">
                  <a:srgbClr val="d5e9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a9847"/>
                </a:gs>
                <a:gs pos="100000">
                  <a:srgbClr val="86c05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6c05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31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133" name="Group 29"/>
          <p:cNvGrpSpPr/>
          <p:nvPr/>
        </p:nvGrpSpPr>
        <p:grpSpPr>
          <a:xfrm>
            <a:off x="1523880" y="1600200"/>
            <a:ext cx="1752840" cy="4266720"/>
            <a:chOff x="1523880" y="1600200"/>
            <a:chExt cx="1752840" cy="4266720"/>
          </a:xfrm>
        </p:grpSpPr>
        <p:sp>
          <p:nvSpPr>
            <p:cNvPr id="134" name="AutoShape 30"/>
            <p:cNvSpPr/>
            <p:nvPr/>
          </p:nvSpPr>
          <p:spPr>
            <a:xfrm>
              <a:off x="1600200" y="320004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5" name="Text Box 31"/>
            <p:cNvSpPr/>
            <p:nvPr/>
          </p:nvSpPr>
          <p:spPr>
            <a:xfrm>
              <a:off x="1818000" y="38858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6" name="AutoShape 32"/>
            <p:cNvSpPr/>
            <p:nvPr/>
          </p:nvSpPr>
          <p:spPr>
            <a:xfrm>
              <a:off x="1523880" y="1600200"/>
              <a:ext cx="1752840" cy="205704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040"/>
                <a:gd name="textAreaBottom" fmla="*/ 1967400 h 2057040"/>
              </a:gdLst>
              <a:ahLst/>
              <a:rect l="textAreaLeft" t="textAreaTop" r="textAreaRight" b="textAreaBottom"/>
              <a:pathLst>
                <a:path w="21600" h="25348">
                  <a:moveTo>
                    <a:pt x="3782" y="0"/>
                  </a:moveTo>
                  <a:arcTo wR="3782" hR="3782" stAng="16200000" swAng="-5400000"/>
                  <a:lnTo>
                    <a:pt x="0" y="21566"/>
                  </a:lnTo>
                  <a:arcTo wR="3782" hR="3782" stAng="10800000" swAng="-5400000"/>
                  <a:lnTo>
                    <a:pt x="17818" y="2534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7" name="AutoShape 33"/>
            <p:cNvSpPr/>
            <p:nvPr/>
          </p:nvSpPr>
          <p:spPr>
            <a:xfrm>
              <a:off x="1565280" y="3092040"/>
              <a:ext cx="1676520" cy="51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8" name="AutoShape 34"/>
            <p:cNvSpPr/>
            <p:nvPr/>
          </p:nvSpPr>
          <p:spPr>
            <a:xfrm>
              <a:off x="1565280" y="1622160"/>
              <a:ext cx="167652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198324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0" name="AutoShape 36"/>
            <p:cNvSpPr/>
            <p:nvPr/>
          </p:nvSpPr>
          <p:spPr>
            <a:xfrm flipV="1">
              <a:off x="1709640" y="553392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6059520" y="2286000"/>
            <a:ext cx="1712880" cy="3580920"/>
            <a:chOff x="6059520" y="2286000"/>
            <a:chExt cx="1712880" cy="3580920"/>
          </a:xfrm>
        </p:grpSpPr>
        <p:sp>
          <p:nvSpPr>
            <p:cNvPr id="142" name="AutoShape 38"/>
            <p:cNvSpPr/>
            <p:nvPr/>
          </p:nvSpPr>
          <p:spPr>
            <a:xfrm>
              <a:off x="6121440" y="365724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6339240" y="431136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>
              <a:off x="6059520" y="2286000"/>
              <a:ext cx="1712880" cy="190152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520"/>
                <a:gd name="textAreaBottom" fmla="*/ 1813680 h 1901520"/>
              </a:gdLst>
              <a:ahLst/>
              <a:rect l="textAreaLeft" t="textAreaTop" r="textAreaRight" b="textAreaBottom"/>
              <a:pathLst>
                <a:path w="21600" h="23978">
                  <a:moveTo>
                    <a:pt x="3782" y="0"/>
                  </a:moveTo>
                  <a:arcTo wR="3782" hR="3782" stAng="16200000" swAng="-5400000"/>
                  <a:lnTo>
                    <a:pt x="0" y="20196"/>
                  </a:lnTo>
                  <a:arcTo wR="3782" hR="3782" stAng="10800000" swAng="-5400000"/>
                  <a:lnTo>
                    <a:pt x="17818" y="2397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>
              <a:off x="6099120" y="3665160"/>
              <a:ext cx="1639800" cy="47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>
              <a:off x="6099120" y="2306520"/>
              <a:ext cx="1639800" cy="46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6555240" y="27428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>
              <a:off x="624852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9" name="Group 45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50" name="AutoShape 46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1" name="AutoShape 47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2" name="AutoShape 48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AutoShape 49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6" name="AutoShape 52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3ccff"/>
              </a:gs>
              <a:gs pos="100000">
                <a:srgbClr val="90e3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cc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0e3ff">
                  <a:alpha val="12156"/>
                </a:srgbClr>
              </a:gs>
              <a:gs pos="100000">
                <a:srgbClr val="33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3ccff"/>
              </a:gs>
              <a:gs pos="100000">
                <a:srgbClr val="90e3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5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0e3ff">
                  <a:alpha val="12156"/>
                </a:srgbClr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5e76"/>
              </a:gs>
              <a:gs pos="5000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92a"/>
              </a:gs>
              <a:gs pos="50000">
                <a:srgbClr val="86c05a"/>
              </a:gs>
              <a:gs pos="100000">
                <a:srgbClr val="3e592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83" name="Group 9"/>
          <p:cNvGrpSpPr/>
          <p:nvPr/>
        </p:nvGrpSpPr>
        <p:grpSpPr>
          <a:xfrm>
            <a:off x="2917080" y="1981080"/>
            <a:ext cx="3158280" cy="2841480"/>
            <a:chOff x="2917080" y="1981080"/>
            <a:chExt cx="3158280" cy="2841480"/>
          </a:xfrm>
        </p:grpSpPr>
        <p:sp>
          <p:nvSpPr>
            <p:cNvPr id="184" name="AutoShape 10"/>
            <p:cNvSpPr/>
            <p:nvPr/>
          </p:nvSpPr>
          <p:spPr>
            <a:xfrm flipH="1" rot="16200000">
              <a:off x="2835000" y="30963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 flipH="1" rot="5400000">
              <a:off x="5666400" y="30420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 flipH="1" rot="10800000">
              <a:off x="424836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3e53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7" name="Oval 13"/>
            <p:cNvSpPr/>
            <p:nvPr/>
          </p:nvSpPr>
          <p:spPr>
            <a:xfrm>
              <a:off x="322128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8" name="Oval 14"/>
            <p:cNvSpPr/>
            <p:nvPr/>
          </p:nvSpPr>
          <p:spPr>
            <a:xfrm>
              <a:off x="336708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9" name="Oval 15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0" name="Oval 16"/>
            <p:cNvSpPr/>
            <p:nvPr/>
          </p:nvSpPr>
          <p:spPr>
            <a:xfrm>
              <a:off x="350064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1" name="Oval 17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2" name="Oval 18"/>
            <p:cNvSpPr/>
            <p:nvPr/>
          </p:nvSpPr>
          <p:spPr>
            <a:xfrm>
              <a:off x="363240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3" name="Text Box 19"/>
            <p:cNvSpPr/>
            <p:nvPr/>
          </p:nvSpPr>
          <p:spPr>
            <a:xfrm>
              <a:off x="381096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94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2880" y="641988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99ccff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9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9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2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1" name="Group 37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232" name="Group 38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233" name="Oval 39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34" name="Freeform 40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8000"/>
                  <a:gd name="textAreaBottom" fmla="*/ 378360 h 3780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35" name="Text Box 41"/>
            <p:cNvSpPr/>
            <p:nvPr/>
          </p:nvSpPr>
          <p:spPr>
            <a:xfrm>
              <a:off x="404568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36" name="Text Box 42"/>
          <p:cNvSpPr/>
          <p:nvPr/>
        </p:nvSpPr>
        <p:spPr>
          <a:xfrm>
            <a:off x="457200" y="203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7" name="Rectangle 43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8" name="Group 44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239" name="Group 45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240" name="Oval 46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1" name="Freeform 47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>
                  <a:gd name="textAreaLeft" fmla="*/ 0 w 838800"/>
                  <a:gd name="textAreaRight" fmla="*/ 839160 w 83880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2" name="Text Box 48"/>
            <p:cNvSpPr/>
            <p:nvPr/>
          </p:nvSpPr>
          <p:spPr>
            <a:xfrm>
              <a:off x="4656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3" name="Text Box 49"/>
          <p:cNvSpPr/>
          <p:nvPr/>
        </p:nvSpPr>
        <p:spPr>
          <a:xfrm>
            <a:off x="1066680" y="3184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4" name="Rectangle 50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246" name="Group 52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247" name="Oval 53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8" name="Freeform 54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9" name="Text Box 55"/>
            <p:cNvSpPr/>
            <p:nvPr/>
          </p:nvSpPr>
          <p:spPr>
            <a:xfrm>
              <a:off x="544176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0" name="Text Box 56"/>
          <p:cNvSpPr/>
          <p:nvPr/>
        </p:nvSpPr>
        <p:spPr>
          <a:xfrm>
            <a:off x="182880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1" name="Rectangle 57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253" name="Oval 59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5" name="Text Box 61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6" name="Text Box 62"/>
          <p:cNvSpPr/>
          <p:nvPr/>
        </p:nvSpPr>
        <p:spPr>
          <a:xfrm>
            <a:off x="2438280" y="5405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7" name="AutoShape 63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4:19Z</dcterms:created>
  <dc:creator>ppt宝藏</dc:creator>
  <dc:description/>
  <dc:language>en-US</dc:language>
  <cp:lastModifiedBy>a</cp:lastModifiedBy>
  <dcterms:modified xsi:type="dcterms:W3CDTF">2015-07-25T07:14:38Z</dcterms:modified>
  <cp:revision>10</cp:revision>
  <dc:subject/>
  <dc:title>www.pptbz.com</dc:title>
</cp:coreProperties>
</file>