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6F3-ABE2-49B6-967B-C761F38A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0BB-6E72-4E22-9EB6-D8AD859A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AFC-5103-4E33-97B9-CB4CA0E3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FCF-6E53-4910-A827-8BA98D24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747-AAD9-4B54-9DC6-E281451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4B7-4890-4DCF-B2A2-7660AD02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FBB-0E7E-4385-BCBE-C8A00CB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02C-C409-447F-A572-CBE1638F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B7F-7E3A-4B92-84B7-6A5CAEEB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EE0-BF92-47AD-8E88-2513B0D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1FA-6191-4BEC-8CF5-E3ECBC4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9E8-F418-476A-9A39-8AD4727A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9F35-2C24-4FD1-BC26-77F05E81CA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4-1.png"/>
          <p:cNvPicPr/>
          <p:nvPr/>
        </p:nvPicPr>
        <p:blipFill>
          <a:blip r:embed="rId3"/>
          <a:stretch/>
        </p:blipFill>
        <p:spPr>
          <a:xfrm>
            <a:off x="571680" y="1071720"/>
            <a:ext cx="5211720" cy="189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4-2.png"/>
          <p:cNvPicPr/>
          <p:nvPr/>
        </p:nvPicPr>
        <p:blipFill>
          <a:blip r:embed="rId3"/>
          <a:stretch/>
        </p:blipFill>
        <p:spPr>
          <a:xfrm>
            <a:off x="357120" y="5851440"/>
            <a:ext cx="3857760" cy="506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4-3.png"/>
          <p:cNvPicPr/>
          <p:nvPr/>
        </p:nvPicPr>
        <p:blipFill>
          <a:blip r:embed="rId3"/>
          <a:stretch/>
        </p:blipFill>
        <p:spPr>
          <a:xfrm>
            <a:off x="785880" y="1428840"/>
            <a:ext cx="4876560" cy="974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1966320" y="47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酷炫迈克通用</a:t>
            </a:r>
            <a:r>
              <a:rPr b="0" lang="en-US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方叠体简"/>
                <a:ea typeface="汉仪方叠体简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6:03:07Z</dcterms:created>
  <dc:creator>User</dc:creator>
  <dc:description/>
  <dc:language>en-US</dc:language>
  <cp:lastModifiedBy>王玉清</cp:lastModifiedBy>
  <dcterms:modified xsi:type="dcterms:W3CDTF">2016-02-21T07:20:41Z</dcterms:modified>
  <cp:revision>4</cp:revision>
  <dc:subject/>
  <dc:title>幻灯片 1</dc:title>
</cp:coreProperties>
</file>