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5A3-3C24-4667-B34D-BBB2C54B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0B1-2AA5-48D3-9F98-0FB3CFD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B86-BE42-4EF1-B6F5-C532E47F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324-7CB3-4F40-9549-ED584E4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5D6-1D3E-44E6-8E44-734BCCFD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D68-196F-47E1-80D8-A670D86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9CF-857E-402D-B1B2-16108FAC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450-DCB5-4346-817C-2BDEA62F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6F1-70CF-43E2-9654-0761F371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C4B-E8D5-4C17-8EC5-35D8CEE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97F-A515-4861-872F-34D559D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087-7293-4F80-B6C7-38087A9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4457880" y="332892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8389800" y="6599160"/>
            <a:ext cx="731880" cy="258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BDC4-50F0-4457-BB07-92C51F1CAB6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领带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cp:lastPrinted>1899-12-30T00:00:00Z</cp:lastPrinted>
  <dcterms:modified xsi:type="dcterms:W3CDTF">2015-07-25T07:45:17Z</dcterms:modified>
  <cp:revision>19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