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910-AAD3-4649-979E-1F897033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D0B-C9EB-44D4-B5AB-5E3571E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29F-3F27-4683-9FA1-898E249C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A6D-9B36-433A-B975-7A67800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3C-C41A-4CB2-A578-8F9CC7BA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BD2-A6F4-49EC-8FD7-DE6003D4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656-8402-456E-BF33-174CE30D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39C-9E4F-4B4B-B955-595952DD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4C5-7B2C-4AB5-8C44-27C99A86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1ED-7679-4C09-AA32-937FFBE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E83-F702-477C-BBE7-9223291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DC9-D842-410F-BB89-AF44A86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BA29-C564-4841-88B1-2FF699A59641}" type="slidenum"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43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蓝绿脚印通用</a:t>
            </a:r>
            <a:r>
              <a:rPr b="0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5943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3440" y="152280"/>
            <a:ext cx="58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15800" y="1295280"/>
            <a:ext cx="58676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932040" y="76320"/>
            <a:ext cx="775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Adobe Caslon Pro"/>
                <a:ea typeface="Adobe Arabic"/>
              </a:rPr>
              <a:t>MyTemplatesShop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887400" y="1600200"/>
            <a:ext cx="7799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6:03:30Z</dcterms:created>
  <dc:creator>pc</dc:creator>
  <dc:description/>
  <dc:language>en-US</dc:language>
  <cp:lastModifiedBy>王玉清</cp:lastModifiedBy>
  <dcterms:modified xsi:type="dcterms:W3CDTF">2016-02-25T02:34:22Z</dcterms:modified>
  <cp:revision>2</cp:revision>
  <dc:subject/>
  <dc:title>Name of presentation</dc:title>
</cp:coreProperties>
</file>