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697-4190-4D57-9239-DB404766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C9D-9DFD-4C29-8826-4CA0C17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8F9-5749-4A2C-A956-EC8E45AC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ADF-12C1-4AEA-80FF-6843DC9D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01E-591F-4B1D-8222-2CD42002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7BE-A56C-4665-98BE-CD7C60C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C98-0326-4DA5-A843-1650DF09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64B-C8B9-423C-AB05-780D53A2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163-899F-4F59-A86A-C6C094C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B1C-819B-4E83-AC53-2667F7C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BFB-C673-4493-BE1E-4AF987C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7D2-1EEF-4C1B-8E12-5C36971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F12-B7AF-41E6-8BFB-89F8289A4DE0}" type="slidenum"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43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蓝绿脚印通用</a:t>
            </a:r>
            <a:r>
              <a:rPr b="0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5943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3440" y="152280"/>
            <a:ext cx="58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15800" y="1295280"/>
            <a:ext cx="58676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932040" y="76320"/>
            <a:ext cx="775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Adobe Caslon Pro"/>
                <a:ea typeface="Adobe Arabic"/>
              </a:rPr>
              <a:t>MyTemplatesShop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887400" y="1600200"/>
            <a:ext cx="7799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6:03:30Z</dcterms:created>
  <dc:creator>pc</dc:creator>
  <dc:description/>
  <dc:language>en-US</dc:language>
  <cp:lastModifiedBy>王玉清</cp:lastModifiedBy>
  <dcterms:modified xsi:type="dcterms:W3CDTF">2016-02-25T02:34:22Z</dcterms:modified>
  <cp:revision>2</cp:revision>
  <dc:subject/>
  <dc:title>Name of presentation</dc:title>
</cp:coreProperties>
</file>