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3CD1-CE3B-48D8-832E-802F1AC26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ACE4-EC49-47EC-A44D-F76A54E9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7378-2C8A-4DC8-BEE6-EC1CF4BD8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7CD5-4CCE-4140-BB43-0B573146F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6621-FE5A-4312-BB7A-D16C4BA2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08C4-3989-4F72-8EFC-5C9FEBB3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13A4-20B6-44A7-B4E5-06AD8934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48A7-B4A8-4372-B79B-18BB758D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6EC0-DB1A-46F4-8AE6-E261B639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EF98-1048-48FA-8CD4-31D1888A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35CF-A9BE-4A72-8187-BFD4FB8E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0D9F-D0FA-4732-BCAA-BA788A29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F07C-F577-43D2-816E-E6A64CB6ED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3" descr=""/>
          <p:cNvPicPr/>
          <p:nvPr/>
        </p:nvPicPr>
        <p:blipFill>
          <a:blip r:embed="rId2"/>
          <a:stretch/>
        </p:blipFill>
        <p:spPr>
          <a:xfrm>
            <a:off x="609480" y="4151160"/>
            <a:ext cx="7925040" cy="706680"/>
          </a:xfrm>
          <a:prstGeom prst="rect">
            <a:avLst/>
          </a:prstGeom>
          <a:ln w="0">
            <a:noFill/>
          </a:ln>
        </p:spPr>
      </p:pic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0"/>
            <a:ext cx="6843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2-21T03:38:17Z</dcterms:modified>
  <cp:revision>11</cp:revision>
  <dc:subject/>
  <dc:title>幻灯片 1</dc:title>
</cp:coreProperties>
</file>