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F100-4DD3-44F2-AC37-AE782EA1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AD6-8165-4131-98C8-6CD779E2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B87-9E2D-4FD2-AA59-6E194DA4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455-20BE-4692-B32E-7C358E79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B1E3-F122-429A-B7AD-7203CD17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97BC-75F8-4E85-AC6D-E76730D9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8395-F303-483B-A46B-C202B221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5BB7-20B9-459E-9C57-1CEF5666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C20D-4087-4092-8C8E-6B2DDF61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F195-D289-463C-92CC-B59F108D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7326-2FE5-439D-A1C9-A05F09CB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A3B-D10F-4B65-A99C-DF6DC634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51A9-507D-48E6-B253-EC6BFCDB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F761-719F-4B81-9765-BDBAB4D2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DC2B-6FE0-44E0-9ECA-6EAD3A88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8F44-1528-4CF0-A302-B36A75CD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1FF8-FD5E-4E3E-A307-3CB335A5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6A4-7413-43B2-BBED-E1A1A4B5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D8F-6D93-4CC0-8F26-E8664E21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EB4-8C16-45ED-A293-7F6A05DE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FFE-3358-4644-92A6-04A85837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568-3388-45EC-B5F7-FE0AC13B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F063-E0D3-4625-A90F-66899418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70C-5E86-4B97-9151-C99EF607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46B1D3-2181-4310-B433-EB59EA5DBF2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BBC18F-D516-487D-BB8F-4F1F31E6002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81000"/>
            <a:ext cx="7772040" cy="56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方正综艺简体"/>
                <a:ea typeface="方正综艺简体"/>
              </a:rPr>
              <a:t>篮球运动员写真通用</a:t>
            </a:r>
            <a:r>
              <a:rPr b="0" lang="en-US" sz="4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方正综艺简体"/>
                <a:ea typeface="方正综艺简体"/>
              </a:rPr>
              <a:t>PPT</a:t>
            </a:r>
            <a:r>
              <a:rPr b="0" lang="zh-CN" sz="4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方正综艺简体"/>
                <a:ea typeface="方正综艺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662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4320" y="6525360"/>
            <a:ext cx="79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3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3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3</Template>
  <TotalTime>14</TotalTime>
  <Application>LibreOffice/7.4.7.2$Linux_X86_64 LibreOffice_project/40$Build-2</Application>
  <AppVersion>15.0000</AppVersion>
  <Words>99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sports</cp:category>
  <dcterms:created xsi:type="dcterms:W3CDTF">2012-11-01T15:26:53Z</dcterms:created>
  <dc:creator>admin</dc:creator>
  <dc:description>Made by Leawo Software. To find more free PowerPoint templates, please visit http://www.leawo.com/free-powerpoint-templates/</dc:description>
  <cp:keywords>Basketball PowerPoint templates</cp:keywords>
  <dc:language>en-US</dc:language>
  <cp:lastModifiedBy>王玉清</cp:lastModifiedBy>
  <dcterms:modified xsi:type="dcterms:W3CDTF">2016-02-21T03:32:45Z</dcterms:modified>
  <cp:revision>7</cp:revision>
  <dc:subject>basketball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