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CB3-9973-4F83-BC1C-B3AD90E6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45D-E993-4DF4-963E-2CFCE8E3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82C-C5F8-4A55-ACAF-31007235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02A-83E5-4369-81F1-2329FFAE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19A8-F077-4238-AC28-B1089DB6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EB8-FF49-4980-AE57-383F42A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3E4B-0FDA-4A8E-A72D-4AD0195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3A04-80C7-4FE1-B630-4A85B790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0A6A-5B13-465B-9947-F7B36DA0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3CB-2F1A-4493-AA76-C3ABDA5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5973-9894-4E91-89CD-E46AC56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A15-4481-4771-BAE4-FC61A0E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34C-5A78-4891-89D9-94827F3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4CC1-B1D2-4ECD-83EA-6CCBCCC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A8C-AD3A-46C5-B28B-404AD84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E6A4-56AC-4562-A482-7C9D10F2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C6E2-E4DA-4A17-A5F6-DA2D8F5F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6B30-A1FB-4852-AE4D-7EB78F4A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87F7-0488-4279-8EEE-610E2DC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9492-FA68-4995-8461-5C27BFC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393F-966C-4E64-B41F-899FBAA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9610-D704-4D83-B4B1-156FA61A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6F6-A3FC-44BF-B637-BF580A8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0182-6590-4366-962B-F0AEDA08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AB90-E555-49D4-A759-D214924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D697-8924-4354-B12B-3C819C9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C727-0FA4-458C-91BA-FC40E09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5C2C-82C5-4E12-A5B8-3073D2A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1752-3D5A-4C43-BAB2-D066BAB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9B81-E8FC-4825-B63B-7A8AB4A8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7C68-ED1F-49C2-9CA6-C5984DD0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2CCA-A054-4B0B-801A-80D7AB9A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2F8D-278C-41F4-AA5E-7AA273E5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D9E-28E3-48B5-8250-AA396DD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4D52-2A14-4ED5-BBE3-5996501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2AE2-8837-4999-8F04-69DA8B8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DC76-64D3-476B-8CCA-BB8ACAD3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34F5-3876-4B02-8F21-373AD7E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1314-4932-48C6-95B3-4DC63A8B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99A1-5481-4B24-97B0-2E0AF43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CE00-AC8E-49CE-891F-7CF261E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89CC-6FD3-4921-9397-056A41BB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87B7-2C05-444B-BAF0-C6159C53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E32-F8C1-4536-9869-53D934DB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929-9838-457F-8235-8CC1652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C1E-87E3-4EC8-8A53-978E482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C01-7016-4F66-AA93-DECC046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76D-8408-4FE0-A8E9-516D6CA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4650480"/>
            <a:ext cx="8245800" cy="7632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63360" rotWithShape="0">
              <a:srgbClr val="002060">
                <a:alpha val="68000"/>
              </a:srgbClr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E8E9EC-67AA-4A9A-9AF8-B42B5A0D61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2207520"/>
            <a:ext cx="822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62F793-A945-4912-9EA9-6820A84A65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8680" y="527760"/>
            <a:ext cx="6566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28680" y="1443960"/>
            <a:ext cx="65660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935CC-BDE8-4A60-9A4C-403D148656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48920" y="266544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36800" y="20354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36800" y="266544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61058E-565D-4974-B171-A9860D0C6B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640" y="4650480"/>
            <a:ext cx="9000000" cy="7632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63360" rotWithShape="0">
              <a:srgbClr val="002060">
                <a:alpha val="6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蓝色玻璃球网状立体背景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8920" y="5414040"/>
            <a:ext cx="8245800" cy="61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8920" y="2207520"/>
            <a:ext cx="822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28680" y="527760"/>
            <a:ext cx="6566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28680" y="1443960"/>
            <a:ext cx="65660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7160" y="6479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8920" y="266544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36800" y="20354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36800" y="266544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  <Words>81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王玉清</cp:lastModifiedBy>
  <dcterms:modified xsi:type="dcterms:W3CDTF">2016-02-24T02:59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