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788-3923-48C7-8AA3-2C92EDB2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77C-FA2D-4C06-B1D2-1A7B577B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E99-4C1E-461C-9758-235EEF34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24E-D91B-437B-AAC6-9DE4D848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34A-25F2-4F30-BA07-1412427C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E9B8-D38E-4C89-8B14-1DF1F2F4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825-C5A4-4761-ADF6-D5A07598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0D3-AB1D-4CE9-B4A4-D112C629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3CF-4A98-4279-99E7-28C2C86F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B93-9B53-4942-9861-A82A6EF4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1A5-B549-4FA9-AC0C-023C23BD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BA0-0790-46D0-8E08-0BFF6D13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d2ef"/>
            </a:gs>
            <a:gs pos="100000">
              <a:srgbClr val="05578d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e48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e48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e48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e48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e48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e48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e48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e48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320" y="6172200"/>
            <a:ext cx="119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000" spc="-1" strike="noStrike">
                <a:solidFill>
                  <a:srgbClr val="09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FDEC-4A50-493E-8A6F-AEE0A77B7194}" type="datetime">
              <a:rPr b="1" i="1" lang="zh-CN" sz="1000" spc="-1" strike="noStrike">
                <a:solidFill>
                  <a:srgbClr val="09304a"/>
                </a:solidFill>
                <a:latin typeface="Century Gothic"/>
              </a:rPr>
              <a:t>26/7/29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2800" spc="-1" strike="noStrike">
                <a:solidFill>
                  <a:srgbClr val="09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2357-3DA6-4FAF-8C2C-E87812B5E852}" type="slidenum">
              <a:rPr b="1" i="1" lang="zh-CN" sz="2800" spc="-1" strike="noStrike">
                <a:solidFill>
                  <a:srgbClr val="09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接连接符 7"/>
          <p:cNvSpPr/>
          <p:nvPr/>
        </p:nvSpPr>
        <p:spPr>
          <a:xfrm flipH="1">
            <a:off x="9946800" y="-2435400"/>
            <a:ext cx="3451320" cy="2988000"/>
          </a:xfrm>
          <a:prstGeom prst="line">
            <a:avLst/>
          </a:prstGeom>
          <a:ln cap="rnd" w="284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直接连接符 8"/>
          <p:cNvSpPr/>
          <p:nvPr/>
        </p:nvSpPr>
        <p:spPr>
          <a:xfrm flipH="1">
            <a:off x="9231120" y="-2263680"/>
            <a:ext cx="4167000" cy="3603600"/>
          </a:xfrm>
          <a:prstGeom prst="line">
            <a:avLst/>
          </a:prstGeom>
          <a:ln cap="rnd" w="3816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直接连接符 9"/>
          <p:cNvSpPr/>
          <p:nvPr/>
        </p:nvSpPr>
        <p:spPr>
          <a:xfrm flipH="1">
            <a:off x="9707040" y="-2101680"/>
            <a:ext cx="3691080" cy="3235320"/>
          </a:xfrm>
          <a:prstGeom prst="line">
            <a:avLst/>
          </a:prstGeom>
          <a:ln cap="rnd" w="284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直接连接符 10"/>
          <p:cNvSpPr/>
          <p:nvPr/>
        </p:nvSpPr>
        <p:spPr>
          <a:xfrm flipH="1">
            <a:off x="10896120" y="-2625840"/>
            <a:ext cx="3451320" cy="2987640"/>
          </a:xfrm>
          <a:prstGeom prst="line">
            <a:avLst/>
          </a:prstGeom>
          <a:ln cap="rnd" w="284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 flipH="1">
            <a:off x="10421640" y="-2419200"/>
            <a:ext cx="3451320" cy="2987640"/>
          </a:xfrm>
          <a:prstGeom prst="line">
            <a:avLst/>
          </a:prstGeom>
          <a:ln cap="rnd" w="284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 rot="19140600">
            <a:off x="9173520" y="-1587960"/>
            <a:ext cx="26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人”展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文本框 14"/>
          <p:cNvSpPr/>
          <p:nvPr/>
        </p:nvSpPr>
        <p:spPr>
          <a:xfrm rot="19140600">
            <a:off x="10791360" y="78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赵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884600" y="133992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蓝色大学生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 L -0.39497 0.44282 E">
                                      <p:cBhvr>
                                        <p:cTn id="6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11111E-006 0 L -0.39497 0.44282 E">
                                      <p:cBhvr>
                                        <p:cTn id="8" dur="75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11111E-006 0 L -0.39497 0.44282 E">
                                      <p:cBhvr>
                                        <p:cTn id="10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11111E-006 0 L -0.39497 0.44282 E">
                                      <p:cBhvr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11111E-006 0 L -0.39497 0.44282 E">
                                      <p:cBhvr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 L -0.39497 0.44282 E">
                                      <p:cBhvr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11111E-006 0 L -0.39497 0.44282 E">
                                      <p:cBhvr>
                                        <p:cTn id="19" dur="7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497 0.44282 L -1.2408 1.4294 E">
                                      <p:cBhvr>
                                        <p:cTn id="23" dur="75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39497 0.44282 L -1.2408 1.4294 E">
                                      <p:cBhvr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39497 0.44282 L -1.2408 1.4294 E">
                                      <p:cBhvr>
                                        <p:cTn id="27" dur="75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497 0.44282 L -1.2408 1.4294 E">
                                      <p:cBhvr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39497 0.44282 L -1.2408 1.4294 E">
                                      <p:cBhvr>
                                        <p:cTn id="31" dur="75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497 0.44282 L -1.2408 1.4294 E">
                                      <p:cBhvr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39497 0.44282 L -1.2408 1.4294 E">
                                      <p:cBhvr>
                                        <p:cTn id="36" dur="75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3"/>
          <p:cNvSpPr/>
          <p:nvPr/>
        </p:nvSpPr>
        <p:spPr>
          <a:xfrm>
            <a:off x="5848200" y="309600"/>
            <a:ext cx="3043440" cy="624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文本框 4"/>
          <p:cNvSpPr/>
          <p:nvPr/>
        </p:nvSpPr>
        <p:spPr>
          <a:xfrm>
            <a:off x="6330240" y="339840"/>
            <a:ext cx="207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姓名：赵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选部门：学生社团团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织实践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任职务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学生社团团委宣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部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学院学生会文艺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学院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级年委会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评价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踏实努力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真负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较强的责任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善于与人沟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意识及协作精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应能力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态度积极向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丰富的社团活动和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工作经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344680" y="372960"/>
            <a:ext cx="3309840" cy="1625760"/>
          </a:xfrm>
          <a:prstGeom prst="rect">
            <a:avLst/>
          </a:prstGeom>
          <a:gradFill rotWithShape="0">
            <a:gsLst>
              <a:gs pos="0">
                <a:srgbClr val="031f40"/>
              </a:gs>
              <a:gs pos="100000">
                <a:srgbClr val="117bf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三新人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实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团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再次前进，寻求突破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争取加入组织实践，提升团委品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1058760" y="849240"/>
            <a:ext cx="4595760" cy="5075280"/>
          </a:xfrm>
          <a:prstGeom prst="rect">
            <a:avLst/>
          </a:prstGeom>
          <a:gradFill rotWithShape="0">
            <a:gsLst>
              <a:gs pos="0">
                <a:srgbClr val="6e0957"/>
              </a:gs>
              <a:gs pos="100000">
                <a:srgbClr val="f046c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二新人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历练、新的启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工作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次提升，助力年级建设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辅导员助理，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级年委会委员长、电子信息工程专业专业负责人：成为年级建设中老师的得力助手，协助辅导员完成多项年级工作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团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的开始，成绩突出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学院学生会文艺部部长，信息学院学生社团团委宣传部部长：</a:t>
            </a:r>
            <a:r>
              <a:rPr b="1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五四评比活动、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  <a:ea typeface="Century Gothic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大赛、团校培训、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幼圆"/>
              </a:rPr>
              <a:t>“</a:t>
            </a:r>
            <a:r>
              <a:rPr b="1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三强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幼圆"/>
              </a:rPr>
              <a:t>”</a:t>
            </a:r>
            <a:r>
              <a:rPr b="1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歌手大赛、十佳歌手大赛。领导力和执行力进一步提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33280" y="1347840"/>
            <a:ext cx="5423040" cy="5075280"/>
          </a:xfrm>
          <a:prstGeom prst="rect">
            <a:avLst/>
          </a:prstGeom>
          <a:gradFill rotWithShape="0">
            <a:gsLst>
              <a:gs pos="0">
                <a:srgbClr val="841718"/>
              </a:gs>
              <a:gs pos="100000">
                <a:srgbClr val="e66f7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一新人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历、学习、自我的成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班长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凝聚同学，积极团建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阳光接力，社会实践，多项集体荣誉，“优秀团支部”“院级五四评比一等奖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团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历丰富，迅速成长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津大学青年志愿者协     会和信息学院学生社团团委：社团见面会、“曼可顿面包创意大赛”、“牧羊地儿童村系列志愿活动”、“温暖西部”计划、植树节绿色义卖、信息学院信息领航人、天津大学青年志愿者协会独立大会等众多社团活动、与天津市工友之家保持联系并加入到流动儿童教育工作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上箭头 8"/>
          <p:cNvSpPr/>
          <p:nvPr/>
        </p:nvSpPr>
        <p:spPr>
          <a:xfrm>
            <a:off x="2949480" y="1822320"/>
            <a:ext cx="1971720" cy="3025800"/>
          </a:xfrm>
          <a:prstGeom prst="upArrow">
            <a:avLst>
              <a:gd name="adj1" fmla="val 50000"/>
              <a:gd name="adj2" fmla="val 49952"/>
            </a:avLst>
          </a:prstGeom>
          <a:gradFill rotWithShape="0">
            <a:gsLst>
              <a:gs pos="0">
                <a:srgbClr val="306799"/>
              </a:gs>
              <a:gs pos="100000">
                <a:srgbClr val="0327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锐利提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直接连接符 10"/>
          <p:cNvSpPr/>
          <p:nvPr/>
        </p:nvSpPr>
        <p:spPr>
          <a:xfrm flipV="1">
            <a:off x="111240" y="6219720"/>
            <a:ext cx="0" cy="67968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直接连接符 12"/>
          <p:cNvSpPr/>
          <p:nvPr/>
        </p:nvSpPr>
        <p:spPr>
          <a:xfrm flipV="1">
            <a:off x="817560" y="5609880"/>
            <a:ext cx="0" cy="67932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直接连接符 13"/>
          <p:cNvSpPr/>
          <p:nvPr/>
        </p:nvSpPr>
        <p:spPr>
          <a:xfrm flipV="1">
            <a:off x="1857240" y="4959360"/>
            <a:ext cx="0" cy="65088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直接连接符 14"/>
          <p:cNvSpPr/>
          <p:nvPr/>
        </p:nvSpPr>
        <p:spPr>
          <a:xfrm flipH="1">
            <a:off x="137880" y="6219720"/>
            <a:ext cx="679320" cy="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直接连接符 15"/>
          <p:cNvSpPr/>
          <p:nvPr/>
        </p:nvSpPr>
        <p:spPr>
          <a:xfrm flipH="1">
            <a:off x="817560" y="5610240"/>
            <a:ext cx="1038240" cy="144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直接连接符 18"/>
          <p:cNvSpPr/>
          <p:nvPr/>
        </p:nvSpPr>
        <p:spPr>
          <a:xfrm flipH="1">
            <a:off x="1856880" y="5022720"/>
            <a:ext cx="3799080" cy="648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1481E-006 L 0.00052 0.71226 E">
                                      <p:cBhvr>
                                        <p:cTn id="6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0.00052 0.73056 E">
                                      <p:cBhvr>
                                        <p:cTn id="72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0.00486 0.7199 E">
                                      <p:cBhvr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F:\tao\ghhjgkhj.png"/>
          <p:cNvPicPr/>
          <p:nvPr/>
        </p:nvPicPr>
        <p:blipFill>
          <a:blip r:embed="rId1"/>
          <a:srcRect l="22421" t="2388" r="16339" b="3821"/>
          <a:stretch/>
        </p:blipFill>
        <p:spPr>
          <a:xfrm>
            <a:off x="1222200" y="944640"/>
            <a:ext cx="6302520" cy="5437080"/>
          </a:xfrm>
          <a:prstGeom prst="rect">
            <a:avLst/>
          </a:prstGeom>
          <a:ln w="0">
            <a:noFill/>
          </a:ln>
        </p:spPr>
      </p:pic>
      <p:grpSp>
        <p:nvGrpSpPr>
          <p:cNvPr id="69" name="组合 3"/>
          <p:cNvGrpSpPr/>
          <p:nvPr/>
        </p:nvGrpSpPr>
        <p:grpSpPr>
          <a:xfrm>
            <a:off x="-507960" y="3373560"/>
            <a:ext cx="4859280" cy="193680"/>
            <a:chOff x="-507960" y="3373560"/>
            <a:chExt cx="4859280" cy="193680"/>
          </a:xfrm>
        </p:grpSpPr>
        <p:sp>
          <p:nvSpPr>
            <p:cNvPr id="70" name="Freeform 18"/>
            <p:cNvSpPr/>
            <p:nvPr/>
          </p:nvSpPr>
          <p:spPr>
            <a:xfrm>
              <a:off x="-507960" y="3373560"/>
              <a:ext cx="4829400" cy="193680"/>
            </a:xfrm>
            <a:custGeom>
              <a:avLst/>
              <a:gdLst>
                <a:gd name="textAreaLeft" fmla="*/ 0 w 4829400"/>
                <a:gd name="textAreaRight" fmla="*/ 4829760 w 4829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3042" h="122">
                  <a:moveTo>
                    <a:pt x="0" y="0"/>
                  </a:moveTo>
                  <a:lnTo>
                    <a:pt x="1445" y="0"/>
                  </a:lnTo>
                  <a:lnTo>
                    <a:pt x="1663" y="122"/>
                  </a:lnTo>
                  <a:lnTo>
                    <a:pt x="2390" y="122"/>
                  </a:lnTo>
                  <a:lnTo>
                    <a:pt x="2570" y="38"/>
                  </a:lnTo>
                  <a:lnTo>
                    <a:pt x="3042" y="3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19"/>
            <p:cNvSpPr/>
            <p:nvPr/>
          </p:nvSpPr>
          <p:spPr>
            <a:xfrm>
              <a:off x="4324680" y="3417840"/>
              <a:ext cx="26640" cy="2700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6"/>
          <p:cNvGrpSpPr/>
          <p:nvPr/>
        </p:nvGrpSpPr>
        <p:grpSpPr>
          <a:xfrm>
            <a:off x="4352760" y="3368520"/>
            <a:ext cx="4859640" cy="195480"/>
            <a:chOff x="4352760" y="3368520"/>
            <a:chExt cx="4859640" cy="195480"/>
          </a:xfrm>
        </p:grpSpPr>
        <p:sp>
          <p:nvSpPr>
            <p:cNvPr id="73" name="Freeform 11"/>
            <p:cNvSpPr/>
            <p:nvPr/>
          </p:nvSpPr>
          <p:spPr>
            <a:xfrm>
              <a:off x="4382640" y="3368520"/>
              <a:ext cx="4829760" cy="195480"/>
            </a:xfrm>
            <a:custGeom>
              <a:avLst/>
              <a:gdLst>
                <a:gd name="textAreaLeft" fmla="*/ 0 w 4829760"/>
                <a:gd name="textAreaRight" fmla="*/ 4830120 w 482976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3042" h="123">
                  <a:moveTo>
                    <a:pt x="3042" y="0"/>
                  </a:moveTo>
                  <a:lnTo>
                    <a:pt x="1596" y="0"/>
                  </a:lnTo>
                  <a:lnTo>
                    <a:pt x="1379" y="123"/>
                  </a:lnTo>
                  <a:lnTo>
                    <a:pt x="651" y="123"/>
                  </a:lnTo>
                  <a:lnTo>
                    <a:pt x="472" y="38"/>
                  </a:lnTo>
                  <a:lnTo>
                    <a:pt x="0" y="38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12"/>
            <p:cNvSpPr/>
            <p:nvPr/>
          </p:nvSpPr>
          <p:spPr>
            <a:xfrm>
              <a:off x="4352760" y="3417840"/>
              <a:ext cx="25200" cy="2520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任意多边形 9"/>
          <p:cNvSpPr/>
          <p:nvPr/>
        </p:nvSpPr>
        <p:spPr>
          <a:xfrm>
            <a:off x="-1158840" y="2619360"/>
            <a:ext cx="5600520" cy="3619440"/>
          </a:xfrm>
          <a:custGeom>
            <a:avLst/>
            <a:gdLst>
              <a:gd name="textAreaLeft" fmla="*/ 0 w 5600520"/>
              <a:gd name="textAreaRight" fmla="*/ 5600880 w 5600520"/>
              <a:gd name="textAreaTop" fmla="*/ 0 h 3619440"/>
              <a:gd name="textAreaBottom" fmla="*/ 3619800 h 3619440"/>
            </a:gdLst>
            <a:ahLst/>
            <a:rect l="textAreaLeft" t="textAreaTop" r="textAreaRight" b="textAreaBottom"/>
            <a:pathLst>
              <a:path w="5600700" h="3619271">
                <a:moveTo>
                  <a:pt x="5600700" y="476021"/>
                </a:moveTo>
                <a:cubicBezTo>
                  <a:pt x="4927600" y="-165329"/>
                  <a:pt x="3912054" y="-126322"/>
                  <a:pt x="3219450" y="399821"/>
                </a:cubicBezTo>
                <a:cubicBezTo>
                  <a:pt x="2526846" y="925964"/>
                  <a:pt x="2155825" y="2225446"/>
                  <a:pt x="1619250" y="2762021"/>
                </a:cubicBezTo>
                <a:cubicBezTo>
                  <a:pt x="1082675" y="3298596"/>
                  <a:pt x="541337" y="3458933"/>
                  <a:pt x="0" y="3619271"/>
                </a:cubicBezTo>
              </a:path>
            </a:pathLst>
          </a:custGeom>
          <a:noFill/>
          <a:ln cap="rnd" w="3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任意多边形 10"/>
          <p:cNvSpPr/>
          <p:nvPr/>
        </p:nvSpPr>
        <p:spPr>
          <a:xfrm>
            <a:off x="155520" y="2681280"/>
            <a:ext cx="4416480" cy="3176640"/>
          </a:xfrm>
          <a:custGeom>
            <a:avLst/>
            <a:gdLst>
              <a:gd name="textAreaLeft" fmla="*/ 0 w 4416480"/>
              <a:gd name="textAreaRight" fmla="*/ 4416840 w 4416480"/>
              <a:gd name="textAreaTop" fmla="*/ 0 h 3176640"/>
              <a:gd name="textAreaBottom" fmla="*/ 3177000 h 3176640"/>
            </a:gdLst>
            <a:ahLst/>
            <a:rect l="textAreaLeft" t="textAreaTop" r="textAreaRight" b="textAreaBottom"/>
            <a:pathLst>
              <a:path w="4416878" h="3177677">
                <a:moveTo>
                  <a:pt x="4416878" y="485277"/>
                </a:moveTo>
                <a:cubicBezTo>
                  <a:pt x="3743778" y="-156073"/>
                  <a:pt x="2713716" y="-141256"/>
                  <a:pt x="2035628" y="409077"/>
                </a:cubicBezTo>
                <a:cubicBezTo>
                  <a:pt x="1357540" y="959410"/>
                  <a:pt x="1276803" y="2336303"/>
                  <a:pt x="0" y="3177677"/>
                </a:cubicBezTo>
              </a:path>
            </a:pathLst>
          </a:custGeom>
          <a:noFill/>
          <a:ln cap="rnd" w="3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任意多边形 11"/>
          <p:cNvSpPr/>
          <p:nvPr/>
        </p:nvSpPr>
        <p:spPr>
          <a:xfrm>
            <a:off x="903240" y="2736720"/>
            <a:ext cx="3579840" cy="2924280"/>
          </a:xfrm>
          <a:custGeom>
            <a:avLst/>
            <a:gdLst>
              <a:gd name="textAreaLeft" fmla="*/ 0 w 3579840"/>
              <a:gd name="textAreaRight" fmla="*/ 3580200 w 3579840"/>
              <a:gd name="textAreaTop" fmla="*/ 0 h 2924280"/>
              <a:gd name="textAreaBottom" fmla="*/ 2924640 h 2924280"/>
            </a:gdLst>
            <a:ahLst/>
            <a:rect l="textAreaLeft" t="textAreaTop" r="textAreaRight" b="textAreaBottom"/>
            <a:pathLst>
              <a:path w="3578678" h="2923118">
                <a:moveTo>
                  <a:pt x="3578678" y="421218"/>
                </a:moveTo>
                <a:cubicBezTo>
                  <a:pt x="3032578" y="-42332"/>
                  <a:pt x="2149474" y="-160865"/>
                  <a:pt x="1553028" y="256118"/>
                </a:cubicBezTo>
                <a:cubicBezTo>
                  <a:pt x="956582" y="673101"/>
                  <a:pt x="667203" y="2196044"/>
                  <a:pt x="0" y="2923118"/>
                </a:cubicBezTo>
              </a:path>
            </a:pathLst>
          </a:custGeom>
          <a:noFill/>
          <a:ln cap="rnd" w="3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任意多边形 12"/>
          <p:cNvSpPr/>
          <p:nvPr/>
        </p:nvSpPr>
        <p:spPr>
          <a:xfrm rot="16200000">
            <a:off x="5084640" y="2528280"/>
            <a:ext cx="2475000" cy="4710240"/>
          </a:xfrm>
          <a:custGeom>
            <a:avLst/>
            <a:gdLst>
              <a:gd name="textAreaLeft" fmla="*/ 0 w 2475000"/>
              <a:gd name="textAreaRight" fmla="*/ 2475360 w 2475000"/>
              <a:gd name="textAreaTop" fmla="*/ 0 h 4710240"/>
              <a:gd name="textAreaBottom" fmla="*/ 4710600 h 4710240"/>
            </a:gdLst>
            <a:ahLst/>
            <a:rect l="textAreaLeft" t="textAreaTop" r="textAreaRight" b="textAreaBottom"/>
            <a:pathLst>
              <a:path w="2473775" h="4709197">
                <a:moveTo>
                  <a:pt x="2473775" y="670594"/>
                </a:moveTo>
                <a:cubicBezTo>
                  <a:pt x="2194375" y="-72356"/>
                  <a:pt x="1647821" y="-256507"/>
                  <a:pt x="1235525" y="416594"/>
                </a:cubicBezTo>
                <a:cubicBezTo>
                  <a:pt x="823229" y="1089695"/>
                  <a:pt x="832303" y="3372523"/>
                  <a:pt x="0" y="4709197"/>
                </a:cubicBezTo>
              </a:path>
            </a:pathLst>
          </a:custGeom>
          <a:noFill/>
          <a:ln cap="rnd" w="3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任意多边形 13"/>
          <p:cNvSpPr/>
          <p:nvPr/>
        </p:nvSpPr>
        <p:spPr>
          <a:xfrm rot="16200000">
            <a:off x="4545720" y="3040920"/>
            <a:ext cx="2155680" cy="347184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3471840"/>
              <a:gd name="textAreaBottom" fmla="*/ 3472200 h 3471840"/>
            </a:gdLst>
            <a:ahLst/>
            <a:rect l="textAreaLeft" t="textAreaTop" r="textAreaRight" b="textAreaBottom"/>
            <a:pathLst>
              <a:path w="2156272" h="3471394">
                <a:moveTo>
                  <a:pt x="2156272" y="563085"/>
                </a:moveTo>
                <a:cubicBezTo>
                  <a:pt x="1876872" y="-179865"/>
                  <a:pt x="1201201" y="-137533"/>
                  <a:pt x="841822" y="397985"/>
                </a:cubicBezTo>
                <a:cubicBezTo>
                  <a:pt x="482443" y="933503"/>
                  <a:pt x="591002" y="2083923"/>
                  <a:pt x="0" y="3471394"/>
                </a:cubicBezTo>
              </a:path>
            </a:pathLst>
          </a:custGeom>
          <a:noFill/>
          <a:ln cap="rnd" w="3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任意多边形 14"/>
          <p:cNvSpPr/>
          <p:nvPr/>
        </p:nvSpPr>
        <p:spPr>
          <a:xfrm rot="16200000">
            <a:off x="3753720" y="3772800"/>
            <a:ext cx="2270160" cy="2138400"/>
          </a:xfrm>
          <a:custGeom>
            <a:avLst/>
            <a:gdLst>
              <a:gd name="textAreaLeft" fmla="*/ 0 w 2270160"/>
              <a:gd name="textAreaRight" fmla="*/ 2270520 w 2270160"/>
              <a:gd name="textAreaTop" fmla="*/ 0 h 2138400"/>
              <a:gd name="textAreaBottom" fmla="*/ 2138760 h 2138400"/>
            </a:gdLst>
            <a:ahLst/>
            <a:rect l="textAreaLeft" t="textAreaTop" r="textAreaRight" b="textAreaBottom"/>
            <a:pathLst>
              <a:path w="2270572" h="2138055">
                <a:moveTo>
                  <a:pt x="2270572" y="677546"/>
                </a:moveTo>
                <a:cubicBezTo>
                  <a:pt x="1991172" y="-65404"/>
                  <a:pt x="1347251" y="-150075"/>
                  <a:pt x="918022" y="194946"/>
                </a:cubicBezTo>
                <a:cubicBezTo>
                  <a:pt x="488793" y="539967"/>
                  <a:pt x="552902" y="928387"/>
                  <a:pt x="0" y="2138055"/>
                </a:cubicBezTo>
              </a:path>
            </a:pathLst>
          </a:custGeom>
          <a:noFill/>
          <a:ln cap="rnd" w="3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任意多边形 15"/>
          <p:cNvSpPr/>
          <p:nvPr/>
        </p:nvSpPr>
        <p:spPr>
          <a:xfrm>
            <a:off x="5013360" y="1549440"/>
            <a:ext cx="3957480" cy="2415960"/>
          </a:xfrm>
          <a:custGeom>
            <a:avLst/>
            <a:gdLst>
              <a:gd name="textAreaLeft" fmla="*/ 0 w 3957480"/>
              <a:gd name="textAreaRight" fmla="*/ 3957840 w 3957480"/>
              <a:gd name="textAreaTop" fmla="*/ 0 h 2415960"/>
              <a:gd name="textAreaBottom" fmla="*/ 2416320 h 2415960"/>
            </a:gdLst>
            <a:ahLst/>
            <a:rect l="textAreaLeft" t="textAreaTop" r="textAreaRight" b="textAreaBottom"/>
            <a:pathLst>
              <a:path w="3956957" h="2416410">
                <a:moveTo>
                  <a:pt x="0" y="2070100"/>
                </a:moveTo>
                <a:cubicBezTo>
                  <a:pt x="809625" y="2618316"/>
                  <a:pt x="1350736" y="2422374"/>
                  <a:pt x="1778000" y="2120900"/>
                </a:cubicBezTo>
                <a:cubicBezTo>
                  <a:pt x="2205264" y="1819426"/>
                  <a:pt x="3215519" y="326571"/>
                  <a:pt x="3956957" y="0"/>
                </a:cubicBezTo>
              </a:path>
            </a:pathLst>
          </a:custGeom>
          <a:noFill/>
          <a:ln cap="rnd" w="3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任意多边形 16"/>
          <p:cNvSpPr/>
          <p:nvPr/>
        </p:nvSpPr>
        <p:spPr>
          <a:xfrm>
            <a:off x="4886280" y="2705040"/>
            <a:ext cx="3376800" cy="1344600"/>
          </a:xfrm>
          <a:custGeom>
            <a:avLst/>
            <a:gdLst>
              <a:gd name="textAreaLeft" fmla="*/ 0 w 3376800"/>
              <a:gd name="textAreaRight" fmla="*/ 3377160 w 337680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3376189" h="1344422">
                <a:moveTo>
                  <a:pt x="0" y="846782"/>
                </a:moveTo>
                <a:cubicBezTo>
                  <a:pt x="809625" y="1394998"/>
                  <a:pt x="1597872" y="1470904"/>
                  <a:pt x="2025136" y="1169430"/>
                </a:cubicBezTo>
                <a:cubicBezTo>
                  <a:pt x="2452400" y="867956"/>
                  <a:pt x="2634751" y="326571"/>
                  <a:pt x="3376189" y="0"/>
                </a:cubicBezTo>
              </a:path>
            </a:pathLst>
          </a:custGeom>
          <a:noFill/>
          <a:ln cap="rnd" w="3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组合 17"/>
          <p:cNvGrpSpPr/>
          <p:nvPr/>
        </p:nvGrpSpPr>
        <p:grpSpPr>
          <a:xfrm>
            <a:off x="658800" y="1943280"/>
            <a:ext cx="7826400" cy="2865240"/>
            <a:chOff x="658800" y="1943280"/>
            <a:chExt cx="7826400" cy="2865240"/>
          </a:xfrm>
        </p:grpSpPr>
        <p:sp>
          <p:nvSpPr>
            <p:cNvPr id="84" name="TextBox 28"/>
            <p:cNvSpPr/>
            <p:nvPr/>
          </p:nvSpPr>
          <p:spPr>
            <a:xfrm>
              <a:off x="1913760" y="1943280"/>
              <a:ext cx="5316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青年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Box 29"/>
            <p:cNvSpPr/>
            <p:nvPr/>
          </p:nvSpPr>
          <p:spPr>
            <a:xfrm>
              <a:off x="658800" y="3495600"/>
              <a:ext cx="7826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引领青年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4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4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22" presetSubtype="8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7" dur="400" fill="hold"/>
                                        <p:tgtEl>
                                          <p:spTgt spid="68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" dur="4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4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4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4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9" dur="4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2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4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" dur="4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7" dur="2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52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21"/>
          <p:cNvSpPr/>
          <p:nvPr/>
        </p:nvSpPr>
        <p:spPr>
          <a:xfrm>
            <a:off x="2714760" y="1925640"/>
            <a:ext cx="4632120" cy="2297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淡化部门的界线并加强合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整体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Century Gothic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团委大家庭，亲密联系紧密协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细节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Century Gothic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发挥各部的特长，        强化各自专职能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矩形 23"/>
          <p:cNvSpPr/>
          <p:nvPr/>
        </p:nvSpPr>
        <p:spPr>
          <a:xfrm>
            <a:off x="2733840" y="1574640"/>
            <a:ext cx="4632120" cy="268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淡化部门的界线并加强合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对内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Century Gothic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建设部门内部家文  化，书记部长部员亲如家人，共同成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对外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Century Gothic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加强联系，互相帮助，共同进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假背景" descr=""/>
          <p:cNvPicPr/>
          <p:nvPr/>
        </p:nvPicPr>
        <p:blipFill>
          <a:blip r:embed="rId3"/>
          <a:srcRect l="0" t="0" r="0" b="76674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89" name="假背景2" descr=""/>
          <p:cNvPicPr/>
          <p:nvPr/>
        </p:nvPicPr>
        <p:blipFill>
          <a:blip r:embed="rId4"/>
          <a:srcRect l="0" t="63153" r="0" b="0"/>
          <a:stretch/>
        </p:blipFill>
        <p:spPr>
          <a:xfrm>
            <a:off x="28440" y="4327560"/>
            <a:ext cx="9115560" cy="2519280"/>
          </a:xfrm>
          <a:prstGeom prst="rect">
            <a:avLst/>
          </a:prstGeom>
          <a:ln w="0">
            <a:noFill/>
          </a:ln>
        </p:spPr>
      </p:pic>
      <p:pic>
        <p:nvPicPr>
          <p:cNvPr id="90" name="假背景3" descr=""/>
          <p:cNvPicPr/>
          <p:nvPr/>
        </p:nvPicPr>
        <p:blipFill>
          <a:blip r:embed="rId5"/>
          <a:srcRect l="0" t="31115" r="0" b="0"/>
          <a:stretch/>
        </p:blipFill>
        <p:spPr>
          <a:xfrm>
            <a:off x="0" y="2124000"/>
            <a:ext cx="9139320" cy="472284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"/>
          <p:cNvSpPr/>
          <p:nvPr/>
        </p:nvSpPr>
        <p:spPr>
          <a:xfrm>
            <a:off x="3449520" y="884160"/>
            <a:ext cx="306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体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家文化”建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8"/>
          <p:cNvSpPr/>
          <p:nvPr/>
        </p:nvSpPr>
        <p:spPr>
          <a:xfrm>
            <a:off x="1900080" y="1943280"/>
            <a:ext cx="531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青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直接连接符 27"/>
          <p:cNvSpPr/>
          <p:nvPr/>
        </p:nvSpPr>
        <p:spPr>
          <a:xfrm>
            <a:off x="2214720" y="3267000"/>
            <a:ext cx="385560" cy="180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直接连接符 31"/>
          <p:cNvSpPr/>
          <p:nvPr/>
        </p:nvSpPr>
        <p:spPr>
          <a:xfrm>
            <a:off x="2598840" y="1422360"/>
            <a:ext cx="0" cy="184464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直接连接符 36"/>
          <p:cNvSpPr/>
          <p:nvPr/>
        </p:nvSpPr>
        <p:spPr>
          <a:xfrm flipH="1">
            <a:off x="2585880" y="1422360"/>
            <a:ext cx="4778640" cy="3168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组合 17"/>
          <p:cNvGrpSpPr/>
          <p:nvPr/>
        </p:nvGrpSpPr>
        <p:grpSpPr>
          <a:xfrm>
            <a:off x="658800" y="1943280"/>
            <a:ext cx="7826400" cy="2865240"/>
            <a:chOff x="658800" y="1943280"/>
            <a:chExt cx="7826400" cy="2865240"/>
          </a:xfrm>
        </p:grpSpPr>
        <p:sp>
          <p:nvSpPr>
            <p:cNvPr id="97" name="TextBox 28"/>
            <p:cNvSpPr/>
            <p:nvPr/>
          </p:nvSpPr>
          <p:spPr>
            <a:xfrm>
              <a:off x="1913760" y="1943280"/>
              <a:ext cx="5316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青年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Box 29"/>
            <p:cNvSpPr/>
            <p:nvPr/>
          </p:nvSpPr>
          <p:spPr>
            <a:xfrm>
              <a:off x="658800" y="3495600"/>
              <a:ext cx="7826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引领青年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直接连接符 14"/>
          <p:cNvSpPr/>
          <p:nvPr/>
        </p:nvSpPr>
        <p:spPr>
          <a:xfrm flipH="1">
            <a:off x="2585880" y="3303720"/>
            <a:ext cx="7920" cy="311148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直接连接符 16"/>
          <p:cNvSpPr/>
          <p:nvPr/>
        </p:nvSpPr>
        <p:spPr>
          <a:xfrm flipH="1">
            <a:off x="2595240" y="6375240"/>
            <a:ext cx="4778280" cy="3204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文本框 22"/>
          <p:cNvSpPr/>
          <p:nvPr/>
        </p:nvSpPr>
        <p:spPr>
          <a:xfrm>
            <a:off x="3304800" y="5837400"/>
            <a:ext cx="36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象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和引领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49844 0.09653 E">
                                      <p:cBhvr>
                                        <p:cTn id="24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8"/>
          <p:cNvSpPr/>
          <p:nvPr/>
        </p:nvSpPr>
        <p:spPr>
          <a:xfrm>
            <a:off x="4300560" y="1952640"/>
            <a:ext cx="531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青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直接连接符 5"/>
          <p:cNvSpPr/>
          <p:nvPr/>
        </p:nvSpPr>
        <p:spPr>
          <a:xfrm flipV="1">
            <a:off x="6943680" y="2466720"/>
            <a:ext cx="142920" cy="468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直接连接符 6"/>
          <p:cNvSpPr/>
          <p:nvPr/>
        </p:nvSpPr>
        <p:spPr>
          <a:xfrm>
            <a:off x="6902280" y="622440"/>
            <a:ext cx="0" cy="184464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直接连接符 7"/>
          <p:cNvSpPr/>
          <p:nvPr/>
        </p:nvSpPr>
        <p:spPr>
          <a:xfrm flipH="1">
            <a:off x="528120" y="622440"/>
            <a:ext cx="6316920" cy="288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文本框 18"/>
          <p:cNvSpPr/>
          <p:nvPr/>
        </p:nvSpPr>
        <p:spPr>
          <a:xfrm>
            <a:off x="4833000" y="381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化建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文本框 19"/>
          <p:cNvSpPr/>
          <p:nvPr/>
        </p:nvSpPr>
        <p:spPr>
          <a:xfrm>
            <a:off x="3307680" y="676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日评比平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文本框 20"/>
          <p:cNvSpPr/>
          <p:nvPr/>
        </p:nvSpPr>
        <p:spPr>
          <a:xfrm>
            <a:off x="4115880" y="11890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会实践平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文本框 21"/>
          <p:cNvSpPr/>
          <p:nvPr/>
        </p:nvSpPr>
        <p:spPr>
          <a:xfrm>
            <a:off x="4855680" y="17510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四评比平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文本框 23"/>
          <p:cNvSpPr/>
          <p:nvPr/>
        </p:nvSpPr>
        <p:spPr>
          <a:xfrm>
            <a:off x="2638440" y="2173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文本框 24"/>
          <p:cNvSpPr/>
          <p:nvPr/>
        </p:nvSpPr>
        <p:spPr>
          <a:xfrm>
            <a:off x="1668240" y="1192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文本框 25"/>
          <p:cNvSpPr/>
          <p:nvPr/>
        </p:nvSpPr>
        <p:spPr>
          <a:xfrm>
            <a:off x="2115000" y="1663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宣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文本框 26"/>
          <p:cNvSpPr/>
          <p:nvPr/>
        </p:nvSpPr>
        <p:spPr>
          <a:xfrm>
            <a:off x="912600" y="676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验交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0.24826 0.00255 E">
                                      <p:cBhvr>
                                        <p:cTn id="303" dur="25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组合 2"/>
          <p:cNvGrpSpPr/>
          <p:nvPr/>
        </p:nvGrpSpPr>
        <p:grpSpPr>
          <a:xfrm>
            <a:off x="-1854360" y="1800360"/>
            <a:ext cx="7824960" cy="2865240"/>
            <a:chOff x="-1854360" y="1800360"/>
            <a:chExt cx="7824960" cy="2865240"/>
          </a:xfrm>
        </p:grpSpPr>
        <p:sp>
          <p:nvSpPr>
            <p:cNvPr id="116" name="TextBox 28"/>
            <p:cNvSpPr/>
            <p:nvPr/>
          </p:nvSpPr>
          <p:spPr>
            <a:xfrm>
              <a:off x="-599400" y="1800360"/>
              <a:ext cx="5315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青年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Box 29"/>
            <p:cNvSpPr/>
            <p:nvPr/>
          </p:nvSpPr>
          <p:spPr>
            <a:xfrm>
              <a:off x="-1854360" y="3352680"/>
              <a:ext cx="7824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引领青年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" name="图片 1" descr=""/>
          <p:cNvPicPr/>
          <p:nvPr/>
        </p:nvPicPr>
        <p:blipFill>
          <a:blip r:embed="rId1"/>
          <a:srcRect l="0" t="0" r="-150" b="0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9"/>
          <p:cNvSpPr/>
          <p:nvPr/>
        </p:nvSpPr>
        <p:spPr>
          <a:xfrm>
            <a:off x="-1870200" y="1952640"/>
            <a:ext cx="782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引领青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伪背景" descr=""/>
          <p:cNvPicPr/>
          <p:nvPr/>
        </p:nvPicPr>
        <p:blipFill>
          <a:blip r:embed="rId2"/>
          <a:srcRect l="22345" t="0" r="-150" b="0"/>
          <a:stretch/>
        </p:blipFill>
        <p:spPr>
          <a:xfrm>
            <a:off x="2028960" y="0"/>
            <a:ext cx="711504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直接连接符 5"/>
          <p:cNvSpPr/>
          <p:nvPr/>
        </p:nvSpPr>
        <p:spPr>
          <a:xfrm flipV="1">
            <a:off x="2043000" y="2466720"/>
            <a:ext cx="142920" cy="468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直接连接符 6"/>
          <p:cNvSpPr/>
          <p:nvPr/>
        </p:nvSpPr>
        <p:spPr>
          <a:xfrm>
            <a:off x="2184480" y="622440"/>
            <a:ext cx="0" cy="184464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直接连接符 7"/>
          <p:cNvSpPr/>
          <p:nvPr/>
        </p:nvSpPr>
        <p:spPr>
          <a:xfrm flipH="1">
            <a:off x="2171520" y="622440"/>
            <a:ext cx="6314760" cy="2880"/>
          </a:xfrm>
          <a:prstGeom prst="line">
            <a:avLst/>
          </a:prstGeom>
          <a:ln cap="rnd" w="57240">
            <a:solidFill>
              <a:srgbClr val="ffffff">
                <a:alpha val="6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文本框 44"/>
          <p:cNvSpPr/>
          <p:nvPr/>
        </p:nvSpPr>
        <p:spPr>
          <a:xfrm>
            <a:off x="2817360" y="44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旗帜建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45"/>
          <p:cNvSpPr/>
          <p:nvPr/>
        </p:nvSpPr>
        <p:spPr>
          <a:xfrm>
            <a:off x="4140720" y="785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员素质培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文本框 46"/>
          <p:cNvSpPr/>
          <p:nvPr/>
        </p:nvSpPr>
        <p:spPr>
          <a:xfrm>
            <a:off x="2893320" y="1539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员职能培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文本框 48"/>
          <p:cNvSpPr/>
          <p:nvPr/>
        </p:nvSpPr>
        <p:spPr>
          <a:xfrm>
            <a:off x="6877440" y="785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料整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文本框 49"/>
          <p:cNvSpPr/>
          <p:nvPr/>
        </p:nvSpPr>
        <p:spPr>
          <a:xfrm>
            <a:off x="6474960" y="1370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书面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文本框 50"/>
          <p:cNvSpPr/>
          <p:nvPr/>
        </p:nvSpPr>
        <p:spPr>
          <a:xfrm>
            <a:off x="5900760" y="1819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外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框 51"/>
          <p:cNvSpPr/>
          <p:nvPr/>
        </p:nvSpPr>
        <p:spPr>
          <a:xfrm>
            <a:off x="5094000" y="2225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2d2ef"/>
            </a:gs>
            <a:gs pos="100000">
              <a:srgbClr val="05578d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9" descr="F:\tao\ghhjgkhj.png"/>
          <p:cNvPicPr/>
          <p:nvPr/>
        </p:nvPicPr>
        <p:blipFill>
          <a:blip r:embed="rId1"/>
          <a:srcRect l="22421" t="2388" r="16339" b="3821"/>
          <a:stretch/>
        </p:blipFill>
        <p:spPr>
          <a:xfrm>
            <a:off x="1222200" y="944640"/>
            <a:ext cx="6302520" cy="54370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8"/>
          <p:cNvSpPr/>
          <p:nvPr/>
        </p:nvSpPr>
        <p:spPr>
          <a:xfrm>
            <a:off x="1211400" y="785880"/>
            <a:ext cx="672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青年“家文化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图片 1" descr=""/>
          <p:cNvPicPr/>
          <p:nvPr/>
        </p:nvPicPr>
        <p:blipFill>
          <a:blip r:embed="rId2"/>
          <a:stretch/>
        </p:blipFill>
        <p:spPr>
          <a:xfrm>
            <a:off x="4572000" y="1990800"/>
            <a:ext cx="4572000" cy="343044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2" descr=""/>
          <p:cNvPicPr/>
          <p:nvPr/>
        </p:nvPicPr>
        <p:blipFill>
          <a:blip r:embed="rId3"/>
          <a:stretch/>
        </p:blipFill>
        <p:spPr>
          <a:xfrm>
            <a:off x="0" y="199080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8"/>
          <p:cNvSpPr/>
          <p:nvPr/>
        </p:nvSpPr>
        <p:spPr>
          <a:xfrm rot="20679600">
            <a:off x="-1315440" y="3763800"/>
            <a:ext cx="672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青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28"/>
          <p:cNvSpPr/>
          <p:nvPr/>
        </p:nvSpPr>
        <p:spPr>
          <a:xfrm flipH="1" rot="920400">
            <a:off x="3614040" y="3763800"/>
            <a:ext cx="671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引领青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文本框 17"/>
          <p:cNvSpPr/>
          <p:nvPr/>
        </p:nvSpPr>
        <p:spPr>
          <a:xfrm>
            <a:off x="4381920" y="58690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信息工程学院学生社团团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2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434" dur="400" fill="hold"/>
                                        <p:tgtEl>
                                          <p:spTgt spid="131"/>
                                        </p:tgtEl>
                                      </p:cBhvr>
                                      <p:to x="2000000" y="2000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6" dur="4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2:35:00Z</dcterms:created>
  <dc:creator>赵冲</dc:creator>
  <dc:description/>
  <cp:keywords/>
  <dc:language>en-US</dc:language>
  <cp:lastModifiedBy>王玉清</cp:lastModifiedBy>
  <dcterms:modified xsi:type="dcterms:W3CDTF">2016-02-16T07:40:51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