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FE3-D2DB-4569-8EA8-9E0582FB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47D-2206-4988-A4AA-1A033A41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A71-8E02-49A4-B2A6-C592A28B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D6E-C896-4FC6-9B4B-64E88738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B7E-464A-4E94-A776-46B8E142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EAF-4FD4-4931-AF74-2904132F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352-F844-4DD6-939C-59EFBE8C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457-2294-496B-AE0E-B2800C9D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53B-D16E-47B5-A09F-5E4D769D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DCA-167B-4883-821F-1FAA4AD1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4319-FCDC-4F32-B224-52B4C321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844-4EF2-4DB1-829C-AEB6D5A7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8F20-2F2C-4889-BB24-7C34C991B8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081080" y="2708280"/>
            <a:ext cx="80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色环保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415320" y="220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343680" y="3141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343680" y="4078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343680" y="5086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572000" y="3284640"/>
            <a:ext cx="34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619280" y="3718080"/>
            <a:ext cx="256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267160" y="3716280"/>
            <a:ext cx="247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916360" y="2708280"/>
            <a:ext cx="12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475240" y="2708280"/>
            <a:ext cx="111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332000" y="357336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564000" y="3562200"/>
            <a:ext cx="23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894280" y="35481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-17640" y="652320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427640" y="5445000"/>
            <a:ext cx="23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649520" y="2946240"/>
            <a:ext cx="18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724360" y="29257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597040" y="4035600"/>
            <a:ext cx="19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>王玉清</cp:lastModifiedBy>
  <cp:lastPrinted>1899-12-30T00:00:00Z</cp:lastPrinted>
  <dcterms:modified xsi:type="dcterms:W3CDTF">2016-02-21T03:52:49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