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546-0BD9-46F1-B4B6-D1902C77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E1A-2732-4707-8175-FBC0B80A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01D2-5004-40F4-BD3A-E9B42308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EE3-8E44-48EB-BFC8-50DC358C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FF7-CCE9-437E-AD4E-BE5F7F35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E5A-F304-48CB-B2A1-A798FA9B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12C-A81F-45F0-8204-37C79653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DBB-94A1-4D59-946C-0A0D5EFE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BE5-9709-4AFB-96A3-D23017B4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19C-CBF8-421F-AD77-0A15F5AD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B98-80E8-4B28-B9C3-328F3F1E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C9C-196C-4ED6-B45F-ED1D1852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FB2A-08FA-4DA4-953A-2401B7DE1E9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B59F-1099-4879-93FD-7BC0C0781F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istrator\桌面\113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5756400"/>
          </a:xfrm>
          <a:prstGeom prst="rect">
            <a:avLst/>
          </a:prstGeom>
          <a:ln w="0">
            <a:noFill/>
          </a:ln>
        </p:spPr>
      </p:pic>
      <p:sp>
        <p:nvSpPr>
          <p:cNvPr id="42" name="圆角矩形 46"/>
          <p:cNvSpPr/>
          <p:nvPr/>
        </p:nvSpPr>
        <p:spPr>
          <a:xfrm>
            <a:off x="2917800" y="3648240"/>
            <a:ext cx="3262320" cy="365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3" descr="C:\Documents and Settings\Administrator\桌面\22.png"/>
          <p:cNvPicPr/>
          <p:nvPr/>
        </p:nvPicPr>
        <p:blipFill>
          <a:blip r:embed="rId2"/>
          <a:stretch/>
        </p:blipFill>
        <p:spPr>
          <a:xfrm>
            <a:off x="4067280" y="1849320"/>
            <a:ext cx="1081080" cy="101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2" descr="C:\Documents and Settings\Administrator\桌面\图片1.png"/>
          <p:cNvPicPr/>
          <p:nvPr/>
        </p:nvPicPr>
        <p:blipFill>
          <a:blip r:embed="rId3"/>
          <a:stretch/>
        </p:blipFill>
        <p:spPr>
          <a:xfrm>
            <a:off x="4451400" y="2092320"/>
            <a:ext cx="439560" cy="453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3851280" y="31449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在缓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组合 6"/>
          <p:cNvGrpSpPr/>
          <p:nvPr/>
        </p:nvGrpSpPr>
        <p:grpSpPr>
          <a:xfrm>
            <a:off x="-996840" y="3660480"/>
            <a:ext cx="4056840" cy="336960"/>
            <a:chOff x="-996840" y="3660480"/>
            <a:chExt cx="4056840" cy="336960"/>
          </a:xfrm>
        </p:grpSpPr>
        <p:sp>
          <p:nvSpPr>
            <p:cNvPr id="47" name="流程图: 数据 23"/>
            <p:cNvSpPr/>
            <p:nvPr/>
          </p:nvSpPr>
          <p:spPr>
            <a:xfrm rot="686400">
              <a:off x="203760" y="3687480"/>
              <a:ext cx="302760" cy="28260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流程图: 数据 23"/>
            <p:cNvSpPr/>
            <p:nvPr/>
          </p:nvSpPr>
          <p:spPr>
            <a:xfrm rot="686400">
              <a:off x="484560" y="3687480"/>
              <a:ext cx="302760" cy="28260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流程图: 数据 23"/>
            <p:cNvSpPr/>
            <p:nvPr/>
          </p:nvSpPr>
          <p:spPr>
            <a:xfrm rot="686400">
              <a:off x="765720" y="3687480"/>
              <a:ext cx="302760" cy="28260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流程图: 数据 23"/>
            <p:cNvSpPr/>
            <p:nvPr/>
          </p:nvSpPr>
          <p:spPr>
            <a:xfrm rot="686400">
              <a:off x="1046520" y="3687480"/>
              <a:ext cx="302760" cy="28260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流程图: 数据 23"/>
            <p:cNvSpPr/>
            <p:nvPr/>
          </p:nvSpPr>
          <p:spPr>
            <a:xfrm rot="686400">
              <a:off x="1327320" y="3687480"/>
              <a:ext cx="302760" cy="28260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流程图: 数据 23"/>
            <p:cNvSpPr/>
            <p:nvPr/>
          </p:nvSpPr>
          <p:spPr>
            <a:xfrm rot="686400">
              <a:off x="1609920" y="3687840"/>
              <a:ext cx="301320" cy="2826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流程图: 数据 23"/>
            <p:cNvSpPr/>
            <p:nvPr/>
          </p:nvSpPr>
          <p:spPr>
            <a:xfrm rot="686400">
              <a:off x="1890720" y="3687840"/>
              <a:ext cx="301320" cy="2826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流程图: 数据 23"/>
            <p:cNvSpPr/>
            <p:nvPr/>
          </p:nvSpPr>
          <p:spPr>
            <a:xfrm rot="686400">
              <a:off x="2171520" y="3687840"/>
              <a:ext cx="301320" cy="2826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流程图: 数据 23"/>
            <p:cNvSpPr/>
            <p:nvPr/>
          </p:nvSpPr>
          <p:spPr>
            <a:xfrm rot="686400">
              <a:off x="2452680" y="3687840"/>
              <a:ext cx="301320" cy="2826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流程图: 数据 23"/>
            <p:cNvSpPr/>
            <p:nvPr/>
          </p:nvSpPr>
          <p:spPr>
            <a:xfrm rot="686400">
              <a:off x="2733480" y="3687840"/>
              <a:ext cx="301320" cy="2826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流程图: 数据 23"/>
            <p:cNvSpPr/>
            <p:nvPr/>
          </p:nvSpPr>
          <p:spPr>
            <a:xfrm rot="686400">
              <a:off x="-971640" y="3687840"/>
              <a:ext cx="301320" cy="2826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数据 23"/>
            <p:cNvSpPr/>
            <p:nvPr/>
          </p:nvSpPr>
          <p:spPr>
            <a:xfrm rot="686400">
              <a:off x="-638280" y="3687480"/>
              <a:ext cx="302760" cy="28260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数据 23"/>
            <p:cNvSpPr/>
            <p:nvPr/>
          </p:nvSpPr>
          <p:spPr>
            <a:xfrm rot="686400">
              <a:off x="-357120" y="3687480"/>
              <a:ext cx="302760" cy="28260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流程图: 数据 23"/>
            <p:cNvSpPr/>
            <p:nvPr/>
          </p:nvSpPr>
          <p:spPr>
            <a:xfrm rot="686400">
              <a:off x="-76320" y="3687480"/>
              <a:ext cx="302760" cy="28260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8" descr=""/>
          <p:cNvPicPr/>
          <p:nvPr/>
        </p:nvPicPr>
        <p:blipFill>
          <a:blip r:embed="rId4"/>
          <a:stretch/>
        </p:blipFill>
        <p:spPr>
          <a:xfrm>
            <a:off x="0" y="3578400"/>
            <a:ext cx="2916360" cy="552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C:\Documents and Settings\Administrator\桌面\图片1.png"/>
          <p:cNvPicPr/>
          <p:nvPr/>
        </p:nvPicPr>
        <p:blipFill>
          <a:blip r:embed="rId5"/>
          <a:stretch/>
        </p:blipFill>
        <p:spPr>
          <a:xfrm>
            <a:off x="2916360" y="3649680"/>
            <a:ext cx="3267000" cy="36504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3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4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4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4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5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5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5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5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5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6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6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6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6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6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6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6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7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7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7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7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7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7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7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8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8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8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8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8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8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8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8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8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9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00"/>
          <p:cNvSpPr/>
          <p:nvPr/>
        </p:nvSpPr>
        <p:spPr>
          <a:xfrm>
            <a:off x="5638680" y="3670200"/>
            <a:ext cx="100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0%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9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9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9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9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9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9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9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9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99"/>
          <p:cNvSpPr/>
          <p:nvPr/>
        </p:nvSpPr>
        <p:spPr>
          <a:xfrm>
            <a:off x="562608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1" descr=""/>
          <p:cNvPicPr/>
          <p:nvPr/>
        </p:nvPicPr>
        <p:blipFill>
          <a:blip r:embed="rId6"/>
          <a:stretch/>
        </p:blipFill>
        <p:spPr>
          <a:xfrm>
            <a:off x="6188040" y="3433680"/>
            <a:ext cx="2940120" cy="800280"/>
          </a:xfrm>
          <a:prstGeom prst="rect">
            <a:avLst/>
          </a:prstGeom>
          <a:ln w="0">
            <a:noFill/>
          </a:ln>
        </p:spPr>
      </p:pic>
      <p:sp>
        <p:nvSpPr>
          <p:cNvPr id="164" name="圆角矩形 1"/>
          <p:cNvSpPr/>
          <p:nvPr/>
        </p:nvSpPr>
        <p:spPr>
          <a:xfrm>
            <a:off x="2994120" y="3722760"/>
            <a:ext cx="2657520" cy="216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84d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2094480" y="36180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行楷简体"/>
              </a:rPr>
              <a:t>蓝色缓冲动态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方正行楷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行楷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2"/>
          <p:cNvSpPr/>
          <p:nvPr/>
        </p:nvSpPr>
        <p:spPr>
          <a:xfrm>
            <a:off x="264960" y="5376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022E-016 L 0.35122 1.11022E-016 E">
                                      <p:cBhvr>
                                        <p:cTn id="11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4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4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8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8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16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16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44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44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56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56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64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64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68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68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72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72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72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72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76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76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84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84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92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92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96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96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104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104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112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112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124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124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128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128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132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132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152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152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164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164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72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172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184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184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188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188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192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192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204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204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212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212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216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216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228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228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232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232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244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244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248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248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252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252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256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256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264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264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268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268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272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272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276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276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284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284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288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288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292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292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296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296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304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304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308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308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312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312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316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">
                                  <p:stCondLst>
                                    <p:cond delay="316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328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">
                                  <p:stCondLst>
                                    <p:cond delay="328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332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">
                                  <p:stCondLst>
                                    <p:cond delay="332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344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">
                                  <p:stCondLst>
                                    <p:cond delay="344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348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348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352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352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356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356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364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364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368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368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372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372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376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">
                                  <p:stCondLst>
                                    <p:cond delay="376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384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384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388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388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388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388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Documents and Settings\Administrator\桌面\113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5756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C:\Documents and Settings\Administrator\桌面\未标题-1.jpg"/>
          <p:cNvPicPr/>
          <p:nvPr/>
        </p:nvPicPr>
        <p:blipFill>
          <a:blip r:embed="rId2"/>
          <a:stretch/>
        </p:blipFill>
        <p:spPr>
          <a:xfrm>
            <a:off x="0" y="2773440"/>
            <a:ext cx="9144000" cy="1157040"/>
          </a:xfrm>
          <a:prstGeom prst="rect">
            <a:avLst/>
          </a:prstGeom>
          <a:ln w="0">
            <a:noFill/>
          </a:ln>
        </p:spPr>
      </p:pic>
      <p:grpSp>
        <p:nvGrpSpPr>
          <p:cNvPr id="169" name="组合 1"/>
          <p:cNvGrpSpPr/>
          <p:nvPr/>
        </p:nvGrpSpPr>
        <p:grpSpPr>
          <a:xfrm>
            <a:off x="5580000" y="6585120"/>
            <a:ext cx="466920" cy="448920"/>
            <a:chOff x="5580000" y="6585120"/>
            <a:chExt cx="466920" cy="448920"/>
          </a:xfrm>
        </p:grpSpPr>
        <p:pic>
          <p:nvPicPr>
            <p:cNvPr id="170" name="Picture 8" descr="C:\Documents and Settings\Administrator\桌面\图片1.png"/>
            <p:cNvPicPr/>
            <p:nvPr/>
          </p:nvPicPr>
          <p:blipFill>
            <a:blip r:embed="rId3"/>
            <a:stretch/>
          </p:blipFill>
          <p:spPr>
            <a:xfrm>
              <a:off x="5580000" y="6585120"/>
              <a:ext cx="466920" cy="44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8" descr="C:\Documents and Settings\Administrator\桌面\图片1.png"/>
            <p:cNvPicPr/>
            <p:nvPr/>
          </p:nvPicPr>
          <p:blipFill>
            <a:blip r:embed="rId4"/>
            <a:stretch/>
          </p:blipFill>
          <p:spPr>
            <a:xfrm>
              <a:off x="5784120" y="6979320"/>
              <a:ext cx="56880" cy="5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Picture 8" descr="C:\Documents and Settings\Administrator\桌面\图片1.png"/>
          <p:cNvPicPr/>
          <p:nvPr/>
        </p:nvPicPr>
        <p:blipFill>
          <a:blip r:embed="rId5"/>
          <a:stretch/>
        </p:blipFill>
        <p:spPr>
          <a:xfrm>
            <a:off x="6764400" y="6381720"/>
            <a:ext cx="298440" cy="287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Documents and Settings\Administrator\桌面\图片1.png"/>
          <p:cNvPicPr/>
          <p:nvPr/>
        </p:nvPicPr>
        <p:blipFill>
          <a:blip r:embed="rId6"/>
          <a:stretch/>
        </p:blipFill>
        <p:spPr>
          <a:xfrm>
            <a:off x="4500720" y="6885000"/>
            <a:ext cx="149040" cy="14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Documents and Settings\Administrator\桌面\图片1.png"/>
          <p:cNvPicPr/>
          <p:nvPr/>
        </p:nvPicPr>
        <p:blipFill>
          <a:blip r:embed="rId7"/>
          <a:stretch/>
        </p:blipFill>
        <p:spPr>
          <a:xfrm>
            <a:off x="7956720" y="6000840"/>
            <a:ext cx="71280" cy="68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C:\Documents and Settings\Administrator\桌面\图片1.png"/>
          <p:cNvPicPr/>
          <p:nvPr/>
        </p:nvPicPr>
        <p:blipFill>
          <a:blip r:embed="rId8"/>
          <a:stretch/>
        </p:blipFill>
        <p:spPr>
          <a:xfrm>
            <a:off x="3492360" y="6213600"/>
            <a:ext cx="73080" cy="71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C:\Documents and Settings\Administrator\桌面\图片1.png"/>
          <p:cNvPicPr/>
          <p:nvPr/>
        </p:nvPicPr>
        <p:blipFill>
          <a:blip r:embed="rId9"/>
          <a:stretch/>
        </p:blipFill>
        <p:spPr>
          <a:xfrm>
            <a:off x="1692360" y="6213600"/>
            <a:ext cx="73080" cy="71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Documents and Settings\Administrator\桌面\图片1.png"/>
          <p:cNvPicPr/>
          <p:nvPr/>
        </p:nvPicPr>
        <p:blipFill>
          <a:blip r:embed="rId10"/>
          <a:stretch/>
        </p:blipFill>
        <p:spPr>
          <a:xfrm>
            <a:off x="2360520" y="6442200"/>
            <a:ext cx="252360" cy="242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C:\Documents and Settings\Administrator\桌面\图片1.png"/>
          <p:cNvPicPr/>
          <p:nvPr/>
        </p:nvPicPr>
        <p:blipFill>
          <a:blip r:embed="rId11"/>
          <a:stretch/>
        </p:blipFill>
        <p:spPr>
          <a:xfrm>
            <a:off x="826920" y="5902200"/>
            <a:ext cx="195480" cy="1875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215"/>
          <p:cNvSpPr/>
          <p:nvPr/>
        </p:nvSpPr>
        <p:spPr>
          <a:xfrm>
            <a:off x="3706920" y="4998960"/>
            <a:ext cx="1730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宋体"/>
              </a:rPr>
              <a:t>-- 2 0 1 </a:t>
            </a: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en-US" sz="9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倾 情 出 品 </a:t>
            </a:r>
            <a:r>
              <a:rPr b="0" lang="en-US" sz="900" spc="-1" strike="noStrike">
                <a:solidFill>
                  <a:srgbClr val="ffffff"/>
                </a:solidFill>
                <a:latin typeface="宋体"/>
              </a:rPr>
              <a:t>-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椭圆 37"/>
          <p:cNvSpPr/>
          <p:nvPr/>
        </p:nvSpPr>
        <p:spPr>
          <a:xfrm>
            <a:off x="4738680" y="1486080"/>
            <a:ext cx="264960" cy="26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椭圆 38"/>
          <p:cNvSpPr/>
          <p:nvPr/>
        </p:nvSpPr>
        <p:spPr>
          <a:xfrm>
            <a:off x="4457880" y="1700280"/>
            <a:ext cx="279360" cy="27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椭圆 49"/>
          <p:cNvSpPr/>
          <p:nvPr/>
        </p:nvSpPr>
        <p:spPr>
          <a:xfrm>
            <a:off x="4149720" y="1965240"/>
            <a:ext cx="228600" cy="23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椭圆 50"/>
          <p:cNvSpPr/>
          <p:nvPr/>
        </p:nvSpPr>
        <p:spPr>
          <a:xfrm>
            <a:off x="3324240" y="1486080"/>
            <a:ext cx="225360" cy="225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椭圆 51"/>
          <p:cNvSpPr/>
          <p:nvPr/>
        </p:nvSpPr>
        <p:spPr>
          <a:xfrm>
            <a:off x="3849840" y="1403280"/>
            <a:ext cx="204480" cy="20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椭圆 52"/>
          <p:cNvSpPr/>
          <p:nvPr/>
        </p:nvSpPr>
        <p:spPr>
          <a:xfrm>
            <a:off x="4054320" y="1560600"/>
            <a:ext cx="241560" cy="24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椭圆 53"/>
          <p:cNvSpPr/>
          <p:nvPr/>
        </p:nvSpPr>
        <p:spPr>
          <a:xfrm>
            <a:off x="4738680" y="1854360"/>
            <a:ext cx="195120" cy="19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椭圆 54"/>
          <p:cNvSpPr/>
          <p:nvPr/>
        </p:nvSpPr>
        <p:spPr>
          <a:xfrm>
            <a:off x="5419800" y="2160720"/>
            <a:ext cx="264960" cy="264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椭圆 55"/>
          <p:cNvSpPr/>
          <p:nvPr/>
        </p:nvSpPr>
        <p:spPr>
          <a:xfrm>
            <a:off x="5891040" y="1703520"/>
            <a:ext cx="198720" cy="198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椭圆 56"/>
          <p:cNvSpPr/>
          <p:nvPr/>
        </p:nvSpPr>
        <p:spPr>
          <a:xfrm>
            <a:off x="4876920" y="1758960"/>
            <a:ext cx="236520" cy="236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椭圆 57"/>
          <p:cNvSpPr/>
          <p:nvPr/>
        </p:nvSpPr>
        <p:spPr>
          <a:xfrm rot="11104200">
            <a:off x="5478120" y="1633320"/>
            <a:ext cx="166680" cy="1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椭圆 58"/>
          <p:cNvSpPr/>
          <p:nvPr/>
        </p:nvSpPr>
        <p:spPr>
          <a:xfrm rot="11104200">
            <a:off x="4679640" y="2042640"/>
            <a:ext cx="166680" cy="1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椭圆 59"/>
          <p:cNvSpPr/>
          <p:nvPr/>
        </p:nvSpPr>
        <p:spPr>
          <a:xfrm rot="11104200">
            <a:off x="5297040" y="1758600"/>
            <a:ext cx="166680" cy="1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71"/>
          <p:cNvGrpSpPr/>
          <p:nvPr/>
        </p:nvGrpSpPr>
        <p:grpSpPr>
          <a:xfrm>
            <a:off x="-4643280" y="2772720"/>
            <a:ext cx="5041800" cy="1089720"/>
            <a:chOff x="-4643280" y="2772720"/>
            <a:chExt cx="5041800" cy="1089720"/>
          </a:xfrm>
        </p:grpSpPr>
        <p:grpSp>
          <p:nvGrpSpPr>
            <p:cNvPr id="194" name="组合 51"/>
            <p:cNvGrpSpPr/>
            <p:nvPr/>
          </p:nvGrpSpPr>
          <p:grpSpPr>
            <a:xfrm>
              <a:off x="-4643280" y="2772720"/>
              <a:ext cx="3815280" cy="1089720"/>
              <a:chOff x="-4643280" y="2772720"/>
              <a:chExt cx="3815280" cy="1089720"/>
            </a:xfrm>
          </p:grpSpPr>
          <p:sp>
            <p:nvSpPr>
              <p:cNvPr id="195" name="椭圆 95"/>
              <p:cNvSpPr/>
              <p:nvPr/>
            </p:nvSpPr>
            <p:spPr>
              <a:xfrm>
                <a:off x="-3189240" y="334224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椭圆 96"/>
              <p:cNvSpPr/>
              <p:nvPr/>
            </p:nvSpPr>
            <p:spPr>
              <a:xfrm>
                <a:off x="-3646080" y="2972160"/>
                <a:ext cx="214920" cy="21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椭圆 97"/>
              <p:cNvSpPr/>
              <p:nvPr/>
            </p:nvSpPr>
            <p:spPr>
              <a:xfrm>
                <a:off x="-3021840" y="3654720"/>
                <a:ext cx="45360" cy="165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椭圆 98"/>
              <p:cNvSpPr/>
              <p:nvPr/>
            </p:nvSpPr>
            <p:spPr>
              <a:xfrm>
                <a:off x="-2549880" y="3132000"/>
                <a:ext cx="190800" cy="19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椭圆 99"/>
              <p:cNvSpPr/>
              <p:nvPr/>
            </p:nvSpPr>
            <p:spPr>
              <a:xfrm>
                <a:off x="-2120760" y="3177720"/>
                <a:ext cx="18972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椭圆 100"/>
              <p:cNvSpPr/>
              <p:nvPr/>
            </p:nvSpPr>
            <p:spPr>
              <a:xfrm>
                <a:off x="-1884600" y="291636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椭圆 101"/>
              <p:cNvSpPr/>
              <p:nvPr/>
            </p:nvSpPr>
            <p:spPr>
              <a:xfrm>
                <a:off x="-3310920" y="283752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椭圆 102"/>
              <p:cNvSpPr/>
              <p:nvPr/>
            </p:nvSpPr>
            <p:spPr>
              <a:xfrm>
                <a:off x="-2074680" y="3363120"/>
                <a:ext cx="166680" cy="1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椭圆 103"/>
              <p:cNvSpPr/>
              <p:nvPr/>
            </p:nvSpPr>
            <p:spPr>
              <a:xfrm>
                <a:off x="-2683080" y="3085920"/>
                <a:ext cx="171360" cy="17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椭圆 104"/>
              <p:cNvSpPr/>
              <p:nvPr/>
            </p:nvSpPr>
            <p:spPr>
              <a:xfrm>
                <a:off x="-3921480" y="364644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椭圆 105"/>
              <p:cNvSpPr/>
              <p:nvPr/>
            </p:nvSpPr>
            <p:spPr>
              <a:xfrm>
                <a:off x="-2135160" y="2806560"/>
                <a:ext cx="166680" cy="1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椭圆 106"/>
              <p:cNvSpPr/>
              <p:nvPr/>
            </p:nvSpPr>
            <p:spPr>
              <a:xfrm>
                <a:off x="-1354680" y="3146760"/>
                <a:ext cx="166680" cy="1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椭圆 107"/>
              <p:cNvSpPr/>
              <p:nvPr/>
            </p:nvSpPr>
            <p:spPr>
              <a:xfrm>
                <a:off x="-3462120" y="3171960"/>
                <a:ext cx="166680" cy="1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椭圆 108"/>
              <p:cNvSpPr/>
              <p:nvPr/>
            </p:nvSpPr>
            <p:spPr>
              <a:xfrm>
                <a:off x="-4240440" y="3374280"/>
                <a:ext cx="172800" cy="17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椭圆 109"/>
              <p:cNvSpPr/>
              <p:nvPr/>
            </p:nvSpPr>
            <p:spPr>
              <a:xfrm>
                <a:off x="-994680" y="3153600"/>
                <a:ext cx="166680" cy="1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椭圆 110"/>
              <p:cNvSpPr/>
              <p:nvPr/>
            </p:nvSpPr>
            <p:spPr>
              <a:xfrm>
                <a:off x="-4248720" y="3010680"/>
                <a:ext cx="269640" cy="27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椭圆 111"/>
              <p:cNvSpPr/>
              <p:nvPr/>
            </p:nvSpPr>
            <p:spPr>
              <a:xfrm>
                <a:off x="-3761280" y="3082680"/>
                <a:ext cx="266400" cy="266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椭圆 112"/>
              <p:cNvSpPr/>
              <p:nvPr/>
            </p:nvSpPr>
            <p:spPr>
              <a:xfrm>
                <a:off x="-3843000" y="32727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椭圆 113"/>
              <p:cNvSpPr/>
              <p:nvPr/>
            </p:nvSpPr>
            <p:spPr>
              <a:xfrm>
                <a:off x="-2608920" y="3387600"/>
                <a:ext cx="203400" cy="20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椭圆 114"/>
              <p:cNvSpPr/>
              <p:nvPr/>
            </p:nvSpPr>
            <p:spPr>
              <a:xfrm>
                <a:off x="-2835720" y="2772720"/>
                <a:ext cx="17892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椭圆 115"/>
              <p:cNvSpPr/>
              <p:nvPr/>
            </p:nvSpPr>
            <p:spPr>
              <a:xfrm>
                <a:off x="-3072960" y="3043440"/>
                <a:ext cx="236880" cy="237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椭圆 116"/>
              <p:cNvSpPr/>
              <p:nvPr/>
            </p:nvSpPr>
            <p:spPr>
              <a:xfrm>
                <a:off x="-3627000" y="34506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椭圆 117"/>
              <p:cNvSpPr/>
              <p:nvPr/>
            </p:nvSpPr>
            <p:spPr>
              <a:xfrm>
                <a:off x="-3474720" y="36028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椭圆 118"/>
              <p:cNvSpPr/>
              <p:nvPr/>
            </p:nvSpPr>
            <p:spPr>
              <a:xfrm>
                <a:off x="-4039200" y="347652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椭圆 119"/>
              <p:cNvSpPr/>
              <p:nvPr/>
            </p:nvSpPr>
            <p:spPr>
              <a:xfrm>
                <a:off x="-4643280" y="28900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椭圆 120"/>
              <p:cNvSpPr/>
              <p:nvPr/>
            </p:nvSpPr>
            <p:spPr>
              <a:xfrm>
                <a:off x="-1686960" y="31449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椭圆 121"/>
              <p:cNvSpPr/>
              <p:nvPr/>
            </p:nvSpPr>
            <p:spPr>
              <a:xfrm>
                <a:off x="-1581480" y="29289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" name="组合 85"/>
            <p:cNvGrpSpPr/>
            <p:nvPr/>
          </p:nvGrpSpPr>
          <p:grpSpPr>
            <a:xfrm>
              <a:off x="-3392280" y="2778480"/>
              <a:ext cx="3790800" cy="1073520"/>
              <a:chOff x="-3392280" y="2778480"/>
              <a:chExt cx="3790800" cy="1073520"/>
            </a:xfrm>
          </p:grpSpPr>
          <p:sp>
            <p:nvSpPr>
              <p:cNvPr id="223" name="椭圆 74"/>
              <p:cNvSpPr/>
              <p:nvPr/>
            </p:nvSpPr>
            <p:spPr>
              <a:xfrm rot="11104200">
                <a:off x="-1594440" y="3035160"/>
                <a:ext cx="208080" cy="208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椭圆 75"/>
              <p:cNvSpPr/>
              <p:nvPr/>
            </p:nvSpPr>
            <p:spPr>
              <a:xfrm rot="11104200">
                <a:off x="-2171160" y="335592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椭圆 76"/>
              <p:cNvSpPr/>
              <p:nvPr/>
            </p:nvSpPr>
            <p:spPr>
              <a:xfrm rot="11104200">
                <a:off x="-1200960" y="2779920"/>
                <a:ext cx="45360" cy="165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椭圆 77"/>
              <p:cNvSpPr/>
              <p:nvPr/>
            </p:nvSpPr>
            <p:spPr>
              <a:xfrm rot="11104200">
                <a:off x="-1874160" y="3178440"/>
                <a:ext cx="198360" cy="19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椭圆 78"/>
              <p:cNvSpPr/>
              <p:nvPr/>
            </p:nvSpPr>
            <p:spPr>
              <a:xfrm rot="11104200">
                <a:off x="-2283840" y="3144600"/>
                <a:ext cx="18972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椭圆 79"/>
              <p:cNvSpPr/>
              <p:nvPr/>
            </p:nvSpPr>
            <p:spPr>
              <a:xfrm rot="11104200">
                <a:off x="-1153080" y="356112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椭圆 80"/>
              <p:cNvSpPr/>
              <p:nvPr/>
            </p:nvSpPr>
            <p:spPr>
              <a:xfrm rot="11104200">
                <a:off x="-1714320" y="3304800"/>
                <a:ext cx="171360" cy="17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椭圆 81"/>
              <p:cNvSpPr/>
              <p:nvPr/>
            </p:nvSpPr>
            <p:spPr>
              <a:xfrm rot="11104200">
                <a:off x="-473400" y="280944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椭圆 82"/>
              <p:cNvSpPr/>
              <p:nvPr/>
            </p:nvSpPr>
            <p:spPr>
              <a:xfrm rot="11104200">
                <a:off x="-2280240" y="3539160"/>
                <a:ext cx="166680" cy="1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椭圆 83"/>
              <p:cNvSpPr/>
              <p:nvPr/>
            </p:nvSpPr>
            <p:spPr>
              <a:xfrm rot="11104200">
                <a:off x="-3027600" y="3131280"/>
                <a:ext cx="166680" cy="1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椭圆 84"/>
              <p:cNvSpPr/>
              <p:nvPr/>
            </p:nvSpPr>
            <p:spPr>
              <a:xfrm rot="11104200">
                <a:off x="-926280" y="3292560"/>
                <a:ext cx="166680" cy="1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椭圆 85"/>
              <p:cNvSpPr/>
              <p:nvPr/>
            </p:nvSpPr>
            <p:spPr>
              <a:xfrm rot="11104200">
                <a:off x="-138960" y="3156120"/>
                <a:ext cx="172800" cy="17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椭圆 86"/>
              <p:cNvSpPr/>
              <p:nvPr/>
            </p:nvSpPr>
            <p:spPr>
              <a:xfrm rot="11104200">
                <a:off x="-3385080" y="3092760"/>
                <a:ext cx="166680" cy="1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椭圆 87"/>
              <p:cNvSpPr/>
              <p:nvPr/>
            </p:nvSpPr>
            <p:spPr>
              <a:xfrm rot="11104200">
                <a:off x="-535320" y="32288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椭圆 88"/>
              <p:cNvSpPr/>
              <p:nvPr/>
            </p:nvSpPr>
            <p:spPr>
              <a:xfrm rot="11104200">
                <a:off x="-1597320" y="3622320"/>
                <a:ext cx="17892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椭圆 89"/>
              <p:cNvSpPr/>
              <p:nvPr/>
            </p:nvSpPr>
            <p:spPr>
              <a:xfrm rot="11104200">
                <a:off x="-1914120" y="3371040"/>
                <a:ext cx="192240" cy="192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椭圆 90"/>
              <p:cNvSpPr/>
              <p:nvPr/>
            </p:nvSpPr>
            <p:spPr>
              <a:xfrm rot="11104200">
                <a:off x="-734760" y="30326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椭圆 91"/>
              <p:cNvSpPr/>
              <p:nvPr/>
            </p:nvSpPr>
            <p:spPr>
              <a:xfrm rot="11104200">
                <a:off x="-873000" y="286776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椭圆 92"/>
              <p:cNvSpPr/>
              <p:nvPr/>
            </p:nvSpPr>
            <p:spPr>
              <a:xfrm rot="11104200">
                <a:off x="-321840" y="30434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椭圆 93"/>
              <p:cNvSpPr/>
              <p:nvPr/>
            </p:nvSpPr>
            <p:spPr>
              <a:xfrm rot="11104200">
                <a:off x="227520" y="36810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椭圆 94"/>
              <p:cNvSpPr/>
              <p:nvPr/>
            </p:nvSpPr>
            <p:spPr>
              <a:xfrm rot="11104200">
                <a:off x="-2818440" y="33714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4" name="组合 122"/>
          <p:cNvGrpSpPr/>
          <p:nvPr/>
        </p:nvGrpSpPr>
        <p:grpSpPr>
          <a:xfrm>
            <a:off x="8574840" y="2794680"/>
            <a:ext cx="4781880" cy="1135800"/>
            <a:chOff x="8574840" y="2794680"/>
            <a:chExt cx="4781880" cy="1135800"/>
          </a:xfrm>
        </p:grpSpPr>
        <p:grpSp>
          <p:nvGrpSpPr>
            <p:cNvPr id="245" name="组合 52"/>
            <p:cNvGrpSpPr/>
            <p:nvPr/>
          </p:nvGrpSpPr>
          <p:grpSpPr>
            <a:xfrm>
              <a:off x="8574840" y="2794680"/>
              <a:ext cx="3792960" cy="1073160"/>
              <a:chOff x="8574840" y="2794680"/>
              <a:chExt cx="3792960" cy="1073160"/>
            </a:xfrm>
          </p:grpSpPr>
          <p:sp>
            <p:nvSpPr>
              <p:cNvPr id="246" name="椭圆 153"/>
              <p:cNvSpPr/>
              <p:nvPr/>
            </p:nvSpPr>
            <p:spPr>
              <a:xfrm rot="11104200">
                <a:off x="10929240" y="3054960"/>
                <a:ext cx="21600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椭圆 154"/>
              <p:cNvSpPr/>
              <p:nvPr/>
            </p:nvSpPr>
            <p:spPr>
              <a:xfrm rot="11104200">
                <a:off x="11162160" y="3474000"/>
                <a:ext cx="214920" cy="21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椭圆 155"/>
              <p:cNvSpPr/>
              <p:nvPr/>
            </p:nvSpPr>
            <p:spPr>
              <a:xfrm rot="11104200">
                <a:off x="10766880" y="2796120"/>
                <a:ext cx="45720" cy="165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椭圆 156"/>
              <p:cNvSpPr/>
              <p:nvPr/>
            </p:nvSpPr>
            <p:spPr>
              <a:xfrm rot="11104200">
                <a:off x="10106640" y="3242160"/>
                <a:ext cx="191160" cy="19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椭圆 157"/>
              <p:cNvSpPr/>
              <p:nvPr/>
            </p:nvSpPr>
            <p:spPr>
              <a:xfrm rot="11104200">
                <a:off x="10093680" y="3194640"/>
                <a:ext cx="198720" cy="19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椭圆 158"/>
              <p:cNvSpPr/>
              <p:nvPr/>
            </p:nvSpPr>
            <p:spPr>
              <a:xfrm rot="11104200">
                <a:off x="9684000" y="3160080"/>
                <a:ext cx="18972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椭圆 159"/>
              <p:cNvSpPr/>
              <p:nvPr/>
            </p:nvSpPr>
            <p:spPr>
              <a:xfrm rot="11104200">
                <a:off x="9400680" y="3372480"/>
                <a:ext cx="21600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椭圆 160"/>
              <p:cNvSpPr/>
              <p:nvPr/>
            </p:nvSpPr>
            <p:spPr>
              <a:xfrm rot="11104200">
                <a:off x="10815120" y="3576960"/>
                <a:ext cx="21600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椭圆 161"/>
              <p:cNvSpPr/>
              <p:nvPr/>
            </p:nvSpPr>
            <p:spPr>
              <a:xfrm rot="11104200">
                <a:off x="9676440" y="2995560"/>
                <a:ext cx="166680" cy="1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椭圆 162"/>
              <p:cNvSpPr/>
              <p:nvPr/>
            </p:nvSpPr>
            <p:spPr>
              <a:xfrm rot="11104200">
                <a:off x="10253880" y="3320640"/>
                <a:ext cx="171360" cy="17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椭圆 163"/>
              <p:cNvSpPr/>
              <p:nvPr/>
            </p:nvSpPr>
            <p:spPr>
              <a:xfrm rot="11104200">
                <a:off x="11495160" y="2825640"/>
                <a:ext cx="21600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椭圆 164"/>
              <p:cNvSpPr/>
              <p:nvPr/>
            </p:nvSpPr>
            <p:spPr>
              <a:xfrm rot="11104200">
                <a:off x="9687600" y="3555000"/>
                <a:ext cx="166680" cy="1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椭圆 165"/>
              <p:cNvSpPr/>
              <p:nvPr/>
            </p:nvSpPr>
            <p:spPr>
              <a:xfrm rot="11104200">
                <a:off x="8939880" y="3147120"/>
                <a:ext cx="166680" cy="1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椭圆 166"/>
              <p:cNvSpPr/>
              <p:nvPr/>
            </p:nvSpPr>
            <p:spPr>
              <a:xfrm rot="11104200">
                <a:off x="11042640" y="3308400"/>
                <a:ext cx="166680" cy="1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椭圆 167"/>
              <p:cNvSpPr/>
              <p:nvPr/>
            </p:nvSpPr>
            <p:spPr>
              <a:xfrm rot="11104200">
                <a:off x="11829600" y="3172320"/>
                <a:ext cx="173160" cy="17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椭圆 168"/>
              <p:cNvSpPr/>
              <p:nvPr/>
            </p:nvSpPr>
            <p:spPr>
              <a:xfrm rot="11104200">
                <a:off x="8581680" y="3108600"/>
                <a:ext cx="166680" cy="1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椭圆 169"/>
              <p:cNvSpPr/>
              <p:nvPr/>
            </p:nvSpPr>
            <p:spPr>
              <a:xfrm rot="11104200">
                <a:off x="11433600" y="32450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椭圆 170"/>
              <p:cNvSpPr/>
              <p:nvPr/>
            </p:nvSpPr>
            <p:spPr>
              <a:xfrm rot="11104200">
                <a:off x="10176480" y="2980080"/>
                <a:ext cx="203400" cy="203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椭圆 171"/>
              <p:cNvSpPr/>
              <p:nvPr/>
            </p:nvSpPr>
            <p:spPr>
              <a:xfrm rot="11104200">
                <a:off x="10370880" y="3638520"/>
                <a:ext cx="178920" cy="178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椭圆 172"/>
              <p:cNvSpPr/>
              <p:nvPr/>
            </p:nvSpPr>
            <p:spPr>
              <a:xfrm rot="11104200">
                <a:off x="11234160" y="30488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椭圆 173"/>
              <p:cNvSpPr/>
              <p:nvPr/>
            </p:nvSpPr>
            <p:spPr>
              <a:xfrm rot="11104200">
                <a:off x="11095560" y="28836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椭圆 174"/>
              <p:cNvSpPr/>
              <p:nvPr/>
            </p:nvSpPr>
            <p:spPr>
              <a:xfrm rot="11104200">
                <a:off x="11647080" y="30596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椭圆 175"/>
              <p:cNvSpPr/>
              <p:nvPr/>
            </p:nvSpPr>
            <p:spPr>
              <a:xfrm rot="11104200">
                <a:off x="12196800" y="369684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椭圆 176"/>
              <p:cNvSpPr/>
              <p:nvPr/>
            </p:nvSpPr>
            <p:spPr>
              <a:xfrm rot="11104200">
                <a:off x="9273240" y="318168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椭圆 177"/>
              <p:cNvSpPr/>
              <p:nvPr/>
            </p:nvSpPr>
            <p:spPr>
              <a:xfrm rot="11104200">
                <a:off x="9149040" y="3387600"/>
                <a:ext cx="16380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1" name="组合 115"/>
            <p:cNvGrpSpPr/>
            <p:nvPr/>
          </p:nvGrpSpPr>
          <p:grpSpPr>
            <a:xfrm>
              <a:off x="9726840" y="2841120"/>
              <a:ext cx="3629880" cy="1089360"/>
              <a:chOff x="9726840" y="2841120"/>
              <a:chExt cx="3629880" cy="1089360"/>
            </a:xfrm>
          </p:grpSpPr>
          <p:sp>
            <p:nvSpPr>
              <p:cNvPr id="272" name="椭圆 125"/>
              <p:cNvSpPr/>
              <p:nvPr/>
            </p:nvSpPr>
            <p:spPr>
              <a:xfrm flipH="1">
                <a:off x="11768040" y="3410640"/>
                <a:ext cx="20520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椭圆 126"/>
              <p:cNvSpPr/>
              <p:nvPr/>
            </p:nvSpPr>
            <p:spPr>
              <a:xfrm flipH="1">
                <a:off x="11421360" y="3397680"/>
                <a:ext cx="198000" cy="208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椭圆 127"/>
              <p:cNvSpPr/>
              <p:nvPr/>
            </p:nvSpPr>
            <p:spPr>
              <a:xfrm flipH="1">
                <a:off x="12203640" y="3040200"/>
                <a:ext cx="204480" cy="21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椭圆 128"/>
              <p:cNvSpPr/>
              <p:nvPr/>
            </p:nvSpPr>
            <p:spPr>
              <a:xfrm flipH="1">
                <a:off x="11770920" y="3722760"/>
                <a:ext cx="43200" cy="165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椭圆 129"/>
              <p:cNvSpPr/>
              <p:nvPr/>
            </p:nvSpPr>
            <p:spPr>
              <a:xfrm flipH="1">
                <a:off x="11183040" y="3200400"/>
                <a:ext cx="181800" cy="19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椭圆 130"/>
              <p:cNvSpPr/>
              <p:nvPr/>
            </p:nvSpPr>
            <p:spPr>
              <a:xfrm flipH="1">
                <a:off x="11167200" y="3239640"/>
                <a:ext cx="189000" cy="19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椭圆 131"/>
              <p:cNvSpPr/>
              <p:nvPr/>
            </p:nvSpPr>
            <p:spPr>
              <a:xfrm flipH="1">
                <a:off x="10776240" y="3246120"/>
                <a:ext cx="18036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椭圆 132"/>
              <p:cNvSpPr/>
              <p:nvPr/>
            </p:nvSpPr>
            <p:spPr>
              <a:xfrm flipH="1">
                <a:off x="10527120" y="2984760"/>
                <a:ext cx="20520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椭圆 133"/>
              <p:cNvSpPr/>
              <p:nvPr/>
            </p:nvSpPr>
            <p:spPr>
              <a:xfrm flipH="1">
                <a:off x="11883960" y="2905920"/>
                <a:ext cx="20520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椭圆 134"/>
              <p:cNvSpPr/>
              <p:nvPr/>
            </p:nvSpPr>
            <p:spPr>
              <a:xfrm flipH="1">
                <a:off x="10753920" y="3431160"/>
                <a:ext cx="158760" cy="1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椭圆 135"/>
              <p:cNvSpPr/>
              <p:nvPr/>
            </p:nvSpPr>
            <p:spPr>
              <a:xfrm flipH="1">
                <a:off x="11328480" y="3154320"/>
                <a:ext cx="163080" cy="17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椭圆 136"/>
              <p:cNvSpPr/>
              <p:nvPr/>
            </p:nvSpPr>
            <p:spPr>
              <a:xfrm flipH="1">
                <a:off x="12465360" y="3714480"/>
                <a:ext cx="20520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椭圆 137"/>
              <p:cNvSpPr/>
              <p:nvPr/>
            </p:nvSpPr>
            <p:spPr>
              <a:xfrm flipH="1">
                <a:off x="10811520" y="2874960"/>
                <a:ext cx="158760" cy="1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椭圆 138"/>
              <p:cNvSpPr/>
              <p:nvPr/>
            </p:nvSpPr>
            <p:spPr>
              <a:xfrm flipH="1">
                <a:off x="10068840" y="3215160"/>
                <a:ext cx="158760" cy="1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椭圆 139"/>
              <p:cNvSpPr/>
              <p:nvPr/>
            </p:nvSpPr>
            <p:spPr>
              <a:xfrm flipH="1">
                <a:off x="12074040" y="3240360"/>
                <a:ext cx="158760" cy="1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椭圆 140"/>
              <p:cNvSpPr/>
              <p:nvPr/>
            </p:nvSpPr>
            <p:spPr>
              <a:xfrm flipH="1">
                <a:off x="12808800" y="3442320"/>
                <a:ext cx="164520" cy="17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椭圆 141"/>
              <p:cNvSpPr/>
              <p:nvPr/>
            </p:nvSpPr>
            <p:spPr>
              <a:xfrm flipH="1">
                <a:off x="9726480" y="3222000"/>
                <a:ext cx="158760" cy="167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椭圆 142"/>
              <p:cNvSpPr/>
              <p:nvPr/>
            </p:nvSpPr>
            <p:spPr>
              <a:xfrm flipH="1">
                <a:off x="12852720" y="3562920"/>
                <a:ext cx="256680" cy="27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椭圆 143"/>
              <p:cNvSpPr/>
              <p:nvPr/>
            </p:nvSpPr>
            <p:spPr>
              <a:xfrm flipH="1">
                <a:off x="12947400" y="3036240"/>
                <a:ext cx="253440" cy="266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椭圆 144"/>
              <p:cNvSpPr/>
              <p:nvPr/>
            </p:nvSpPr>
            <p:spPr>
              <a:xfrm flipH="1">
                <a:off x="12764520" y="3087000"/>
                <a:ext cx="15588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椭圆 145"/>
              <p:cNvSpPr/>
              <p:nvPr/>
            </p:nvSpPr>
            <p:spPr>
              <a:xfrm flipH="1">
                <a:off x="11466360" y="2841120"/>
                <a:ext cx="170280" cy="178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椭圆 146"/>
              <p:cNvSpPr/>
              <p:nvPr/>
            </p:nvSpPr>
            <p:spPr>
              <a:xfrm flipH="1">
                <a:off x="11145960" y="3050280"/>
                <a:ext cx="182880" cy="192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椭圆 147"/>
              <p:cNvSpPr/>
              <p:nvPr/>
            </p:nvSpPr>
            <p:spPr>
              <a:xfrm flipH="1">
                <a:off x="12233880" y="3518640"/>
                <a:ext cx="15588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椭圆 148"/>
              <p:cNvSpPr/>
              <p:nvPr/>
            </p:nvSpPr>
            <p:spPr>
              <a:xfrm flipH="1">
                <a:off x="12088800" y="3671280"/>
                <a:ext cx="15588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椭圆 149"/>
              <p:cNvSpPr/>
              <p:nvPr/>
            </p:nvSpPr>
            <p:spPr>
              <a:xfrm flipH="1">
                <a:off x="12625920" y="3544560"/>
                <a:ext cx="15588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椭圆 150"/>
              <p:cNvSpPr/>
              <p:nvPr/>
            </p:nvSpPr>
            <p:spPr>
              <a:xfrm flipH="1">
                <a:off x="13200480" y="2958480"/>
                <a:ext cx="15588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椭圆 151"/>
              <p:cNvSpPr/>
              <p:nvPr/>
            </p:nvSpPr>
            <p:spPr>
              <a:xfrm flipH="1">
                <a:off x="10387800" y="3213360"/>
                <a:ext cx="15588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椭圆 152"/>
              <p:cNvSpPr/>
              <p:nvPr/>
            </p:nvSpPr>
            <p:spPr>
              <a:xfrm flipH="1">
                <a:off x="10287360" y="2997000"/>
                <a:ext cx="155880" cy="163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" name="组合 12"/>
          <p:cNvGrpSpPr/>
          <p:nvPr/>
        </p:nvGrpSpPr>
        <p:grpSpPr>
          <a:xfrm>
            <a:off x="3830040" y="2932920"/>
            <a:ext cx="1026720" cy="1045080"/>
            <a:chOff x="3830040" y="2932920"/>
            <a:chExt cx="1026720" cy="1045080"/>
          </a:xfrm>
        </p:grpSpPr>
        <p:sp>
          <p:nvSpPr>
            <p:cNvPr id="301" name="椭圆 180"/>
            <p:cNvSpPr/>
            <p:nvPr/>
          </p:nvSpPr>
          <p:spPr>
            <a:xfrm rot="10107600">
              <a:off x="3924000" y="3072960"/>
              <a:ext cx="858600" cy="82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68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椭圆 181"/>
            <p:cNvSpPr/>
            <p:nvPr/>
          </p:nvSpPr>
          <p:spPr>
            <a:xfrm rot="9114000">
              <a:off x="3952440" y="3074040"/>
              <a:ext cx="779400" cy="714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8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椭圆 182"/>
            <p:cNvSpPr/>
            <p:nvPr/>
          </p:nvSpPr>
          <p:spPr>
            <a:xfrm rot="4048800">
              <a:off x="4081680" y="3029040"/>
              <a:ext cx="514440" cy="639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3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椭圆 183"/>
            <p:cNvSpPr/>
            <p:nvPr/>
          </p:nvSpPr>
          <p:spPr>
            <a:xfrm rot="629400">
              <a:off x="4279320" y="3090600"/>
              <a:ext cx="287280" cy="18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47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5" name="Picture 8" descr="C:\Documents and Settings\Administrator\桌面\图片1.png"/>
          <p:cNvPicPr/>
          <p:nvPr/>
        </p:nvPicPr>
        <p:blipFill>
          <a:blip r:embed="rId12"/>
          <a:stretch/>
        </p:blipFill>
        <p:spPr>
          <a:xfrm>
            <a:off x="7372440" y="3433680"/>
            <a:ext cx="298440" cy="287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:\Documents and Settings\Administrator\桌面\图片1.png"/>
          <p:cNvPicPr/>
          <p:nvPr/>
        </p:nvPicPr>
        <p:blipFill>
          <a:blip r:embed="rId13"/>
          <a:stretch/>
        </p:blipFill>
        <p:spPr>
          <a:xfrm>
            <a:off x="8236080" y="3002040"/>
            <a:ext cx="223560" cy="216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" descr="C:\Documents and Settings\Administrator\桌面\图片1.png"/>
          <p:cNvPicPr/>
          <p:nvPr/>
        </p:nvPicPr>
        <p:blipFill>
          <a:blip r:embed="rId14"/>
          <a:stretch/>
        </p:blipFill>
        <p:spPr>
          <a:xfrm>
            <a:off x="3556080" y="3144960"/>
            <a:ext cx="71280" cy="69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C:\Documents and Settings\Administrator\桌面\图片1.png"/>
          <p:cNvPicPr/>
          <p:nvPr/>
        </p:nvPicPr>
        <p:blipFill>
          <a:blip r:embed="rId15"/>
          <a:stretch/>
        </p:blipFill>
        <p:spPr>
          <a:xfrm>
            <a:off x="1324080" y="2928960"/>
            <a:ext cx="74520" cy="7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C:\Documents and Settings\Administrator\桌面\图片1.png"/>
          <p:cNvPicPr/>
          <p:nvPr/>
        </p:nvPicPr>
        <p:blipFill>
          <a:blip r:embed="rId16"/>
          <a:stretch/>
        </p:blipFill>
        <p:spPr>
          <a:xfrm>
            <a:off x="6364440" y="4081320"/>
            <a:ext cx="74520" cy="71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C:\Documents and Settings\Administrator\桌面\图片1.png"/>
          <p:cNvPicPr/>
          <p:nvPr/>
        </p:nvPicPr>
        <p:blipFill>
          <a:blip r:embed="rId17"/>
          <a:stretch/>
        </p:blipFill>
        <p:spPr>
          <a:xfrm>
            <a:off x="5351400" y="2352600"/>
            <a:ext cx="76320" cy="74520"/>
          </a:xfrm>
          <a:prstGeom prst="rect">
            <a:avLst/>
          </a:prstGeom>
          <a:ln w="0">
            <a:noFill/>
          </a:ln>
        </p:spPr>
      </p:pic>
      <p:sp>
        <p:nvSpPr>
          <p:cNvPr id="311" name="椭圆 190"/>
          <p:cNvSpPr/>
          <p:nvPr/>
        </p:nvSpPr>
        <p:spPr>
          <a:xfrm>
            <a:off x="6940440" y="3578400"/>
            <a:ext cx="144720" cy="1425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椭圆 191"/>
          <p:cNvSpPr/>
          <p:nvPr/>
        </p:nvSpPr>
        <p:spPr>
          <a:xfrm>
            <a:off x="2403360" y="3433680"/>
            <a:ext cx="216000" cy="216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8" descr="C:\Documents and Settings\Administrator\桌面\图片1.png"/>
          <p:cNvPicPr/>
          <p:nvPr/>
        </p:nvPicPr>
        <p:blipFill>
          <a:blip r:embed="rId18"/>
          <a:stretch/>
        </p:blipFill>
        <p:spPr>
          <a:xfrm>
            <a:off x="387360" y="3505320"/>
            <a:ext cx="149040" cy="144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C:\Documents and Settings\Administrator\桌面\图片1.png"/>
          <p:cNvPicPr/>
          <p:nvPr/>
        </p:nvPicPr>
        <p:blipFill>
          <a:blip r:embed="rId19"/>
          <a:stretch/>
        </p:blipFill>
        <p:spPr>
          <a:xfrm>
            <a:off x="1974960" y="2281320"/>
            <a:ext cx="357120" cy="345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C:\Documents and Settings\Administrator\桌面\图片1.png"/>
          <p:cNvPicPr/>
          <p:nvPr/>
        </p:nvPicPr>
        <p:blipFill>
          <a:blip r:embed="rId20"/>
          <a:stretch/>
        </p:blipFill>
        <p:spPr>
          <a:xfrm>
            <a:off x="5068800" y="3368520"/>
            <a:ext cx="141480" cy="136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C:\Documents and Settings\Administrator\桌面\图片1.png"/>
          <p:cNvPicPr/>
          <p:nvPr/>
        </p:nvPicPr>
        <p:blipFill>
          <a:blip r:embed="rId21"/>
          <a:stretch/>
        </p:blipFill>
        <p:spPr>
          <a:xfrm>
            <a:off x="4132440" y="3073320"/>
            <a:ext cx="77760" cy="74520"/>
          </a:xfrm>
          <a:prstGeom prst="rect">
            <a:avLst/>
          </a:prstGeom>
          <a:ln w="0">
            <a:noFill/>
          </a:ln>
        </p:spPr>
      </p:pic>
      <p:sp>
        <p:nvSpPr>
          <p:cNvPr id="317" name="椭圆 196"/>
          <p:cNvSpPr/>
          <p:nvPr/>
        </p:nvSpPr>
        <p:spPr>
          <a:xfrm>
            <a:off x="5580000" y="3146400"/>
            <a:ext cx="216000" cy="216000"/>
          </a:xfrm>
          <a:prstGeom prst="ellipse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椭圆 197"/>
          <p:cNvSpPr/>
          <p:nvPr/>
        </p:nvSpPr>
        <p:spPr>
          <a:xfrm>
            <a:off x="3564000" y="3083040"/>
            <a:ext cx="714240" cy="71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椭圆 198"/>
          <p:cNvSpPr/>
          <p:nvPr/>
        </p:nvSpPr>
        <p:spPr>
          <a:xfrm>
            <a:off x="4211640" y="3427560"/>
            <a:ext cx="741240" cy="74124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椭圆 199"/>
          <p:cNvSpPr/>
          <p:nvPr/>
        </p:nvSpPr>
        <p:spPr>
          <a:xfrm>
            <a:off x="3976560" y="2840040"/>
            <a:ext cx="716040" cy="716040"/>
          </a:xfrm>
          <a:prstGeom prst="ellipse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椭圆 200"/>
          <p:cNvSpPr/>
          <p:nvPr/>
        </p:nvSpPr>
        <p:spPr>
          <a:xfrm>
            <a:off x="3790800" y="3378240"/>
            <a:ext cx="714600" cy="716040"/>
          </a:xfrm>
          <a:prstGeom prst="ellipse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椭圆 201"/>
          <p:cNvSpPr/>
          <p:nvPr/>
        </p:nvSpPr>
        <p:spPr>
          <a:xfrm>
            <a:off x="4379760" y="2786040"/>
            <a:ext cx="836640" cy="836640"/>
          </a:xfrm>
          <a:prstGeom prst="ellipse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椭圆 202"/>
          <p:cNvSpPr/>
          <p:nvPr/>
        </p:nvSpPr>
        <p:spPr>
          <a:xfrm>
            <a:off x="6953400" y="3000240"/>
            <a:ext cx="714240" cy="7146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椭圆 203"/>
          <p:cNvSpPr/>
          <p:nvPr/>
        </p:nvSpPr>
        <p:spPr>
          <a:xfrm>
            <a:off x="7372440" y="2757600"/>
            <a:ext cx="714240" cy="714240"/>
          </a:xfrm>
          <a:prstGeom prst="ellipse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椭圆 204"/>
          <p:cNvSpPr/>
          <p:nvPr/>
        </p:nvSpPr>
        <p:spPr>
          <a:xfrm>
            <a:off x="7316640" y="3421080"/>
            <a:ext cx="714600" cy="714240"/>
          </a:xfrm>
          <a:prstGeom prst="ellipse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椭圆 205"/>
          <p:cNvSpPr/>
          <p:nvPr/>
        </p:nvSpPr>
        <p:spPr>
          <a:xfrm>
            <a:off x="1547640" y="2281320"/>
            <a:ext cx="562320" cy="56196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椭圆 206"/>
          <p:cNvSpPr/>
          <p:nvPr/>
        </p:nvSpPr>
        <p:spPr>
          <a:xfrm>
            <a:off x="1781280" y="1913040"/>
            <a:ext cx="561960" cy="561960"/>
          </a:xfrm>
          <a:prstGeom prst="ellipse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椭圆 207"/>
          <p:cNvSpPr/>
          <p:nvPr/>
        </p:nvSpPr>
        <p:spPr>
          <a:xfrm>
            <a:off x="8113680" y="2967120"/>
            <a:ext cx="411120" cy="41112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椭圆 208"/>
          <p:cNvSpPr/>
          <p:nvPr/>
        </p:nvSpPr>
        <p:spPr>
          <a:xfrm>
            <a:off x="8150400" y="2682720"/>
            <a:ext cx="411120" cy="412920"/>
          </a:xfrm>
          <a:prstGeom prst="ellipse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椭圆 209"/>
          <p:cNvSpPr/>
          <p:nvPr/>
        </p:nvSpPr>
        <p:spPr>
          <a:xfrm>
            <a:off x="2216160" y="3218040"/>
            <a:ext cx="411120" cy="411120"/>
          </a:xfrm>
          <a:prstGeom prst="ellipse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椭圆 210"/>
          <p:cNvSpPr/>
          <p:nvPr/>
        </p:nvSpPr>
        <p:spPr>
          <a:xfrm>
            <a:off x="324000" y="3449520"/>
            <a:ext cx="287280" cy="287280"/>
          </a:xfrm>
          <a:prstGeom prst="ellipse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4" descr="C:\Documents and Settings\Administrator\桌面\图形1.png"/>
          <p:cNvPicPr/>
          <p:nvPr/>
        </p:nvPicPr>
        <p:blipFill>
          <a:blip r:embed="rId22"/>
          <a:srcRect l="0" t="0" r="0" b="16351"/>
          <a:stretch/>
        </p:blipFill>
        <p:spPr>
          <a:xfrm>
            <a:off x="3005280" y="1276200"/>
            <a:ext cx="3133440" cy="881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5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5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7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6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083 C 0.00018 0.02026 0.01233 0.08273 -0.00503 0.07579 C -0.00694 0.07134 -0.0092 0.0608 -0.0092 0.06107 C -0.01076 0.04164 -0.01493 0.02915 -0.01962 0.01249 C -0.02656 -0.0125 -0.03194 -0.03804 -0.04149 -0.06108 C -0.04392 -0.07635 -0.0559 -0.10384 -0.06337 -0.11605 C -0.06371 -0.11744 -0.06441 -0.12077 -0.06441 -0.12049 L -0.1283 -0.33787 E">
                                      <p:cBhvr>
                                        <p:cTn id="458" dur="5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-0.03637 C 0.00677 -0.00861 0.00504 -0.01944 -3.33333E-006 0.04581 C -0.00034 0.05108 -0.00868 0.02249 -0.00937 0.02054 C -0.01093 0.00777 -0.01441 -0.00167 -0.01666 -0.01361 C -0.01944 -0.0286 -0.02135 -0.04553 -0.025 -0.05886 C -0.02725 -0.08301 -0.03281 -0.10189 -0.03645 -0.1241 C -0.03871 -0.13826 -0.0901 -0.39312 -0.09427 -0.40422 E">
                                      <p:cBhvr>
                                        <p:cTn id="460" dur="5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0.02915 C -0.00399 -0.01638 -0.00035 -0.02721 0.00052 -0.00444 C 0.00347 0.08329 -0.00156 0.04386 0.00382 0.08079 C 0.00608 0.07163 0.00469 0.05913 0.00868 0.05164 C 0.01146 0.04692 0.01528 0.04275 0.01858 0.03831 C 0.02014 0.03609 0.02344 0.03137 0.02344 0.03193 C 0.02621 0.02054 0.03455 0.01388 0.03976 0.00444 C 0.04687 -0.00778 0.04948 -0.02249 0.05764 -0.03359 C 0.06128 -0.04831 0.0566 -0.03248 0.06424 -0.04748 C 0.06719 -0.05303 0.06944 -0.06358 0.07083 -0.06941 C 0.07344 -0.08051 0.09514 -0.17657 0.09774 -0.18768 C 0.0934 -0.206 0.12726 -0.31399 0.13576 -0.32538 E">
                                      <p:cBhvr>
                                        <p:cTn id="462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02721E-006 C -0.00538 0.01305 -0.0033 0.00611 -0.00625 0.01999 C -0.0066 0.02166 -0.00729 0.02499 -0.00729 0.02526 C 0.00017 0.02887 0.00313 0.0211 0.00938 0.01333 C 0.01024 0.01222 0.01146 0.01249 0.0125 0.01166 C 0.01354 0.01083 0.01476 0.00972 0.01563 0.00833 C 0.02604 -0.00666 0.03681 -0.0211 0.04583 -0.03831 C 0.04896 -0.04442 0.05781 -0.06413 0.0625 -0.06663 C 0.0684 -0.07607 0.07448 -0.08551 0.08125 -0.09328 C 0.08438 -0.09689 0.08663 -0.12104 0.10573 -0.1663 L 0.19566 -0.36452 E">
                                      <p:cBhvr>
                                        <p:cTn id="464" dur="75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66667E-006 1.60466E-006 C 0.00035 0.01055 -1.66666999999992E-006 0.0211 0.00104 0.03165 C 0.0033 0.05386 0.01615 0.02387 0.01979 0.01999 C 0.02396 0.00999 0.02726 0.000280000000000001 0.03125 -0.01 C 0.03403 -0.01721 0.03455 -0.0261 0.0375 -0.03332 C 0.03976 -0.04831 0.03663 -0.03082 0.04167 -0.04831 C 0.04254 -0.05219 0.04375 -0.0583 0.04375 -0.05802 C 0.04722 -0.098 0.09879 -0.13048 0.11927 -0.15186 C 0.12136 -0.1588 0.28004 -0.41588 0.28004 -0.4231 E">
                                      <p:cBhvr>
                                        <p:cTn id="466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04942E-006 C -0.00503 0.01222 -0.00955 0.03026 -0.01563 0.03998 C -0.0184 0.05303 -0.00469 0.04553 2.77778E-007 0.04498 C 0.00382 0.04303 0.01146 0.03998 0.01146 0.04026 C 0.01719 0.03332 0.01944 0.03221 0.025 0.02332 C 0.03056 0.01444 0.03316 0.00028 0.03958 -0.00666 C 0.04097 -0.01332 0.04219 -0.0161 0.04583 -0.01999 C 0.04965 -0.02915 0.04566 -0.02165 0.05208 -0.02832 C 0.0592 -0.03609 0.21233 -0.30455 0.2184 -0.31427 E">
                                      <p:cBhvr>
                                        <p:cTn id="468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72071E-006 C -0.00381 0.00889 -0.00746 0.01583 -0.00937 0.02665 C -0.01006 0.0311 -0.01076 0.03554 -0.01145 0.03998 C -0.01197 0.04331 -0.01562 0.05109 -0.01354 0.04997 C -0.0092 0.04775 -0.01128 0.04942 -0.00729 0.04498 C -0.00659 0.04331 -0.00607 0.04137 -0.0052 0.03998 C -0.00434 0.03859 -0.00295 0.03831 -0.00208 0.03665 C -0.00104 0.03471 -0.00086 0.03193 -4.72222E-006 0.02999 C 0.00296 0.02332 0.00643 0.01694 0.00938 0.01 C 0.01112 0.00556 0.01459 -2.72071000000009E-006 0.01563 -0.00499 C 0.01823 -0.01777 0.01928 -0.03192 0.02396 -0.04331 C 0.02605 -0.05663 0.02639 -0.05996 0.03125 -0.07162 C 0.03264 -0.07496 0.0375 -0.07829 0.0375 -0.07801 C 0.03994 -0.08439 0.04306 -0.08578 0.04688 -0.08995 C 0.05313 -0.09689 0.05938 -0.10494 0.06563 -0.1116 C 0.06823 -0.11771 0.07223 -0.1241 0.07605 -0.12826 C 0.07848 -0.13437 0.2 -0.33481 0.20313 -0.33731 E">
                                      <p:cBhvr>
                                        <p:cTn id="470" dur="25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30927E-006 C 0.00434 0.03471 -0.00052 -0.00720999999999999 0.00208 0.08496 C 0.00208 0.08662 0.00278 0.08162 0.00312 0.07996 C 0.00382 0.07552 0.00469 0.07107 0.00521 0.06663 C 0.0066 0.05331 0.00851 0.0397 0.01041 0.02666 C 0.01389 0.00222 0.01927 -0.0025 0.02812 -0.02165 C 0.03559 -0.03748 0.04375 -0.05052 0.05416 -0.06163 C 0.05764 -0.07273 0.06406 -0.07884 0.06875 -0.08828 C 0.07291 -0.09661 0.07639 -0.09939 0.08125 -0.1066 C 0.0842 -0.11077 0.08732 -0.11466 0.08958 -0.11993 C 0.09028 -0.1216 0.11962 -0.20516 0.12048 -0.20655 C 0.12604 -0.21543 0.20087 -0.34536 0.2066 -0.35452 E">
                                      <p:cBhvr>
                                        <p:cTn id="472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6419E-006 C -0.00122 0.02777 -0.00208 0.05053 -0.00625 0.07635 C -0.01094 0.06886 -0.01285 0.05997 -0.01667 0.05164 C -0.02153 0.02804 -0.0316 0.01166 -0.03958 -0.00832 C -0.04306 -0.01721 -0.04601 -0.02693 -0.05 -0.03498 C -0.05139 -0.04358 -0.05729 -0.05746 -0.06042 -0.06496 C -0.06215 -0.07662 -0.0684 -0.08689 -0.07292 -0.09689 C -0.07535 -0.11216 -0.07917 -0.1252 -0.08438 -0.13825 C -0.08646 -0.14408 -0.09063 -0.15519 -0.09063 -0.15463 C -0.09184 -0.16296 -0.18993 -0.38284 -0.19167 -0.38811 E">
                                      <p:cBhvr>
                                        <p:cTn id="474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33148E-006 C 0.00347 0.00833 0.0033 0.01749 0.00521 0.02666 C 0.00416 0.02832 0.00347 0.03193 0.00208 0.03165 C 0.00017 0.0311 -0.00052 0.02693 -0.00209 0.02499 C -0.004 0.02249 -0.00625 0.02055 -0.00834 0.01833 C -0.01129 0.01111 -0.01528 0.00306 -0.01979 -0.00166 C -0.02222 -0.00444 -0.02431 -0.00583 -0.02604 -0.00999 C -0.02934 -0.01749 -0.03143 -0.02693 -0.03438 -0.03498 C -0.03785 -0.04469 -0.04202 -0.05386 -0.04584 -0.06329 C -0.04948 -0.07218 -0.05052 -0.08217 -0.05625 -0.08828 C -0.06077 -0.09939 -0.14184 -0.30094 -0.14393 -0.30816 E">
                                      <p:cBhvr>
                                        <p:cTn id="476" dur="75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88173E-006 C -0.00035 0.00166 -0.00104 0.00333 -0.00104 0.00499 C -0.00104 0.00666 0.00069 0.0111 1.94444E-006 0.00999 C -0.00452 0.00277 1.94443999999979E-006 0.00444 -0.00313 -0.00333 C -0.00712 -0.01305 -0.01337 -0.02638 -0.01875 -0.03498 C -0.01997 -0.04276 -0.02292 -0.04637 -0.025 -0.05331 C -0.02674 -0.05914 -0.02743 -0.06608 -0.02917 -0.07163 C -0.03733 -0.09745 -0.03021 -0.06663 -0.03542 -0.09162 C -0.03629 -0.09606 -0.03889 -0.098 -0.04063 -0.10161 C -0.04219 -0.10467 -0.04479 -0.11161 -0.04479 -0.11133 C -0.04566 -0.11966 -0.09705 -0.29012 -0.10052 -0.29567 E">
                                      <p:cBhvr>
                                        <p:cTn id="478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09273E-006 C 0.00104 0.00777 0.00139 0.0136 0.00416 0.01999 C 0.0066 0.03831 0.0092 0.04719 0.0125 0.0633 C 0.01285 0.06524 0.01128 0.05969 0.01041 0.0583 C 0.00816 0.05413 0.00555 0.05052 0.00312 0.04664 C -0.00174 0.03886 -0.00156 0.0397 -0.00625 0.02998 C -0.01493 0.01221 -0.02188 -0.00722 -0.03021 -0.02499 C -0.03316 -0.03137 -0.03281 -0.03582 -0.03646 -0.04165 C -0.03785 -0.04831 -0.03837 -0.05553 -0.04063 -0.06164 C -0.04202 -0.06552 -0.04358 -0.06913 -0.04479 -0.0733 C -0.04931 -0.08912 -0.05035 -0.10717 -0.05834 -0.11994 C -0.05868 -0.1216 -0.05868 -0.12355 -0.05938 -0.12493 C -0.06024 -0.12688 -0.13542 -0.30011 -0.13542 -0.29984 E">
                                      <p:cBhvr>
                                        <p:cTn id="480" dur="75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04275E-006 C 0.00035 0.01221 0.00035 0.02554 0.00104 0.03803 C 0.00104 0.03997 0.00208 0.04497 0.00208 0.04331 C 0.00208 0.01665 -0.00295 -0.00778 -0.01042 -0.03221 C -0.01545 -0.07191 -0.02188 -0.12049 -0.03004 -0.15936 C -0.03212 -0.16991 -0.03472 -0.23293 -0.03767 -0.24237 C -0.03924 -0.24737 -0.04392 -0.36397 -0.04392 -0.3698 E">
                                      <p:cBhvr>
                                        <p:cTn id="482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4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5" dur="25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8" dur="2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1" dur="2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4" dur="2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7" dur="2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0" dur="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3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6" dur="25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9" dur="2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2" dur="2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5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8" dur="2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1" dur="25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path" presetID="6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11111E-006 1.64353E-006 L 0.50747 1.64353E-006 E">
                                      <p:cBhvr>
                                        <p:cTn id="527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35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3.43143E-006 L -0.48698 3.43143E-006 E">
                                      <p:cBhvr>
                                        <p:cTn id="532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7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75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7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9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4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35 -0.00084 C -0.01216 -0.02139 -0.02344 -0.04889 -0.02344 -0.10334 C -0.02344 -0.16611 -0.01216 -0.18806 -0.00035 -0.20834 C 0.01284 -0.23528 0.02586 -0.25584 0.02586 -0.32584 C 0.02586 -0.38778 -0.00157 -0.41834 -0.01476 -0.44584 C -0.02049 -0.50223 -0.01563 -0.61167 -0.00886 -0.66334 C -0.00209 -0.71473 0.02448 -0.71973 0.02586 -0.75278 C 0.02586 -0.815 -0.00035 -0.86306 -0.00018 -0.86306 C -0.01216 -0.88306 -0.02431 -0.9225 -0.02431 -0.98278 C -0.02431 -1.04584 -0.01216 -1.04973 -0.00035 -1.07 C 0.01284 -1.0975 0.03698 -1.10778 0.03698 -1.1775 C 0.03698 -1.23945 0.01284 -1.26973 -0.00035 -1.29 C -0.0073 -1.31 0.00468 -1.26889 0.00086 -1.28695 C -0.00295 -1.305 -0.02327 -1.36306 -0.02344 -1.39945 C -0.02344 -1.45528 -0.01216 -1.48223 -0.00035 -1.50417 C 0.01284 -1.52445 0.02586 -1.55195 0.02586 -1.61445 C 0.02586 -1.67639 0.01284 -1.69667 -0.00035 -1.72528 E">
                                      <p:cBhvr>
                                        <p:cTn id="572" dur="275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4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34 -0.00083 C -0.01215 -0.0225 -0.02343 -0.05028 -0.02343 -0.10667 C -0.02343 -0.17139 -0.01215 -0.19417 -0.00034 -0.21472 C 0.01285 -0.2425 0.02587 -0.26306 0.02587 -0.33583 C 0.02587 -0.39917 0.01285 -0.41972 -0.00034 -0.44833 C -0.01215 -0.46222 -0.03524 -0.50583 -0.03524 -0.57 C -0.03611 -0.60417 -0.01909 -0.6475 -0.00885 -0.68167 C 0.00139 -0.71611 0.01997 -0.73583 0.02587 -0.775 C 0.02587 -0.83833 0.02605 -0.91556 0.02622 -0.91556 C 0.01424 -0.93667 -0.01718 -0.91167 -0.01718 -0.97389 C -0.01718 -1.03833 -0.0125 -1.11472 -0.00069 -1.13528 C 0.0125 -1.16306 0.03698 -1.14028 0.03698 -1.21167 C 0.03698 -1.27556 0.01285 -1.30611 -0.00034 -1.3275 C -0.00729 -1.34833 0.00469 -1.30556 0.00087 -1.32417 C -0.00295 -1.36167 -0.02274 -1.51389 -0.02291 -1.55111 C -0.01875 -1.60722 0.02205 -1.60611 0.02587 -1.66139 C 0.02587 -1.72556 0.01285 -1.74639 -0.00034 -1.775 E">
                                      <p:cBhvr>
                                        <p:cTn id="574" dur="275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83 C -0.01216 -0.02222 -0.02344 -0.05083 -0.02344 -0.10778 C -0.02344 -0.17333 -0.01216 -0.19611 -0.00035 -0.21722 C 0.01284 -0.24583 0.02587 -0.26666 0.02587 -0.33972 C 0.02587 -0.40444 0.01284 -0.42583 -0.00035 -0.45389 C -0.01216 -0.46833 -0.03525 -0.51305 -0.03525 -0.57778 C -0.03611 -0.61194 -0.0191 -0.6575 -0.00886 -0.69194 C 0.00139 -0.72611 0.02448 -0.75166 0.02587 -0.78583 C 0.02448 -0.83583 -0.01285 -0.9325 -0.01719 -0.98778 C -0.01719 -1.05361 -0.01216 -1.09611 -0.00035 -1.11722 C 0.01284 -1.14583 0.03698 -1.15666 0.03698 -1.22944 C 0.03698 -1.29416 0.02361 -1.36055 0.01041 -1.38222 C 0.00034 -1.42111 -0.0217 -1.43055 -0.02344 -1.46083 C -0.02344 -1.51861 -0.01216 -1.5475 -0.00035 -1.57 C 0.01284 -1.59139 0.02587 -1.62 0.02587 -1.685 C 0.02587 -1.74972 0.01284 -1.77111 -0.00035 -1.80083 E">
                                      <p:cBhvr>
                                        <p:cTn id="576" dur="3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4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0035 -0.00083 C -0.01216 -0.02083 -0.02344 -0.0475 -0.02344 -0.10055 C -0.02344 -0.16166 -0.01216 -0.18277 -0.00035 -0.20277 C 0.01284 -0.22889 0.02587 -0.24889 0.02587 -0.31694 C 0.02587 -0.37722 0.01284 -0.3975 -0.00035 -0.42444 C -0.01216 -0.43694 -0.03525 -0.47833 -0.03525 -0.54027 C -0.03611 -0.57083 -0.00834 -0.55361 0.00295 -0.58416 C 0.01423 -0.61472 0.03177 -0.67444 0.03212 -0.72222 C 0.03212 -0.78166 0.00538 -0.87361 0.00555 -0.87361 C -0.00643 -0.89277 -0.02431 -0.92444 -0.02431 -0.98305 C -0.02431 -1.04416 -0.01216 -1.01972 -0.00035 -1.03944 C 0.01284 -1.06611 0.03698 -1.07611 0.03698 -1.14389 C 0.03698 -1.20472 0.01284 -1.23333 -0.00035 -1.25333 C -0.00729 -1.27277 0.00469 -1.23333 0.00087 -1.25055 C -0.00295 -1.26805 -0.02327 -1.32472 -0.02344 -1.36 C -0.02344 -1.41416 -0.01216 -1.44055 -0.00035 -1.46166 C 0.01284 -1.48139 0.02587 -1.50833 0.02587 -1.56916 C 0.02587 -1.62944 0.01284 -1.64916 -0.00035 -1.67694 E">
                                      <p:cBhvr>
                                        <p:cTn id="578" dur="3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111 C -0.01215 -0.01944 -0.02343 -0.04416 -0.02343 -0.09416 C -0.02343 -0.15055 -0.01215 -0.17055 -0.00034 -0.18861 C 0.01285 -0.21361 0.02587 -0.23166 0.02587 -0.29527 C 0.02587 -0.35139 0.01285 -0.36944 -0.00034 -0.39472 C -0.01215 -0.40694 -0.03524 -0.44555 -0.03524 -0.50139 C -0.03611 -0.53139 -0.01909 -0.57083 -0.00885 -0.60083 C -0.00052 -0.63194 0.01372 -0.65861 0.01511 -0.68861 C 0.01511 -0.74472 -0.00034 -0.7825 -0.00017 -0.7825 C -0.01215 -0.80055 -0.01718 -0.80305 -0.01718 -0.8575 C -0.01805 -0.88694 -0.01892 -0.9375 -0.00989 -0.97194 C -0.000869999999999999 -1.00722 0.03542 -1.03527 0.03698 -1.06805 C 0.03698 -1.12361 0.01285 -1.15083 -0.00034 -1.16972 C -0.00729 -1.18777 0.00469 -1.15 0.00087 -1.16694 C -0.00295 -1.18361 -0.02326 -1.23639 -0.02343 -1.26916 C -0.02343 -1.31889 -0.01215 -1.34361 -0.00034 -1.36361 C 0.01285 -1.38166 0.02587 -1.40639 0.02587 -1.46333 C 0.02587 -1.51944 0.01285 -1.53777 -0.00034 -1.56361 E">
                                      <p:cBhvr>
                                        <p:cTn id="580" dur="325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4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35 -0.00083 C -0.01215 -0.02027 -0.02344 -0.04639 -0.02344 -0.09833 C -0.02344 -0.15805 -0.01215 -0.17861 -0.00035 -0.19805 C 0.01285 -0.22361 0.02587 -0.24305 0.02587 -0.30944 C 0.02587 -0.36861 -0.00208 -0.35722 -0.01528 -0.38333 C -0.02708 -0.39639 -0.03524 -0.4675 -0.03524 -0.52639 C -0.03611 -0.5575 -0.0191 -0.59889 -0.00886 -0.63027 C 0.00139 -0.66166 0.02448 -0.68472 0.02587 -0.71583 C 0.02448 -0.76055 -0.01285 -0.84861 -0.01719 -0.89889 C -0.01719 -0.95889 -0.01597 -1.04889 -0.00417 -1.06805 C 0.00903 -1.09333 0.03698 -1.05277 0.03698 -1.11861 C 0.03698 -1.1775 0.01285 -1.20611 -0.00035 -1.22583 C -0.00729 -1.24472 0.00087 -1.18916 0.00087 -1.22277 C 0.00087 -1.25666 -0.00452 -1.3775 -0.00035 -1.42916 C 0.01285 -1.44861 0.02587 -1.47472 0.02587 -1.53416 C 0.02587 -1.59305 0.01285 -1.61222 -0.00035 -1.63944 E">
                                      <p:cBhvr>
                                        <p:cTn id="582" dur="3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83 C -0.01216 -0.02139 -0.02344 -0.04889 -0.02344 -0.10361 C -0.02344 -0.16694 -0.01216 -0.18861 -0.00035 -0.20916 C 0.01285 -0.23639 0.00277 -0.36666 0.00277 -0.43694 C -0.00295 -0.49416 -0.03195 -0.50083 -0.03525 -0.55611 C -0.03612 -0.58889 -0.0191 -0.6325 -0.00886 -0.66583 C 0.00138 -0.69889 0.02448 -0.7225 0.02587 -0.75611 C 0.02448 -0.80333 -0.01285 -0.89639 -0.01719 -0.94972 C -0.01719 -1.01277 -0.01216 -1.05389 -0.00035 -1.07416 C 0.01285 -1.10194 0.03698 -1.11194 0.03698 -1.18194 C 0.03698 -1.24444 0.01285 -1.27444 -0.00035 -1.295 C -0.00729 -1.315 0.00468 -1.27361 0.00086 -1.29222 C -0.00295 -1.31027 -0.02327 -1.36833 -0.02344 -1.405 C -0.02344 -1.46083 -0.01216 -1.48805 -0.00035 -1.50972 C 0.01285 -1.53027 0.02587 -1.55777 0.02587 -1.62055 C 0.02587 -1.68277 0.01285 -1.70333 -0.00035 -1.73194 E">
                                      <p:cBhvr>
                                        <p:cTn id="584" dur="275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4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35 -0.00084 C -0.01215 -0.01889 -0.02344 -0.04306 -0.02344 -0.09139 C -0.02344 -0.14639 -0.01215 -0.16584 -0.00035 -0.18334 C 0.01285 -0.20778 0.01962 -0.19861 0.01962 -0.26 C 0.01962 -0.31445 0.01285 -0.35917 -0.00035 -0.38361 C -0.01215 -0.39584 -0.03524 -0.43306 -0.03524 -0.4875 C -0.03611 -0.51667 -0.02708 -0.58778 -0.01684 -0.61695 C -0.0066 -0.645 0.02309 -0.63917 0.02587 -0.66306 C 0.02587 -0.7175 -0.00035 -0.76 -0.00017 -0.76 C -0.01215 -0.77806 -0.01719 -0.78 -0.01719 -0.83306 C -0.01719 -0.88834 -0.01215 -0.925 -0.00035 -0.9425 C 0.01285 -0.96639 0.03698 -0.97556 0.03698 -1.0375 C 0.03698 -1.09167 0.01285 -1.11806 -0.00035 -1.13667 C -0.00729 -1.15417 0.00469 -1.11723 0.00087 -1.13389 C -0.00295 -1.15 -0.02326 -1.20084 -0.02344 -1.2325 C -0.02344 -1.28139 -0.01215 -1.30556 -0.00035 -1.325 C 0.01285 -1.3425 0.02587 -1.36639 0.02587 -1.42195 C 0.02587 -1.47639 0.01285 -1.49445 -0.00035 -1.51945 E">
                                      <p:cBhvr>
                                        <p:cTn id="586" dur="3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8" dur="19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8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1" dur="32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31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4" dur="12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7" dur="12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0" dur="2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3" dur="1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6" dur="14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9" dur="1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6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78 0.00083 -0.00972 0.0025 -0.01285 0.00499 C -0.01736 0.0086 -0.02882 0.02554 -0.03333 0.03276 E">
                                      <p:cBhvr>
                                        <p:cTn id="639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33333E-006 C -0.00156 -0.00777 -0.00191 -0.01833 -0.00469 -0.02527 C -0.00556 -0.02722 -0.00903 -0.03944 -0.00903 -0.03916 E">
                                      <p:cBhvr>
                                        <p:cTn id="641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0.00417 0.00018 0.00916 0.00156 0.01277 C 0.00347 0.01805 0.00955 0.02554 0.00955 0.02554 C 0.01025 0.02888 0.01406 0.05608 0.01736 0.05608 E">
                                      <p:cBhvr>
                                        <p:cTn id="643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47 -0.00583 0.0059 -0.01222 0.00955 -0.01777 C 0.01007 -0.02027 0.01007 -0.02332 0.01111 -0.02554 C 0.01337 -0.03026 0.0191 -0.03831 0.0191 -0.03831 E">
                                      <p:cBhvr>
                                        <p:cTn id="645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416 C 0.0243 -0.00416 -0.000350000000000003 -0.00333 0.03663 -0.00333 E">
                                      <p:cBhvr>
                                        <p:cTn id="647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0.00417 0.00018 0.00916 0.00156 0.01277 C 0.00347 0.01805 0.00955 0.02554 0.00955 0.02554 C 0.01025 0.02888 0.01406 0.05608 0.01736 0.05608 E">
                                      <p:cBhvr>
                                        <p:cTn id="649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47 -0.00583 0.0059 -0.01222 0.00955 -0.01777 C 0.01007 -0.02027 0.01007 -0.02332 0.01111 -0.02554 C 0.01337 -0.03026 0.0191 -0.03831 0.0191 -0.03831 E">
                                      <p:cBhvr>
                                        <p:cTn id="651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416 C 0.0243 -0.00416 -0.000350000000000003 -0.00333 0.03663 -0.00333 E">
                                      <p:cBhvr>
                                        <p:cTn id="653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path" presetID="0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C 0.00052 0.00417 0.00018 0.00916 0.00156 0.01277 C 0.00347 0.01805 0.00955 0.02554 0.00955 0.02554 C 0.01025 0.02888 0.01406 0.05608 0.01736 0.05608 E">
                                      <p:cBhvr>
                                        <p:cTn id="661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2" nodeType="withEffect" fill="hold" presetClass="path" presetID="0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00139 -0.00416 C 0.0243 -0.00416 -0.000350000000000003 -0.00333 0.03663 -0.00333 E">
                                      <p:cBhvr>
                                        <p:cTn id="663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path" presetID="0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C 0.00052 0.00417 0.00018 0.00916 0.00156 0.01277 C 0.00347 0.01805 0.00955 0.02554 0.00955 0.02554 C 0.01025 0.02888 0.01406 0.05608 0.01736 0.05608 E">
                                      <p:cBhvr>
                                        <p:cTn id="670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6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4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7" dur="3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0" dur="3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3" dur="3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6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6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9" dur="3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2" dur="3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5" dur="3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1" dur="3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4" dur="3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7" dur="3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0" dur="3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0.00052 0.00417 0.00018 0.00916 0.00156 0.01277 C 0.00347 0.01805 0.00955 0.02554 0.00955 0.02554 C 0.01025 0.02888 0.01406 0.05608 0.01736 0.05608 E">
                                      <p:cBhvr>
                                        <p:cTn id="757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139 -0.00416 C 0.0243 -0.00416 -0.000350000000000003 -0.00333 0.03663 -0.00333 E">
                                      <p:cBhvr>
                                        <p:cTn id="759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07:17:00Z</dcterms:created>
  <dc:creator>user</dc:creator>
  <dc:description/>
  <cp:keywords/>
  <dc:language>en-US</dc:language>
  <cp:lastModifiedBy>王玉清</cp:lastModifiedBy>
  <dcterms:modified xsi:type="dcterms:W3CDTF">2016-02-19T03:34:39Z</dcterms:modified>
  <cp:revision>7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