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E54-D425-40E6-BC75-BEEB5417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9CA-2948-4099-90CF-A0A9AC30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576B9-41FB-475E-B678-6C8C52FA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CCBF9-E2C3-4198-A6CA-D376BF51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3A0F4-7748-4328-85D0-6676DA7C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53457-9BD9-49BE-8AB6-1D8748D2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22665-E706-44F7-9F8A-0847AB8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5E286-8420-49DC-AEF8-6721778F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46833-C0A5-4F1A-82CB-CE99BC15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B20C0-D8D1-4C2D-B7EE-53F34DCE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816BC-106B-4E2C-8B4D-793E3F76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F8E8F-09BC-46E1-8FD0-ED58F3E6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177-A1FD-4656-84FF-EB55CF88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7E68C-63ED-474E-A6FB-73579BE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C5CBF-D87E-4EEE-9886-2B5512ED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D7A37-BE02-416D-A0CD-96D9C97C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6F1C8-B2FE-497A-96D4-DC656108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DA2CE-276D-4CAC-8166-65E1B6A0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4FE6E-3841-432D-910D-FEB045D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F8070-F1F6-414F-B9F2-B6596E0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98E4E-32AA-45F1-995E-C927D027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4628B-DBC0-4DD2-9B79-B16D65D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74CD3-DAF6-42BB-879B-E7FDF418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ECD-B22D-4E71-ADA9-33B7FFF8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13733-8D1C-4650-9F02-B800A1DC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3C3C8-0BA2-4EB0-963C-A71057D0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C5295-C91E-4663-83D1-24C1BEA4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0C92F-5E20-48FE-AE78-F64AD9F7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E03FB-AF77-4E58-AFE7-8F25D9C7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9A827-D287-430F-91A2-1D4E457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8A9E2-0C8F-4D0E-AFC4-7E739E59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1A5B0-AF1B-4E78-8435-DFB4845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38552-6193-44ED-ABDA-24F4623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94B44-317D-4603-B892-A6FE3F8A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A7AE-4EE0-4058-A906-2F6B105D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19F11-F5B4-4539-AFAC-0C09D1C3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FCBB3-1381-45BC-A8F9-F793DE5C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B67E5-8DA2-4CE1-944E-64E4BECB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C2EE2-1407-43B0-A76C-0D007DEA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60F57-CA63-41C8-9421-81FADBA3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04282-9A86-439E-9635-128553C2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36392-E413-4C27-954B-5F78FE7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E4F88-5094-49A7-B981-3D882D85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0CC31-A2B2-4188-8D9D-A80D906F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645BA-806A-43D8-9A60-62980FD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2A7D-B612-4B15-A352-9463C4A4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5A0A3-694F-4C62-838E-F90249B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5705E-760D-4192-A501-95311542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9CD01-056D-4584-9564-13A45BD3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87FCF-6E54-4C23-A2B5-5E71F4FB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D80B5-2A5D-4CD9-9424-33B2A0E3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CE35-5E8D-43D9-91EC-6BA76904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84DE-F685-4767-99AC-00A01572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346E-B1D8-4853-9827-B808C49E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B5E5-10AD-4A2A-95BD-DDF56C9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3E04-0BA1-4866-ACB4-022A7F6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C76-586C-429C-B975-5A21C2D6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4D84-B3AA-4E9C-AF16-6A6B919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37F4-8C94-40BB-ADC1-FD3BCA9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5672-F4A9-480A-8276-6EAEB30E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3665-0DC3-48F0-BFE5-22DB3F6C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5F4F-5086-49DF-9BEB-9325D560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3E93-E293-4D1E-A049-358CB13F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2FDF-473C-4CA3-888C-F225D238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E694-D170-4CFF-9862-BCAB451E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7F83-2696-4ECF-B20C-0DF34053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4E6A-21B3-4DD8-B084-616878C0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81D-F6D5-4EDF-A837-B0792DF6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65EE-A229-4C84-A9FD-8246FA7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9679-AB62-400B-8C69-554EB15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0626-0D79-4A7E-8F8C-1ECB35CD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9C4C-04C1-4B8F-967A-32D69F88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6D0A-43EE-497B-9062-0D4552F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7E3C-3552-4B71-A446-06F33FD3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4637-F0D1-490A-A958-9CE301BE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A2EA-3EFF-4B46-9E5C-7B0DAD4B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58F08-F141-4AF5-891E-7C1DDB9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32612-B01B-4869-BCB2-339CB330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551-86B5-4281-9199-7B7416FE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7268-84F2-453F-B543-66DE0F81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7626-A8D9-4771-B9E8-AE4021F0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313F-600D-467B-8DAB-E7322070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2EB9-0C3B-43D2-A566-5F1D1647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32EB-A000-4A78-99C1-F4C9C3C6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F1489-6896-4821-B7E9-C19727FD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BE6D-35D8-485B-9A12-09B2E79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74160-9131-4BE4-B50D-90C95505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5977-726A-402F-B532-A0842620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B30E-AC5E-4189-BF7F-5D655D5C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BE4-9069-465C-8DB7-6BB9FE19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0530-D0B7-4E78-A4A0-558CEB60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914C-FA9A-45D3-BD9E-8A0227C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7725-7DDE-4CDD-886E-03319826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3152D-8881-4038-9E1F-9D3908AA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5614-D176-4C92-ACBA-BDE8E2D9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D40E-3365-4DA1-90C1-7044C06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93625-8E2F-4B65-B08C-4DC4910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840A-6EE2-4248-B1DD-ADCDED17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786D0-E268-488F-A857-6CFD1D4C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CB5D-8B54-4B01-A9F5-AACDF6AE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138-C6F2-432F-A88E-94B54B46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BE62A-6BF1-4707-9CBC-74CB1C97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74671-67F1-4ADE-8B76-38F155F1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6217A-52F3-44B8-BDFD-AEABE456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A3F9-9C6E-469B-B6F3-4BA97860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D98A-ADDB-4E3B-A03D-91104569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7F65D-03DA-4526-9C3B-C2987E1B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A6833-4428-43CB-9865-6E32FDE4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B554-5C76-49BD-B945-AFE3EE30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2E435-E86E-44D9-A537-E72F809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AC2B8-44BC-4195-AF9A-7A0CFAE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613-2572-4E45-A709-7F434FF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D16ED-4B67-4E58-BE3B-A72054D2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3A676-E0D1-4D46-A392-F5A9CDD1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8391-9204-4DA3-A939-89B4CA39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BA068-DBD8-45F3-814D-C19456F9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3CFC0-0103-4CAC-8C54-29C9FE03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8ED6-814F-4235-A4C6-86ADE1D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8CE84-281B-437C-87BB-6133E3F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5EB2-2887-4FED-A35F-6A5772CF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20087-E420-45C1-BD7C-6D45AE80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47D22-EF19-4D93-9870-897CC98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1CC-7E19-45CA-9923-81B0AF0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560F4-A2D7-4B91-88C4-AD5D2D3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E773A-DC71-45F2-AC92-7CE26CDA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B7B7-CE02-41C2-8585-B494CC1B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6CF3-0BF5-4029-9258-428EAE38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A06D-AA75-45CB-84F8-B259F020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4E3A3-8145-4FEB-A2E5-9AA49E3D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86745-FF0E-4833-8BCB-5CA92EF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3E69-FFD6-417E-9C5B-76AB8B73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FCDF0-3397-418B-80F4-AB884B1D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3F66-A992-4FAC-8D22-E5ABCFC7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480-B6A8-4C19-9D4B-6A385C6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1F0C2-E6FA-466B-A0F6-574BFB2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C802C-2BAF-43A3-B3AC-525B40E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66C5-8DD7-435C-A451-B6F3CD5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C65EC-2F82-4BD4-A817-9539A00F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3CBCE-7B3B-4859-819B-9D9316B5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F67A5-BA34-40B3-942A-7179E7B5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00F21-FF79-4632-93FA-0C53ED54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3AD68-F8BC-4101-B72F-DAB44FEA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511F7-34C6-4EA8-B08A-42C71604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C963B-E324-4567-AD90-640DD1A1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3D4C-5693-463A-880C-05884CF8F0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33E-F4D2-445A-AC02-2D72B43DAC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CAA0-B6E6-4341-B3F4-7B7B5008CE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20D0-F820-47B9-9A71-75F5208DED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六边形 7"/>
          <p:cNvSpPr/>
          <p:nvPr/>
        </p:nvSpPr>
        <p:spPr>
          <a:xfrm rot="5400000">
            <a:off x="8246880" y="5540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8"/>
          <p:cNvSpPr/>
          <p:nvPr/>
        </p:nvSpPr>
        <p:spPr>
          <a:xfrm rot="5400000">
            <a:off x="2199960" y="480060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六边形 9"/>
          <p:cNvSpPr/>
          <p:nvPr/>
        </p:nvSpPr>
        <p:spPr>
          <a:xfrm rot="5400000">
            <a:off x="2700000" y="44244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边形 10"/>
          <p:cNvSpPr/>
          <p:nvPr/>
        </p:nvSpPr>
        <p:spPr>
          <a:xfrm rot="5400000">
            <a:off x="7531920" y="11826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0" y="1857240"/>
            <a:ext cx="9144000" cy="321480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0" y="5072040"/>
            <a:ext cx="9144000" cy="14292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0" y="1714680"/>
            <a:ext cx="9144000" cy="14256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六边形 14"/>
          <p:cNvSpPr/>
          <p:nvPr/>
        </p:nvSpPr>
        <p:spPr>
          <a:xfrm rot="5400000">
            <a:off x="1746000" y="968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六边形 15"/>
          <p:cNvSpPr/>
          <p:nvPr/>
        </p:nvSpPr>
        <p:spPr>
          <a:xfrm rot="5400000">
            <a:off x="108360" y="183240"/>
            <a:ext cx="581040" cy="500040"/>
          </a:xfrm>
          <a:prstGeom prst="hexagon">
            <a:avLst>
              <a:gd name="adj" fmla="val 25004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16"/>
          <p:cNvSpPr/>
          <p:nvPr/>
        </p:nvSpPr>
        <p:spPr>
          <a:xfrm rot="5400000">
            <a:off x="2602800" y="2538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六边形 17"/>
          <p:cNvSpPr/>
          <p:nvPr/>
        </p:nvSpPr>
        <p:spPr>
          <a:xfrm rot="5400000">
            <a:off x="8603640" y="396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六边形 18"/>
          <p:cNvSpPr/>
          <p:nvPr/>
        </p:nvSpPr>
        <p:spPr>
          <a:xfrm rot="5400000">
            <a:off x="8246880" y="61128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六边形 19"/>
          <p:cNvSpPr/>
          <p:nvPr/>
        </p:nvSpPr>
        <p:spPr>
          <a:xfrm rot="5400000">
            <a:off x="6960960" y="32508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六边形 20"/>
          <p:cNvSpPr/>
          <p:nvPr/>
        </p:nvSpPr>
        <p:spPr>
          <a:xfrm rot="5400000">
            <a:off x="7272000" y="853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BK-037"/>
          <p:cNvPicPr/>
          <p:nvPr/>
        </p:nvPicPr>
        <p:blipFill>
          <a:blip r:embed="rId2"/>
          <a:stretch/>
        </p:blipFill>
        <p:spPr>
          <a:xfrm>
            <a:off x="5857920" y="1857240"/>
            <a:ext cx="3538440" cy="5000760"/>
          </a:xfrm>
          <a:prstGeom prst="rect">
            <a:avLst/>
          </a:prstGeom>
          <a:ln w="0">
            <a:noFill/>
          </a:ln>
        </p:spPr>
      </p:pic>
      <p:sp>
        <p:nvSpPr>
          <p:cNvPr id="57" name="六边形 22"/>
          <p:cNvSpPr/>
          <p:nvPr/>
        </p:nvSpPr>
        <p:spPr>
          <a:xfrm rot="5400000">
            <a:off x="1103040" y="5540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六边形 23"/>
          <p:cNvSpPr/>
          <p:nvPr/>
        </p:nvSpPr>
        <p:spPr>
          <a:xfrm rot="5400000">
            <a:off x="1387800" y="6112440"/>
            <a:ext cx="581040" cy="500040"/>
          </a:xfrm>
          <a:prstGeom prst="hexagon">
            <a:avLst>
              <a:gd name="adj" fmla="val 25004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六边形 24"/>
          <p:cNvSpPr/>
          <p:nvPr/>
        </p:nvSpPr>
        <p:spPr>
          <a:xfrm rot="5400000">
            <a:off x="745560" y="611172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六边形 25"/>
          <p:cNvSpPr/>
          <p:nvPr/>
        </p:nvSpPr>
        <p:spPr>
          <a:xfrm rot="5400000">
            <a:off x="5317560" y="546876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六边形 26"/>
          <p:cNvSpPr/>
          <p:nvPr/>
        </p:nvSpPr>
        <p:spPr>
          <a:xfrm rot="5400000">
            <a:off x="4245840" y="59688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六边形 27"/>
          <p:cNvSpPr/>
          <p:nvPr/>
        </p:nvSpPr>
        <p:spPr>
          <a:xfrm rot="5400000">
            <a:off x="3414240" y="544356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2981-2849-46B6-99B2-B6B7E2BBF3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5840" y="428760"/>
            <a:ext cx="576000" cy="663480"/>
          </a:xfrm>
          <a:prstGeom prst="rect">
            <a:avLst/>
          </a:prstGeom>
          <a:ln w="0">
            <a:noFill/>
          </a:ln>
        </p:spPr>
      </p:pic>
      <p:sp>
        <p:nvSpPr>
          <p:cNvPr id="107" name="六边形 9"/>
          <p:cNvSpPr/>
          <p:nvPr/>
        </p:nvSpPr>
        <p:spPr>
          <a:xfrm rot="5400000">
            <a:off x="127800" y="53719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六边形 10"/>
          <p:cNvSpPr/>
          <p:nvPr/>
        </p:nvSpPr>
        <p:spPr>
          <a:xfrm rot="5400000">
            <a:off x="770760" y="430056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六边形 11"/>
          <p:cNvSpPr/>
          <p:nvPr/>
        </p:nvSpPr>
        <p:spPr>
          <a:xfrm rot="5400000">
            <a:off x="1413720" y="53719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99C7-8D99-4983-8576-338DBE878D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871-3ADA-4639-BF21-11D64C47FF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B28-18E5-4099-B144-604227417D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860-3ADA-493E-9BD3-0BFE4078CA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F35D-10BB-47FB-8711-2C92F2ECD9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90FF-D5A3-4DA9-BC4B-5B4E5ED841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5C7-FAD9-430A-B798-CCBCC58C3E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6760" y="2143080"/>
            <a:ext cx="6986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绿色简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14200" y="392904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23"/>
          <p:cNvGrpSpPr/>
          <p:nvPr/>
        </p:nvGrpSpPr>
        <p:grpSpPr>
          <a:xfrm>
            <a:off x="242280" y="1676160"/>
            <a:ext cx="8382960" cy="4825440"/>
            <a:chOff x="242280" y="1676160"/>
            <a:chExt cx="8382960" cy="4825440"/>
          </a:xfrm>
        </p:grpSpPr>
        <p:sp>
          <p:nvSpPr>
            <p:cNvPr id="697" name="Text Box 4"/>
            <p:cNvSpPr/>
            <p:nvPr/>
          </p:nvSpPr>
          <p:spPr>
            <a:xfrm>
              <a:off x="6719400" y="317988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19"/>
            <p:cNvGrpSpPr/>
            <p:nvPr/>
          </p:nvGrpSpPr>
          <p:grpSpPr>
            <a:xfrm>
              <a:off x="1038600" y="2384280"/>
              <a:ext cx="1344600" cy="1321200"/>
              <a:chOff x="1038600" y="2384280"/>
              <a:chExt cx="1344600" cy="1321200"/>
            </a:xfrm>
          </p:grpSpPr>
          <p:sp>
            <p:nvSpPr>
              <p:cNvPr id="699" name="Rectangle 5"/>
              <p:cNvSpPr/>
              <p:nvPr/>
            </p:nvSpPr>
            <p:spPr>
              <a:xfrm rot="3418800">
                <a:off x="1248840" y="25430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50742f"/>
                  </a:gs>
                  <a:gs pos="100000">
                    <a:srgbClr val="253616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6"/>
              <p:cNvSpPr/>
              <p:nvPr/>
            </p:nvSpPr>
            <p:spPr>
              <a:xfrm>
                <a:off x="1365480" y="29019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0"/>
            <p:cNvGrpSpPr/>
            <p:nvPr/>
          </p:nvGrpSpPr>
          <p:grpSpPr>
            <a:xfrm>
              <a:off x="2473560" y="4289040"/>
              <a:ext cx="1344960" cy="1321560"/>
              <a:chOff x="2473560" y="4289040"/>
              <a:chExt cx="1344960" cy="1321560"/>
            </a:xfrm>
          </p:grpSpPr>
          <p:sp>
            <p:nvSpPr>
              <p:cNvPr id="702" name="Rectangle 7"/>
              <p:cNvSpPr/>
              <p:nvPr/>
            </p:nvSpPr>
            <p:spPr>
              <a:xfrm rot="3418800">
                <a:off x="2683800" y="4448160"/>
                <a:ext cx="924120" cy="1003320"/>
              </a:xfrm>
              <a:prstGeom prst="rect">
                <a:avLst/>
              </a:prstGeom>
              <a:gradFill rotWithShape="0">
                <a:gsLst>
                  <a:gs pos="0">
                    <a:srgbClr val="268868"/>
                  </a:gs>
                  <a:gs pos="100000">
                    <a:srgbClr val="123f30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8"/>
              <p:cNvSpPr/>
              <p:nvPr/>
            </p:nvSpPr>
            <p:spPr>
              <a:xfrm>
                <a:off x="2800440" y="480708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21"/>
            <p:cNvGrpSpPr/>
            <p:nvPr/>
          </p:nvGrpSpPr>
          <p:grpSpPr>
            <a:xfrm>
              <a:off x="4543920" y="3136680"/>
              <a:ext cx="1344600" cy="1321200"/>
              <a:chOff x="4543920" y="3136680"/>
              <a:chExt cx="1344600" cy="1321200"/>
            </a:xfrm>
          </p:grpSpPr>
          <p:sp>
            <p:nvSpPr>
              <p:cNvPr id="705" name="Rectangle 9"/>
              <p:cNvSpPr/>
              <p:nvPr/>
            </p:nvSpPr>
            <p:spPr>
              <a:xfrm rot="3418800">
                <a:off x="4754160" y="32954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d9be02"/>
                  </a:gs>
                  <a:gs pos="100000">
                    <a:srgbClr val="645801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10"/>
              <p:cNvSpPr/>
              <p:nvPr/>
            </p:nvSpPr>
            <p:spPr>
              <a:xfrm>
                <a:off x="4870800" y="36543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22"/>
            <p:cNvGrpSpPr/>
            <p:nvPr/>
          </p:nvGrpSpPr>
          <p:grpSpPr>
            <a:xfrm>
              <a:off x="6893280" y="1676160"/>
              <a:ext cx="1344600" cy="1321200"/>
              <a:chOff x="6893280" y="1676160"/>
              <a:chExt cx="1344600" cy="1321200"/>
            </a:xfrm>
          </p:grpSpPr>
          <p:sp>
            <p:nvSpPr>
              <p:cNvPr id="708" name="Rectangle 3"/>
              <p:cNvSpPr/>
              <p:nvPr/>
            </p:nvSpPr>
            <p:spPr>
              <a:xfrm rot="3418800">
                <a:off x="7103520" y="183492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f900f9"/>
                  </a:gs>
                  <a:gs pos="100000">
                    <a:srgbClr val="730073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Text Box 11"/>
              <p:cNvSpPr/>
              <p:nvPr/>
            </p:nvSpPr>
            <p:spPr>
              <a:xfrm>
                <a:off x="7220160" y="219384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Line 12"/>
            <p:cNvSpPr/>
            <p:nvPr/>
          </p:nvSpPr>
          <p:spPr>
            <a:xfrm>
              <a:off x="2047680" y="3497400"/>
              <a:ext cx="76212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 flipV="1">
              <a:off x="3647880" y="4030560"/>
              <a:ext cx="106704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5781600" y="2646360"/>
              <a:ext cx="129528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5"/>
            <p:cNvSpPr/>
            <p:nvPr/>
          </p:nvSpPr>
          <p:spPr>
            <a:xfrm>
              <a:off x="2352600" y="2081160"/>
              <a:ext cx="41148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2376000" y="577044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7"/>
            <p:cNvSpPr/>
            <p:nvPr/>
          </p:nvSpPr>
          <p:spPr>
            <a:xfrm>
              <a:off x="4662000" y="470376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8"/>
            <p:cNvSpPr/>
            <p:nvPr/>
          </p:nvSpPr>
          <p:spPr>
            <a:xfrm>
              <a:off x="242280" y="386568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57120" y="1643040"/>
            <a:ext cx="8143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圆角矩形 48"/>
          <p:cNvSpPr/>
          <p:nvPr/>
        </p:nvSpPr>
        <p:spPr>
          <a:xfrm>
            <a:off x="642960" y="2071800"/>
            <a:ext cx="7643880" cy="3571920"/>
          </a:xfrm>
          <a:prstGeom prst="roundRect">
            <a:avLst>
              <a:gd name="adj" fmla="val 8065"/>
            </a:avLst>
          </a:prstGeom>
          <a:solidFill>
            <a:srgbClr val="e9ece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000080" y="2643120"/>
          <a:ext cx="7072200" cy="2786040"/>
        </p:xfrm>
        <a:graphic>
          <a:graphicData uri="http://schemas.openxmlformats.org/drawingml/2006/table">
            <a:tbl>
              <a:tblPr/>
              <a:tblGrid>
                <a:gridCol w="1009800"/>
                <a:gridCol w="1011240"/>
                <a:gridCol w="1009440"/>
                <a:gridCol w="1011240"/>
                <a:gridCol w="1009800"/>
                <a:gridCol w="1011240"/>
                <a:gridCol w="1009440"/>
              </a:tblGrid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55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</a:tbl>
          </a:graphicData>
        </a:graphic>
      </p:graphicFrame>
      <p:sp>
        <p:nvSpPr>
          <p:cNvPr id="546" name="TextBox 49"/>
          <p:cNvSpPr/>
          <p:nvPr/>
        </p:nvSpPr>
        <p:spPr>
          <a:xfrm>
            <a:off x="1643040" y="21430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组合 46"/>
          <p:cNvGrpSpPr/>
          <p:nvPr/>
        </p:nvGrpSpPr>
        <p:grpSpPr>
          <a:xfrm>
            <a:off x="785880" y="3005280"/>
            <a:ext cx="7143840" cy="761760"/>
            <a:chOff x="785880" y="3005280"/>
            <a:chExt cx="7143840" cy="761760"/>
          </a:xfrm>
        </p:grpSpPr>
        <p:sp>
          <p:nvSpPr>
            <p:cNvPr id="549" name="矩形 4"/>
            <p:cNvSpPr/>
            <p:nvPr/>
          </p:nvSpPr>
          <p:spPr>
            <a:xfrm>
              <a:off x="785880" y="3005280"/>
              <a:ext cx="7143840" cy="7617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5"/>
            <p:cNvSpPr/>
            <p:nvPr/>
          </p:nvSpPr>
          <p:spPr>
            <a:xfrm>
              <a:off x="785880" y="3005280"/>
              <a:ext cx="844560" cy="761760"/>
            </a:xfrm>
            <a:prstGeom prst="rect">
              <a:avLst/>
            </a:prstGeom>
            <a:gradFill rotWithShape="0">
              <a:gsLst>
                <a:gs pos="0">
                  <a:srgbClr val="1d664e"/>
                </a:gs>
                <a:gs pos="100000">
                  <a:srgbClr val="61d3ae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45"/>
          <p:cNvGrpSpPr/>
          <p:nvPr/>
        </p:nvGrpSpPr>
        <p:grpSpPr>
          <a:xfrm>
            <a:off x="785880" y="2022480"/>
            <a:ext cx="7143840" cy="763560"/>
            <a:chOff x="785880" y="2022480"/>
            <a:chExt cx="7143840" cy="763560"/>
          </a:xfrm>
        </p:grpSpPr>
        <p:sp>
          <p:nvSpPr>
            <p:cNvPr id="552" name="矩形 7"/>
            <p:cNvSpPr/>
            <p:nvPr/>
          </p:nvSpPr>
          <p:spPr>
            <a:xfrm>
              <a:off x="785880" y="20224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1d664e"/>
                </a:gs>
                <a:gs pos="100000">
                  <a:srgbClr val="61d3ae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8"/>
            <p:cNvSpPr/>
            <p:nvPr/>
          </p:nvSpPr>
          <p:spPr>
            <a:xfrm>
              <a:off x="785880" y="20224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47"/>
          <p:cNvGrpSpPr/>
          <p:nvPr/>
        </p:nvGrpSpPr>
        <p:grpSpPr>
          <a:xfrm>
            <a:off x="785880" y="4000680"/>
            <a:ext cx="7143840" cy="763560"/>
            <a:chOff x="785880" y="4000680"/>
            <a:chExt cx="7143840" cy="763560"/>
          </a:xfrm>
        </p:grpSpPr>
        <p:sp>
          <p:nvSpPr>
            <p:cNvPr id="555" name="矩形 10"/>
            <p:cNvSpPr/>
            <p:nvPr/>
          </p:nvSpPr>
          <p:spPr>
            <a:xfrm>
              <a:off x="785880" y="40006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1d664e"/>
                </a:gs>
                <a:gs pos="100000">
                  <a:srgbClr val="61d3ae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1"/>
            <p:cNvSpPr/>
            <p:nvPr/>
          </p:nvSpPr>
          <p:spPr>
            <a:xfrm>
              <a:off x="785880" y="40006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48"/>
          <p:cNvGrpSpPr/>
          <p:nvPr/>
        </p:nvGrpSpPr>
        <p:grpSpPr>
          <a:xfrm>
            <a:off x="785880" y="5072040"/>
            <a:ext cx="7143840" cy="763560"/>
            <a:chOff x="785880" y="5072040"/>
            <a:chExt cx="7143840" cy="763560"/>
          </a:xfrm>
        </p:grpSpPr>
        <p:sp>
          <p:nvSpPr>
            <p:cNvPr id="558" name="矩形 13"/>
            <p:cNvSpPr/>
            <p:nvPr/>
          </p:nvSpPr>
          <p:spPr>
            <a:xfrm>
              <a:off x="785880" y="507204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14"/>
            <p:cNvSpPr/>
            <p:nvPr/>
          </p:nvSpPr>
          <p:spPr>
            <a:xfrm>
              <a:off x="785880" y="507204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1d664e"/>
                </a:gs>
                <a:gs pos="100000">
                  <a:srgbClr val="61d3ae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Box 50"/>
          <p:cNvSpPr/>
          <p:nvPr/>
        </p:nvSpPr>
        <p:spPr>
          <a:xfrm>
            <a:off x="2419200" y="216864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6"/>
          <p:cNvSpPr/>
          <p:nvPr/>
        </p:nvSpPr>
        <p:spPr>
          <a:xfrm>
            <a:off x="2438280" y="41799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7"/>
          <p:cNvSpPr/>
          <p:nvPr/>
        </p:nvSpPr>
        <p:spPr>
          <a:xfrm>
            <a:off x="2438280" y="52149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78"/>
          <p:cNvSpPr/>
          <p:nvPr/>
        </p:nvSpPr>
        <p:spPr>
          <a:xfrm>
            <a:off x="2419200" y="313200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34596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组合 10"/>
          <p:cNvGrpSpPr/>
          <p:nvPr/>
        </p:nvGrpSpPr>
        <p:grpSpPr>
          <a:xfrm>
            <a:off x="357120" y="2500200"/>
            <a:ext cx="8030880" cy="2281320"/>
            <a:chOff x="357120" y="2500200"/>
            <a:chExt cx="8030880" cy="2281320"/>
          </a:xfrm>
        </p:grpSpPr>
        <p:sp>
          <p:nvSpPr>
            <p:cNvPr id="566" name="AutoShape 15"/>
            <p:cNvSpPr/>
            <p:nvPr/>
          </p:nvSpPr>
          <p:spPr>
            <a:xfrm rot="10800000">
              <a:off x="5293800" y="300384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>
                    <a:alpha val="14117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3"/>
            <p:cNvSpPr/>
            <p:nvPr/>
          </p:nvSpPr>
          <p:spPr>
            <a:xfrm>
              <a:off x="357120" y="300240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>
                    <a:alpha val="14117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2"/>
            <p:cNvSpPr/>
            <p:nvPr/>
          </p:nvSpPr>
          <p:spPr>
            <a:xfrm>
              <a:off x="2732760" y="3488400"/>
              <a:ext cx="3225960" cy="1291680"/>
            </a:xfrm>
            <a:prstGeom prst="ellipse">
              <a:avLst/>
            </a:prstGeom>
            <a:gradFill rotWithShape="0">
              <a:gsLst>
                <a:gs pos="0">
                  <a:srgbClr val="6c6c6c">
                    <a:alpha val="70196"/>
                  </a:srgbClr>
                </a:gs>
                <a:gs pos="100000">
                  <a:srgbClr val="eaeae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4"/>
            <p:cNvSpPr/>
            <p:nvPr/>
          </p:nvSpPr>
          <p:spPr>
            <a:xfrm>
              <a:off x="3589200" y="2500200"/>
              <a:ext cx="1580400" cy="15804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5"/>
            <p:cNvSpPr/>
            <p:nvPr/>
          </p:nvSpPr>
          <p:spPr>
            <a:xfrm>
              <a:off x="3713760" y="2500200"/>
              <a:ext cx="1317600" cy="116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7"/>
            <p:cNvSpPr/>
            <p:nvPr/>
          </p:nvSpPr>
          <p:spPr>
            <a:xfrm>
              <a:off x="357120" y="254196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 rot="10800000">
              <a:off x="5356440" y="254160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solidFill>
              <a:srgbClr val="006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Box 9"/>
          <p:cNvSpPr/>
          <p:nvPr/>
        </p:nvSpPr>
        <p:spPr>
          <a:xfrm>
            <a:off x="571680" y="442908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5500800" y="442260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3071880" y="171468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82520" y="6440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9be02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직사각형 45"/>
          <p:cNvSpPr/>
          <p:nvPr/>
        </p:nvSpPr>
        <p:spPr>
          <a:xfrm>
            <a:off x="2205000" y="4468680"/>
            <a:ext cx="1503360" cy="11937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오른쪽 화살표 47"/>
          <p:cNvGrpSpPr/>
          <p:nvPr/>
        </p:nvGrpSpPr>
        <p:grpSpPr>
          <a:xfrm>
            <a:off x="2511360" y="4651200"/>
            <a:ext cx="1165320" cy="938520"/>
            <a:chOff x="2511360" y="4651200"/>
            <a:chExt cx="1165320" cy="938520"/>
          </a:xfrm>
        </p:grpSpPr>
        <p:pic>
          <p:nvPicPr>
            <p:cNvPr id="580" name="오른쪽 화살표 47" descr=""/>
            <p:cNvPicPr/>
            <p:nvPr/>
          </p:nvPicPr>
          <p:blipFill>
            <a:blip r:embed="rId1"/>
            <a:stretch/>
          </p:blipFill>
          <p:spPr>
            <a:xfrm>
              <a:off x="2511360" y="4651200"/>
              <a:ext cx="11653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2516040" y="4897440"/>
              <a:ext cx="920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직사각형 44"/>
          <p:cNvSpPr/>
          <p:nvPr/>
        </p:nvSpPr>
        <p:spPr>
          <a:xfrm>
            <a:off x="2205000" y="2292480"/>
            <a:ext cx="1503360" cy="11919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오른쪽 화살표 46"/>
          <p:cNvGrpSpPr/>
          <p:nvPr/>
        </p:nvGrpSpPr>
        <p:grpSpPr>
          <a:xfrm>
            <a:off x="2511360" y="2419200"/>
            <a:ext cx="1165320" cy="939960"/>
            <a:chOff x="2511360" y="2419200"/>
            <a:chExt cx="1165320" cy="939960"/>
          </a:xfrm>
        </p:grpSpPr>
        <p:pic>
          <p:nvPicPr>
            <p:cNvPr id="584" name="오른쪽 화살표 46" descr=""/>
            <p:cNvPicPr/>
            <p:nvPr/>
          </p:nvPicPr>
          <p:blipFill>
            <a:blip r:embed="rId2"/>
            <a:stretch/>
          </p:blipFill>
          <p:spPr>
            <a:xfrm>
              <a:off x="2511360" y="2419200"/>
              <a:ext cx="1165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2516040" y="2666880"/>
              <a:ext cx="920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타원 3"/>
          <p:cNvSpPr/>
          <p:nvPr/>
        </p:nvSpPr>
        <p:spPr>
          <a:xfrm>
            <a:off x="909720" y="3587760"/>
            <a:ext cx="1762200" cy="36360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4"/>
          <p:cNvSpPr/>
          <p:nvPr/>
        </p:nvSpPr>
        <p:spPr>
          <a:xfrm>
            <a:off x="857160" y="1928880"/>
            <a:ext cx="1866960" cy="1866960"/>
          </a:xfrm>
          <a:prstGeom prst="ellipse">
            <a:avLst/>
          </a:prstGeom>
          <a:solidFill>
            <a:srgbClr val="61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그룹 25"/>
          <p:cNvGrpSpPr/>
          <p:nvPr/>
        </p:nvGrpSpPr>
        <p:grpSpPr>
          <a:xfrm>
            <a:off x="960480" y="2031840"/>
            <a:ext cx="1658880" cy="1659240"/>
            <a:chOff x="960480" y="2031840"/>
            <a:chExt cx="1658880" cy="1659240"/>
          </a:xfrm>
        </p:grpSpPr>
        <p:sp>
          <p:nvSpPr>
            <p:cNvPr id="589" name="Oval 4"/>
            <p:cNvSpPr/>
            <p:nvPr/>
          </p:nvSpPr>
          <p:spPr>
            <a:xfrm>
              <a:off x="960480" y="2031840"/>
              <a:ext cx="1658880" cy="165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"/>
            <p:cNvSpPr/>
            <p:nvPr/>
          </p:nvSpPr>
          <p:spPr>
            <a:xfrm>
              <a:off x="1012320" y="2083680"/>
              <a:ext cx="1555200" cy="155556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1" name="Picture 3" descr="C:\Documents and Settings\HANA\바탕 화면\김성태\업무\파워포인트\자료\그림3.png"/>
          <p:cNvPicPr/>
          <p:nvPr/>
        </p:nvPicPr>
        <p:blipFill>
          <a:blip r:embed="rId3"/>
          <a:stretch/>
        </p:blipFill>
        <p:spPr>
          <a:xfrm>
            <a:off x="1000080" y="3224160"/>
            <a:ext cx="1560600" cy="420840"/>
          </a:xfrm>
          <a:prstGeom prst="rect">
            <a:avLst/>
          </a:prstGeom>
          <a:ln w="0">
            <a:noFill/>
          </a:ln>
        </p:spPr>
      </p:pic>
      <p:sp>
        <p:nvSpPr>
          <p:cNvPr id="592" name="타원 29"/>
          <p:cNvSpPr/>
          <p:nvPr/>
        </p:nvSpPr>
        <p:spPr>
          <a:xfrm>
            <a:off x="909720" y="5765760"/>
            <a:ext cx="1762200" cy="36360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4"/>
          <p:cNvSpPr/>
          <p:nvPr/>
        </p:nvSpPr>
        <p:spPr>
          <a:xfrm>
            <a:off x="857160" y="4106880"/>
            <a:ext cx="1866960" cy="1866960"/>
          </a:xfrm>
          <a:prstGeom prst="ellipse">
            <a:avLst/>
          </a:prstGeom>
          <a:solidFill>
            <a:srgbClr val="61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그룹 31"/>
          <p:cNvGrpSpPr/>
          <p:nvPr/>
        </p:nvGrpSpPr>
        <p:grpSpPr>
          <a:xfrm>
            <a:off x="960480" y="4210200"/>
            <a:ext cx="1658880" cy="1658880"/>
            <a:chOff x="960480" y="4210200"/>
            <a:chExt cx="1658880" cy="1658880"/>
          </a:xfrm>
        </p:grpSpPr>
        <p:sp>
          <p:nvSpPr>
            <p:cNvPr id="595" name="Oval 4"/>
            <p:cNvSpPr/>
            <p:nvPr/>
          </p:nvSpPr>
          <p:spPr>
            <a:xfrm>
              <a:off x="960480" y="4210200"/>
              <a:ext cx="1658880" cy="165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4"/>
            <p:cNvSpPr/>
            <p:nvPr/>
          </p:nvSpPr>
          <p:spPr>
            <a:xfrm>
              <a:off x="1012320" y="4262040"/>
              <a:ext cx="1555200" cy="155520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Oval 118"/>
          <p:cNvSpPr/>
          <p:nvPr/>
        </p:nvSpPr>
        <p:spPr>
          <a:xfrm>
            <a:off x="1220760" y="4262400"/>
            <a:ext cx="113976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타원 36"/>
          <p:cNvGrpSpPr/>
          <p:nvPr/>
        </p:nvGrpSpPr>
        <p:grpSpPr>
          <a:xfrm>
            <a:off x="1103400" y="3121200"/>
            <a:ext cx="1377720" cy="188640"/>
            <a:chOff x="1103400" y="3121200"/>
            <a:chExt cx="1377720" cy="188640"/>
          </a:xfrm>
        </p:grpSpPr>
        <p:pic>
          <p:nvPicPr>
            <p:cNvPr id="599" name="타원 36" descr=""/>
            <p:cNvPicPr/>
            <p:nvPr/>
          </p:nvPicPr>
          <p:blipFill>
            <a:blip r:embed="rId4"/>
            <a:stretch/>
          </p:blipFill>
          <p:spPr>
            <a:xfrm>
              <a:off x="1103400" y="3121200"/>
              <a:ext cx="13777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303200" y="3149640"/>
              <a:ext cx="9748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1" name="Picture 4" descr="C:\Documents and Settings\HANA\바탕 화면\김성태\업무\파워포인트\자료\그림3.png"/>
          <p:cNvPicPr/>
          <p:nvPr/>
        </p:nvPicPr>
        <p:blipFill>
          <a:blip r:embed="rId5"/>
          <a:stretch/>
        </p:blipFill>
        <p:spPr>
          <a:xfrm>
            <a:off x="1006560" y="5041800"/>
            <a:ext cx="1560600" cy="779400"/>
          </a:xfrm>
          <a:prstGeom prst="rect">
            <a:avLst/>
          </a:prstGeom>
          <a:ln w="0">
            <a:noFill/>
          </a:ln>
        </p:spPr>
      </p:pic>
      <p:sp>
        <p:nvSpPr>
          <p:cNvPr id="602" name="Oval 118"/>
          <p:cNvSpPr/>
          <p:nvPr/>
        </p:nvSpPr>
        <p:spPr>
          <a:xfrm>
            <a:off x="1220760" y="2084400"/>
            <a:ext cx="1139760" cy="83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타원 39"/>
          <p:cNvGrpSpPr/>
          <p:nvPr/>
        </p:nvGrpSpPr>
        <p:grpSpPr>
          <a:xfrm>
            <a:off x="1011240" y="4937040"/>
            <a:ext cx="1555920" cy="189000"/>
            <a:chOff x="1011240" y="4937040"/>
            <a:chExt cx="1555920" cy="189000"/>
          </a:xfrm>
        </p:grpSpPr>
        <p:pic>
          <p:nvPicPr>
            <p:cNvPr id="604" name="타원 39" descr=""/>
            <p:cNvPicPr/>
            <p:nvPr/>
          </p:nvPicPr>
          <p:blipFill>
            <a:blip r:embed="rId6"/>
            <a:stretch/>
          </p:blipFill>
          <p:spPr>
            <a:xfrm>
              <a:off x="1011240" y="4937040"/>
              <a:ext cx="15559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239840" y="4964040"/>
              <a:ext cx="1100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34"/>
          <p:cNvGrpSpPr/>
          <p:nvPr/>
        </p:nvGrpSpPr>
        <p:grpSpPr>
          <a:xfrm>
            <a:off x="3760920" y="2290680"/>
            <a:ext cx="4668840" cy="1193760"/>
            <a:chOff x="3760920" y="2290680"/>
            <a:chExt cx="4668840" cy="1193760"/>
          </a:xfrm>
        </p:grpSpPr>
        <p:sp>
          <p:nvSpPr>
            <p:cNvPr id="607" name="Rectangle 52"/>
            <p:cNvSpPr/>
            <p:nvPr/>
          </p:nvSpPr>
          <p:spPr>
            <a:xfrm>
              <a:off x="3760920" y="229068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3c5723"/>
                </a:gs>
              </a:gsLst>
              <a:lin ang="27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3"/>
            <p:cNvSpPr/>
            <p:nvPr/>
          </p:nvSpPr>
          <p:spPr>
            <a:xfrm>
              <a:off x="3760920" y="255096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35"/>
          <p:cNvGrpSpPr/>
          <p:nvPr/>
        </p:nvGrpSpPr>
        <p:grpSpPr>
          <a:xfrm>
            <a:off x="3760920" y="4468680"/>
            <a:ext cx="4668840" cy="1193760"/>
            <a:chOff x="3760920" y="4468680"/>
            <a:chExt cx="4668840" cy="1193760"/>
          </a:xfrm>
        </p:grpSpPr>
        <p:sp>
          <p:nvSpPr>
            <p:cNvPr id="610" name="Rectangle 52"/>
            <p:cNvSpPr/>
            <p:nvPr/>
          </p:nvSpPr>
          <p:spPr>
            <a:xfrm>
              <a:off x="3760920" y="446868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3c5723"/>
                </a:gs>
              </a:gsLst>
              <a:lin ang="27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3"/>
            <p:cNvSpPr/>
            <p:nvPr/>
          </p:nvSpPr>
          <p:spPr>
            <a:xfrm>
              <a:off x="3760920" y="472896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Box 36"/>
          <p:cNvSpPr/>
          <p:nvPr/>
        </p:nvSpPr>
        <p:spPr>
          <a:xfrm>
            <a:off x="4071960" y="2786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37"/>
          <p:cNvSpPr/>
          <p:nvPr/>
        </p:nvSpPr>
        <p:spPr>
          <a:xfrm>
            <a:off x="4000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2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133720" y="2495520"/>
            <a:ext cx="5257080" cy="2895120"/>
            <a:chOff x="2133720" y="2495520"/>
            <a:chExt cx="5257080" cy="2895120"/>
          </a:xfrm>
        </p:grpSpPr>
        <p:sp>
          <p:nvSpPr>
            <p:cNvPr id="616" name="Freeform 4"/>
            <p:cNvSpPr/>
            <p:nvPr/>
          </p:nvSpPr>
          <p:spPr>
            <a:xfrm>
              <a:off x="2926080" y="398520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"/>
            <p:cNvSpPr/>
            <p:nvPr/>
          </p:nvSpPr>
          <p:spPr>
            <a:xfrm>
              <a:off x="3762000" y="2495520"/>
              <a:ext cx="3619440" cy="178632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"/>
            <p:cNvSpPr/>
            <p:nvPr/>
          </p:nvSpPr>
          <p:spPr>
            <a:xfrm>
              <a:off x="2133720" y="289188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7"/>
          <p:cNvGrpSpPr/>
          <p:nvPr/>
        </p:nvGrpSpPr>
        <p:grpSpPr>
          <a:xfrm>
            <a:off x="2057400" y="2419200"/>
            <a:ext cx="5333760" cy="2819520"/>
            <a:chOff x="2057400" y="2419200"/>
            <a:chExt cx="5333760" cy="2819520"/>
          </a:xfrm>
        </p:grpSpPr>
        <p:sp>
          <p:nvSpPr>
            <p:cNvPr id="620" name="Freeform 8"/>
            <p:cNvSpPr/>
            <p:nvPr/>
          </p:nvSpPr>
          <p:spPr>
            <a:xfrm>
              <a:off x="2861280" y="38700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253616"/>
                </a:gs>
                <a:gs pos="100000">
                  <a:srgbClr val="5074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"/>
            <p:cNvSpPr/>
            <p:nvPr/>
          </p:nvSpPr>
          <p:spPr>
            <a:xfrm>
              <a:off x="3709440" y="24192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68868"/>
                </a:gs>
                <a:gs pos="100000">
                  <a:srgbClr val="123f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"/>
            <p:cNvSpPr/>
            <p:nvPr/>
          </p:nvSpPr>
          <p:spPr>
            <a:xfrm>
              <a:off x="2057400" y="28051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d9be02"/>
                </a:gs>
                <a:gs pos="100000">
                  <a:srgbClr val="e3d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AutoShape 11"/>
          <p:cNvSpPr/>
          <p:nvPr/>
        </p:nvSpPr>
        <p:spPr>
          <a:xfrm>
            <a:off x="5829480" y="1676520"/>
            <a:ext cx="2743200" cy="914400"/>
          </a:xfrm>
          <a:noFill/>
          <a:ln w="9360">
            <a:solidFill>
              <a:srgbClr val="006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2"/>
          <p:cNvSpPr/>
          <p:nvPr/>
        </p:nvSpPr>
        <p:spPr>
          <a:xfrm>
            <a:off x="4876920" y="5391000"/>
            <a:ext cx="3047760" cy="854280"/>
          </a:xfrm>
          <a:noFill/>
          <a:ln w="9360">
            <a:solidFill>
              <a:srgbClr val="50742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>
            <a:off x="285840" y="1733400"/>
            <a:ext cx="2592360" cy="965520"/>
          </a:xfrm>
          <a:noFill/>
          <a:ln w="9360">
            <a:solidFill>
              <a:srgbClr val="00464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2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Group 41"/>
          <p:cNvGrpSpPr/>
          <p:nvPr/>
        </p:nvGrpSpPr>
        <p:grpSpPr>
          <a:xfrm>
            <a:off x="1000080" y="1828800"/>
            <a:ext cx="6781680" cy="4114800"/>
            <a:chOff x="1000080" y="1828800"/>
            <a:chExt cx="6781680" cy="4114800"/>
          </a:xfrm>
        </p:grpSpPr>
        <p:sp>
          <p:nvSpPr>
            <p:cNvPr id="628" name="AutoShape 2"/>
            <p:cNvSpPr/>
            <p:nvPr/>
          </p:nvSpPr>
          <p:spPr>
            <a:xfrm>
              <a:off x="350352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"/>
            <p:cNvSpPr/>
            <p:nvPr/>
          </p:nvSpPr>
          <p:spPr>
            <a:xfrm>
              <a:off x="100008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4"/>
            <p:cNvSpPr/>
            <p:nvPr/>
          </p:nvSpPr>
          <p:spPr>
            <a:xfrm>
              <a:off x="602928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293184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07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539424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9b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60022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9be0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60022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d9be0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61131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56701"/>
                </a:gs>
                <a:gs pos="50000">
                  <a:srgbClr val="d9be02"/>
                </a:gs>
                <a:gs pos="100000">
                  <a:srgbClr val="7567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1"/>
            <p:cNvSpPr/>
            <p:nvPr/>
          </p:nvSpPr>
          <p:spPr>
            <a:xfrm>
              <a:off x="613872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a7901"/>
                </a:gs>
                <a:gs pos="100000">
                  <a:srgbClr val="d9be0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2"/>
            <p:cNvSpPr/>
            <p:nvPr/>
          </p:nvSpPr>
          <p:spPr>
            <a:xfrm>
              <a:off x="619272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3"/>
            <p:cNvSpPr/>
            <p:nvPr/>
          </p:nvSpPr>
          <p:spPr>
            <a:xfrm>
              <a:off x="107604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900f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4"/>
            <p:cNvSpPr/>
            <p:nvPr/>
          </p:nvSpPr>
          <p:spPr>
            <a:xfrm>
              <a:off x="107604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900f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5"/>
            <p:cNvSpPr/>
            <p:nvPr/>
          </p:nvSpPr>
          <p:spPr>
            <a:xfrm>
              <a:off x="118728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70087"/>
                </a:gs>
                <a:gs pos="50000">
                  <a:srgbClr val="f900f9"/>
                </a:gs>
                <a:gs pos="100000">
                  <a:srgbClr val="87008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6"/>
            <p:cNvSpPr/>
            <p:nvPr/>
          </p:nvSpPr>
          <p:spPr>
            <a:xfrm>
              <a:off x="118872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e009e"/>
                </a:gs>
                <a:gs pos="100000">
                  <a:srgbClr val="f900f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7"/>
            <p:cNvSpPr/>
            <p:nvPr/>
          </p:nvSpPr>
          <p:spPr>
            <a:xfrm>
              <a:off x="12618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Group 18"/>
            <p:cNvGrpSpPr/>
            <p:nvPr/>
          </p:nvGrpSpPr>
          <p:grpSpPr>
            <a:xfrm>
              <a:off x="1282680" y="2031840"/>
              <a:ext cx="1290600" cy="1278000"/>
              <a:chOff x="1282680" y="2031840"/>
              <a:chExt cx="1290600" cy="1278000"/>
            </a:xfrm>
          </p:grpSpPr>
          <p:sp>
            <p:nvSpPr>
              <p:cNvPr id="644" name="Oval 19"/>
              <p:cNvSpPr/>
              <p:nvPr/>
            </p:nvSpPr>
            <p:spPr>
              <a:xfrm>
                <a:off x="128268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20"/>
              <p:cNvSpPr/>
              <p:nvPr/>
            </p:nvSpPr>
            <p:spPr>
              <a:xfrm>
                <a:off x="129888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21"/>
              <p:cNvSpPr/>
              <p:nvPr/>
            </p:nvSpPr>
            <p:spPr>
              <a:xfrm>
                <a:off x="131256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22"/>
              <p:cNvSpPr/>
              <p:nvPr/>
            </p:nvSpPr>
            <p:spPr>
              <a:xfrm>
                <a:off x="138240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Oval 23"/>
            <p:cNvSpPr/>
            <p:nvPr/>
          </p:nvSpPr>
          <p:spPr>
            <a:xfrm>
              <a:off x="353988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0742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353988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50742f">
                    <a:alpha val="32156"/>
                  </a:srgbClr>
                </a:gs>
                <a:gs pos="100000">
                  <a:srgbClr val="2536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365112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b3f19"/>
                </a:gs>
                <a:gs pos="50000">
                  <a:srgbClr val="50742f"/>
                </a:gs>
                <a:gs pos="100000">
                  <a:srgbClr val="2b3f1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365256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34a1e"/>
                </a:gs>
                <a:gs pos="100000">
                  <a:srgbClr val="50742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372420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28"/>
            <p:cNvGrpSpPr/>
            <p:nvPr/>
          </p:nvGrpSpPr>
          <p:grpSpPr>
            <a:xfrm>
              <a:off x="3746160" y="2031840"/>
              <a:ext cx="1290960" cy="1278000"/>
              <a:chOff x="3746160" y="2031840"/>
              <a:chExt cx="1290960" cy="1278000"/>
            </a:xfrm>
          </p:grpSpPr>
          <p:sp>
            <p:nvSpPr>
              <p:cNvPr id="654" name="Oval 29"/>
              <p:cNvSpPr/>
              <p:nvPr/>
            </p:nvSpPr>
            <p:spPr>
              <a:xfrm>
                <a:off x="374616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30"/>
              <p:cNvSpPr/>
              <p:nvPr/>
            </p:nvSpPr>
            <p:spPr>
              <a:xfrm>
                <a:off x="376236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31"/>
              <p:cNvSpPr/>
              <p:nvPr/>
            </p:nvSpPr>
            <p:spPr>
              <a:xfrm>
                <a:off x="377604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32"/>
              <p:cNvSpPr/>
              <p:nvPr/>
            </p:nvSpPr>
            <p:spPr>
              <a:xfrm>
                <a:off x="38462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33"/>
            <p:cNvGrpSpPr/>
            <p:nvPr/>
          </p:nvGrpSpPr>
          <p:grpSpPr>
            <a:xfrm>
              <a:off x="6216480" y="2031840"/>
              <a:ext cx="1292400" cy="1278000"/>
              <a:chOff x="6216480" y="2031840"/>
              <a:chExt cx="1292400" cy="1278000"/>
            </a:xfrm>
          </p:grpSpPr>
          <p:sp>
            <p:nvSpPr>
              <p:cNvPr id="659" name="Oval 34"/>
              <p:cNvSpPr/>
              <p:nvPr/>
            </p:nvSpPr>
            <p:spPr>
              <a:xfrm>
                <a:off x="621648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35"/>
              <p:cNvSpPr/>
              <p:nvPr/>
            </p:nvSpPr>
            <p:spPr>
              <a:xfrm>
                <a:off x="623268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36"/>
              <p:cNvSpPr/>
              <p:nvPr/>
            </p:nvSpPr>
            <p:spPr>
              <a:xfrm>
                <a:off x="624636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37"/>
              <p:cNvSpPr/>
              <p:nvPr/>
            </p:nvSpPr>
            <p:spPr>
              <a:xfrm>
                <a:off x="631656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Text Box 38"/>
            <p:cNvSpPr/>
            <p:nvPr/>
          </p:nvSpPr>
          <p:spPr>
            <a:xfrm>
              <a:off x="157464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39"/>
            <p:cNvSpPr/>
            <p:nvPr/>
          </p:nvSpPr>
          <p:spPr>
            <a:xfrm>
              <a:off x="404316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40"/>
            <p:cNvSpPr/>
            <p:nvPr/>
          </p:nvSpPr>
          <p:spPr>
            <a:xfrm>
              <a:off x="651024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35"/>
          <p:cNvGrpSpPr/>
          <p:nvPr/>
        </p:nvGrpSpPr>
        <p:grpSpPr>
          <a:xfrm>
            <a:off x="1219320" y="1219320"/>
            <a:ext cx="5786280" cy="5078160"/>
            <a:chOff x="1219320" y="1219320"/>
            <a:chExt cx="5786280" cy="5078160"/>
          </a:xfrm>
        </p:grpSpPr>
        <p:sp>
          <p:nvSpPr>
            <p:cNvPr id="668" name="Oval 34"/>
            <p:cNvSpPr/>
            <p:nvPr/>
          </p:nvSpPr>
          <p:spPr>
            <a:xfrm>
              <a:off x="5133960" y="2079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33"/>
            <p:cNvSpPr/>
            <p:nvPr/>
          </p:nvSpPr>
          <p:spPr>
            <a:xfrm>
              <a:off x="3848040" y="3765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32"/>
            <p:cNvSpPr/>
            <p:nvPr/>
          </p:nvSpPr>
          <p:spPr>
            <a:xfrm>
              <a:off x="5181480" y="5791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31"/>
            <p:cNvSpPr/>
            <p:nvPr/>
          </p:nvSpPr>
          <p:spPr>
            <a:xfrm>
              <a:off x="1447920" y="4427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7"/>
            <p:cNvSpPr/>
            <p:nvPr/>
          </p:nvSpPr>
          <p:spPr>
            <a:xfrm rot="13770000">
              <a:off x="4684320" y="3660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8"/>
            <p:cNvSpPr/>
            <p:nvPr/>
          </p:nvSpPr>
          <p:spPr>
            <a:xfrm rot="20856000">
              <a:off x="2695320" y="3208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Group 9"/>
            <p:cNvGrpSpPr/>
            <p:nvPr/>
          </p:nvGrpSpPr>
          <p:grpSpPr>
            <a:xfrm>
              <a:off x="3633840" y="1902240"/>
              <a:ext cx="1706400" cy="1836360"/>
              <a:chOff x="3633840" y="1902240"/>
              <a:chExt cx="1706400" cy="1836360"/>
            </a:xfrm>
          </p:grpSpPr>
          <p:sp>
            <p:nvSpPr>
              <p:cNvPr id="675" name="Rectangle 10"/>
              <p:cNvSpPr/>
              <p:nvPr/>
            </p:nvSpPr>
            <p:spPr>
              <a:xfrm rot="18394200">
                <a:off x="4810680" y="2115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" name="Group 11"/>
              <p:cNvGrpSpPr/>
              <p:nvPr/>
            </p:nvGrpSpPr>
            <p:grpSpPr>
              <a:xfrm>
                <a:off x="3633840" y="2147760"/>
                <a:ext cx="1609560" cy="1590840"/>
                <a:chOff x="3633840" y="2147760"/>
                <a:chExt cx="1609560" cy="1590840"/>
              </a:xfrm>
            </p:grpSpPr>
            <p:sp>
              <p:nvSpPr>
                <p:cNvPr id="677" name="Oval 12"/>
                <p:cNvSpPr/>
                <p:nvPr/>
              </p:nvSpPr>
              <p:spPr>
                <a:xfrm>
                  <a:off x="3633840" y="2147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00f9"/>
                    </a:gs>
                    <a:gs pos="100000">
                      <a:srgbClr val="3d00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3"/>
                <p:cNvSpPr/>
                <p:nvPr/>
              </p:nvSpPr>
              <p:spPr>
                <a:xfrm>
                  <a:off x="3817800" y="2174040"/>
                  <a:ext cx="1241640" cy="600480"/>
                </a:xfrm>
                <a:custGeom>
                  <a:avLst/>
                  <a:gdLst>
                    <a:gd name="textAreaLeft" fmla="*/ 0 w 1241640"/>
                    <a:gd name="textAreaRight" fmla="*/ 1242000 w 1241640"/>
                    <a:gd name="textAreaTop" fmla="*/ 0 h 600480"/>
                    <a:gd name="textAreaBottom" fmla="*/ 600840 h 600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900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Text Box 14"/>
              <p:cNvSpPr/>
              <p:nvPr/>
            </p:nvSpPr>
            <p:spPr>
              <a:xfrm>
                <a:off x="3720600" y="2840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5"/>
            <p:cNvGrpSpPr/>
            <p:nvPr/>
          </p:nvGrpSpPr>
          <p:grpSpPr>
            <a:xfrm>
              <a:off x="5043600" y="1219320"/>
              <a:ext cx="891720" cy="861840"/>
              <a:chOff x="5043600" y="1219320"/>
              <a:chExt cx="891720" cy="861840"/>
            </a:xfrm>
          </p:grpSpPr>
          <p:grpSp>
            <p:nvGrpSpPr>
              <p:cNvPr id="681" name="Group 16"/>
              <p:cNvGrpSpPr/>
              <p:nvPr/>
            </p:nvGrpSpPr>
            <p:grpSpPr>
              <a:xfrm>
                <a:off x="5043600" y="1219320"/>
                <a:ext cx="871560" cy="861840"/>
                <a:chOff x="5043600" y="1219320"/>
                <a:chExt cx="871560" cy="861840"/>
              </a:xfrm>
            </p:grpSpPr>
            <p:sp>
              <p:nvSpPr>
                <p:cNvPr id="682" name="Oval 17"/>
                <p:cNvSpPr/>
                <p:nvPr/>
              </p:nvSpPr>
              <p:spPr>
                <a:xfrm>
                  <a:off x="5043600" y="1219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742f"/>
                    </a:gs>
                    <a:gs pos="100000">
                      <a:srgbClr val="2435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8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>
                    <a:gd name="textAreaLeft" fmla="*/ 0 w 672480"/>
                    <a:gd name="textAreaRight" fmla="*/ 672480 w 6724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074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Text Box 19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20"/>
            <p:cNvGrpSpPr/>
            <p:nvPr/>
          </p:nvGrpSpPr>
          <p:grpSpPr>
            <a:xfrm>
              <a:off x="1219320" y="2544840"/>
              <a:ext cx="1744560" cy="1790640"/>
              <a:chOff x="1219320" y="2544840"/>
              <a:chExt cx="1744560" cy="1790640"/>
            </a:xfrm>
          </p:grpSpPr>
          <p:grpSp>
            <p:nvGrpSpPr>
              <p:cNvPr id="686" name="Group 21"/>
              <p:cNvGrpSpPr/>
              <p:nvPr/>
            </p:nvGrpSpPr>
            <p:grpSpPr>
              <a:xfrm>
                <a:off x="1219320" y="2544840"/>
                <a:ext cx="1744560" cy="1790640"/>
                <a:chOff x="1219320" y="2544840"/>
                <a:chExt cx="1744560" cy="1790640"/>
              </a:xfrm>
            </p:grpSpPr>
            <p:sp>
              <p:nvSpPr>
                <p:cNvPr id="687" name="Oval 22"/>
                <p:cNvSpPr/>
                <p:nvPr/>
              </p:nvSpPr>
              <p:spPr>
                <a:xfrm>
                  <a:off x="1219320" y="2544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8868"/>
                    </a:gs>
                    <a:gs pos="100000">
                      <a:srgbClr val="1c634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3"/>
                <p:cNvSpPr/>
                <p:nvPr/>
              </p:nvSpPr>
              <p:spPr>
                <a:xfrm>
                  <a:off x="1418760" y="2574360"/>
                  <a:ext cx="1345680" cy="675720"/>
                </a:xfrm>
                <a:custGeom>
                  <a:avLst/>
                  <a:gdLst>
                    <a:gd name="textAreaLeft" fmla="*/ 0 w 1345680"/>
                    <a:gd name="textAreaRight" fmla="*/ 1346040 w 13456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68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Text Box 24"/>
              <p:cNvSpPr/>
              <p:nvPr/>
            </p:nvSpPr>
            <p:spPr>
              <a:xfrm>
                <a:off x="1313280" y="3340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25"/>
            <p:cNvGrpSpPr/>
            <p:nvPr/>
          </p:nvGrpSpPr>
          <p:grpSpPr>
            <a:xfrm>
              <a:off x="4975200" y="3805200"/>
              <a:ext cx="2013120" cy="1989000"/>
              <a:chOff x="4975200" y="3805200"/>
              <a:chExt cx="2013120" cy="1989000"/>
            </a:xfrm>
          </p:grpSpPr>
          <p:grpSp>
            <p:nvGrpSpPr>
              <p:cNvPr id="691" name="Group 26"/>
              <p:cNvGrpSpPr/>
              <p:nvPr/>
            </p:nvGrpSpPr>
            <p:grpSpPr>
              <a:xfrm>
                <a:off x="4975200" y="3805200"/>
                <a:ext cx="2013120" cy="1989000"/>
                <a:chOff x="4975200" y="3805200"/>
                <a:chExt cx="2013120" cy="1989000"/>
              </a:xfrm>
            </p:grpSpPr>
            <p:sp>
              <p:nvSpPr>
                <p:cNvPr id="692" name="Oval 27"/>
                <p:cNvSpPr/>
                <p:nvPr/>
              </p:nvSpPr>
              <p:spPr>
                <a:xfrm>
                  <a:off x="4975200" y="3805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be02"/>
                    </a:gs>
                    <a:gs pos="100000">
                      <a:srgbClr val="7668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8"/>
                <p:cNvSpPr/>
                <p:nvPr/>
              </p:nvSpPr>
              <p:spPr>
                <a:xfrm>
                  <a:off x="5205240" y="3837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be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Text Box 29"/>
              <p:cNvSpPr/>
              <p:nvPr/>
            </p:nvSpPr>
            <p:spPr>
              <a:xfrm>
                <a:off x="5263560" y="4667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00:20:49Z</dcterms:created>
  <dc:creator>USER</dc:creator>
  <dc:description/>
  <dc:language>en-US</dc:language>
  <cp:lastModifiedBy>a</cp:lastModifiedBy>
  <dcterms:modified xsi:type="dcterms:W3CDTF">2015-07-25T01:45:44Z</dcterms:modified>
  <cp:revision>31</cp:revision>
  <dc:subject/>
  <dc:title>幻灯片 1</dc:title>
</cp:coreProperties>
</file>