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AAC-71F9-484C-8641-151444D4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12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3647880"/>
            <a:ext cx="712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456-96D1-4983-9259-E6EBFB90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04200" y="364788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FBA-60E7-4C26-B933-415A2A4C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61480" y="105264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72040" y="105264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364788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61480" y="364788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72040" y="364788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927-A52F-417D-8F2B-16EFA9D3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729F-384A-463D-AC26-79DFF44E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640"/>
            <a:ext cx="7129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5D32-90DA-4C86-A5BF-8E724F4C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12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14E0-736A-4416-A626-CEA26183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03BE-2529-48CC-9046-0A077062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C8C7-E4B3-4413-8AB4-087F9465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4681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8DE5-D5E3-457A-95FB-97A175A9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3CAA-2DFE-4C1B-BB25-EA79169A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052640"/>
            <a:ext cx="7129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B21-93B6-411D-AB21-F7BF052D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04200" y="364788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3657-4620-4A05-875F-7C2797BC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712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6381-864B-420C-9862-D812212A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12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647880"/>
            <a:ext cx="712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4064-6F80-488C-99F0-30E6A38A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04200" y="364788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74F5-E4D0-4386-885E-8862B9B9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61480" y="105264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72040" y="105264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64788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61480" y="364788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72040" y="364788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E16A-E710-4B42-B5C1-72B90472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12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5CC-C165-44E4-AEE9-5E4A6117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FB2-93CD-4D84-AD5F-C841A318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A1B-0213-49AE-8839-63C0B4D0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4681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188-B4C2-4C2A-A9AD-9F1EC316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04D-E73B-45AF-ABDB-B4DE41FA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04200" y="364788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415-F1CA-4112-B01B-EDFFA512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712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8C6-28D0-43EA-B589-4CDB6907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052640"/>
            <a:ext cx="712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8360" y="188640"/>
            <a:ext cx="2232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6920" y="6165360"/>
            <a:ext cx="475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920" y="6165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4E01-62CA-4C00-9996-D5252936A7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052640"/>
            <a:ext cx="712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79000" y="188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8200" y="6165360"/>
            <a:ext cx="395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03640" y="115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A491-CE0D-4F27-9F86-7930826D29FE}" type="slidenum">
              <a:rPr b="1" lang="ru-RU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792144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蓝色双鱼爱情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560" y="2303280"/>
            <a:ext cx="511308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name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12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68360" y="63421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4:18:59Z</dcterms:created>
  <dc:creator>Alexey</dc:creator>
  <dc:description/>
  <dc:language>en-US</dc:language>
  <cp:lastModifiedBy>王玉清</cp:lastModifiedBy>
  <dcterms:modified xsi:type="dcterms:W3CDTF">2016-02-20T04:38:18Z</dcterms:modified>
  <cp:revision>8</cp:revision>
  <dc:subject/>
  <dc:title>Слайд 1</dc:title>
</cp:coreProperties>
</file>