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992-CA4E-4A3F-B47B-45F460F3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C74-F8F7-4CD5-B44C-3BED1E06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411-F088-4C1C-9131-0FBE7706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B23-D869-4F38-9C52-5064BBD1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F3E-EC56-4DC8-A34D-E0564143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464-522D-4672-8C6D-84E74B07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61E-80F8-4EC9-8AC9-BF0E3EE6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E50-58DC-41A6-8C06-9CE03E16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381-C500-434E-A3F7-B6BDD47B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EBB-08B7-4FD9-BD00-0CE9994D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EA0-6B51-4CE1-A9B1-CE05E1D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DE0-FC24-46FC-88DF-1F0FB494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B34B99-8399-4693-832C-55001682D4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2" name="Picture 2" descr="C:\Documents and Settings\Administrator\桌面\9.19\动画\2.png"/>
          <p:cNvPicPr/>
          <p:nvPr/>
        </p:nvPicPr>
        <p:blipFill>
          <a:blip r:embed="rId1"/>
          <a:stretch/>
        </p:blipFill>
        <p:spPr>
          <a:xfrm>
            <a:off x="-48416040" y="3886200"/>
            <a:ext cx="96787440" cy="243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Administrator\桌面\9.19\动画\未标题-1.png"/>
          <p:cNvPicPr/>
          <p:nvPr/>
        </p:nvPicPr>
        <p:blipFill>
          <a:blip r:embed="rId2"/>
          <a:srcRect l="0" t="0" r="0" b="57818"/>
          <a:stretch/>
        </p:blipFill>
        <p:spPr>
          <a:xfrm rot="10800000">
            <a:off x="-17068320" y="4038480"/>
            <a:ext cx="34213320" cy="1828440"/>
          </a:xfrm>
          <a:prstGeom prst="rect">
            <a:avLst/>
          </a:prstGeom>
          <a:ln w="0">
            <a:noFill/>
          </a:ln>
          <a:effectLst>
            <a:glow rad="63360">
              <a:srgbClr val="00b0f0">
                <a:alpha val="40000"/>
              </a:srgbClr>
            </a:glow>
          </a:effectLst>
        </p:spPr>
      </p:pic>
      <p:pic>
        <p:nvPicPr>
          <p:cNvPr id="44" name="Picture 3" descr="C:\Documents and Settings\Administrator\桌面\9.19\动画\未标题-1.png"/>
          <p:cNvPicPr/>
          <p:nvPr/>
        </p:nvPicPr>
        <p:blipFill>
          <a:blip r:embed="rId3"/>
          <a:srcRect l="0" t="43450" r="0" b="0"/>
          <a:stretch/>
        </p:blipFill>
        <p:spPr>
          <a:xfrm>
            <a:off x="-11010240" y="3962520"/>
            <a:ext cx="22059000" cy="1333080"/>
          </a:xfrm>
          <a:prstGeom prst="rect">
            <a:avLst/>
          </a:prstGeom>
          <a:ln w="0">
            <a:noFill/>
          </a:ln>
          <a:effectLst>
            <a:glow rad="63360">
              <a:srgbClr val="00b0f0">
                <a:alpha val="40000"/>
              </a:srgbClr>
            </a:glow>
          </a:effectLst>
        </p:spPr>
      </p:pic>
      <p:pic>
        <p:nvPicPr>
          <p:cNvPr id="45" name="Picture 3" descr="C:\Documents and Settings\Administrator\桌面\9.19\动画\未标题-1.png"/>
          <p:cNvPicPr/>
          <p:nvPr/>
        </p:nvPicPr>
        <p:blipFill>
          <a:blip r:embed="rId4">
            <a:lum bright="100000"/>
          </a:blip>
          <a:srcRect l="0" t="0" r="0" b="57818"/>
          <a:stretch/>
        </p:blipFill>
        <p:spPr>
          <a:xfrm flipH="1" rot="10800000">
            <a:off x="-24917400" y="3124440"/>
            <a:ext cx="49834440" cy="1980720"/>
          </a:xfrm>
          <a:prstGeom prst="rect">
            <a:avLst/>
          </a:prstGeom>
          <a:ln w="0">
            <a:noFill/>
          </a:ln>
          <a:effectLst>
            <a:glow rad="63360">
              <a:srgbClr val="00b0f0">
                <a:alpha val="40000"/>
              </a:srgbClr>
            </a:glow>
          </a:effectLst>
        </p:spPr>
      </p:pic>
      <p:pic>
        <p:nvPicPr>
          <p:cNvPr id="46" name="Picture 4" descr="C:\Documents and Settings\Administrator\桌面\9.19\动画\y1.png"/>
          <p:cNvPicPr/>
          <p:nvPr/>
        </p:nvPicPr>
        <p:blipFill>
          <a:blip r:embed="rId5"/>
          <a:srcRect l="9879" t="0" r="18517" b="0"/>
          <a:stretch/>
        </p:blipFill>
        <p:spPr>
          <a:xfrm>
            <a:off x="-3124080" y="3809880"/>
            <a:ext cx="1338120" cy="182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istrator\桌面\9.19\动画\y2.png"/>
          <p:cNvPicPr/>
          <p:nvPr/>
        </p:nvPicPr>
        <p:blipFill>
          <a:blip r:embed="rId6"/>
          <a:srcRect l="32099" t="10099" r="35802" b="19220"/>
          <a:stretch/>
        </p:blipFill>
        <p:spPr>
          <a:xfrm>
            <a:off x="-837000" y="2666880"/>
            <a:ext cx="760320" cy="163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istrator\桌面\9.19\动画\y3.png"/>
          <p:cNvPicPr/>
          <p:nvPr/>
        </p:nvPicPr>
        <p:blipFill>
          <a:blip r:embed="rId7"/>
          <a:srcRect l="14814" t="0" r="18517" b="0"/>
          <a:stretch/>
        </p:blipFill>
        <p:spPr>
          <a:xfrm>
            <a:off x="-1981080" y="2971800"/>
            <a:ext cx="1245960" cy="182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Documents and Settings\Administrator\桌面\9.19\动画\y4.png"/>
          <p:cNvPicPr/>
          <p:nvPr/>
        </p:nvPicPr>
        <p:blipFill>
          <a:blip r:embed="rId8"/>
          <a:srcRect l="17901" t="0" r="20361" b="0"/>
          <a:stretch/>
        </p:blipFill>
        <p:spPr>
          <a:xfrm>
            <a:off x="-1676520" y="2007360"/>
            <a:ext cx="848880" cy="1345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istrator\桌面\9.19\动画\y5.png"/>
          <p:cNvPicPr/>
          <p:nvPr/>
        </p:nvPicPr>
        <p:blipFill>
          <a:blip r:embed="rId9"/>
          <a:srcRect l="22235" t="0" r="33324" b="0"/>
          <a:stretch/>
        </p:blipFill>
        <p:spPr>
          <a:xfrm>
            <a:off x="-2421720" y="4800240"/>
            <a:ext cx="553680" cy="121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istrator\桌面\9.19\动画\y1.png"/>
          <p:cNvPicPr/>
          <p:nvPr/>
        </p:nvPicPr>
        <p:blipFill>
          <a:blip r:embed="rId10"/>
          <a:srcRect l="9879" t="0" r="18517" b="0"/>
          <a:stretch/>
        </p:blipFill>
        <p:spPr>
          <a:xfrm>
            <a:off x="-1338480" y="3581280"/>
            <a:ext cx="1338120" cy="182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Administrator\桌面\9.19\动画\y3.png"/>
          <p:cNvPicPr/>
          <p:nvPr/>
        </p:nvPicPr>
        <p:blipFill>
          <a:blip r:embed="rId11"/>
          <a:srcRect l="14814" t="0" r="18517" b="0"/>
          <a:stretch/>
        </p:blipFill>
        <p:spPr>
          <a:xfrm>
            <a:off x="-1915560" y="1752480"/>
            <a:ext cx="1245960" cy="182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Administrator\桌面\9.19\动画\y4.png"/>
          <p:cNvPicPr/>
          <p:nvPr/>
        </p:nvPicPr>
        <p:blipFill>
          <a:blip r:embed="rId12"/>
          <a:srcRect l="17901" t="0" r="20361" b="0"/>
          <a:stretch/>
        </p:blipFill>
        <p:spPr>
          <a:xfrm>
            <a:off x="-2574360" y="3124080"/>
            <a:ext cx="848880" cy="134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Administrator\桌面\9.19\动画\y2.png"/>
          <p:cNvPicPr/>
          <p:nvPr/>
        </p:nvPicPr>
        <p:blipFill>
          <a:blip r:embed="rId13"/>
          <a:srcRect l="32099" t="10099" r="35802" b="19220"/>
          <a:stretch/>
        </p:blipFill>
        <p:spPr>
          <a:xfrm>
            <a:off x="-2970360" y="3924000"/>
            <a:ext cx="760320" cy="163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5"/>
          <p:cNvSpPr/>
          <p:nvPr/>
        </p:nvSpPr>
        <p:spPr>
          <a:xfrm rot="10800000">
            <a:off x="6324840" y="360"/>
            <a:ext cx="2819160" cy="6857640"/>
          </a:xfrm>
          <a:prstGeom prst="rect">
            <a:avLst/>
          </a:prstGeom>
          <a:gradFill rotWithShape="0">
            <a:gsLst>
              <a:gs pos="0">
                <a:srgbClr val="5b9bd5"/>
              </a:gs>
              <a:gs pos="100000">
                <a:srgbClr val="e0ebfa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9ac2f5"/>
              </a:solidFill>
              <a:latin typeface="Calibri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0" y="0"/>
            <a:ext cx="2819160" cy="6857640"/>
          </a:xfrm>
          <a:prstGeom prst="rect">
            <a:avLst/>
          </a:prstGeom>
          <a:gradFill rotWithShape="0">
            <a:gsLst>
              <a:gs pos="0">
                <a:srgbClr val="5b9bd5"/>
              </a:gs>
              <a:gs pos="100000">
                <a:srgbClr val="e0ebfa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9ac2f5"/>
              </a:solidFill>
              <a:latin typeface="Calibri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2180160" y="29916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音符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2.49444 -2.22222E-006 E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1.60834 1.11022E-016 E">
                                      <p:cBhvr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3.62222 1.11022E-016 E">
                                      <p:cBhvr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7.05 -4.44444E-006 E">
                                      <p:cBhvr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0.10313 -0.04838 0.20625 -0.09676 0.33941 -0.09352 C 0.47223 -0.09004 0.67309 0.01227 0.79757 0.0206 C 0.92205 0.02917 1.03073 -0.03148 1.08611 -0.04328 C 1.14167 -0.05509 1.13594 -0.05254 1.13021 -0.05023 E">
                                      <p:cBhvr>
                                        <p:cTn id="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695 0.02199 C 0.18073 -0.05509 0.36753 -0.13125 0.56684 -0.12708 C 0.76736 -0.12199 1.02951 0.03102 1.19305 0.04907 C 1.35434 0.06667 1.47413 0.00486 1.54878 -0.02176 C 1.62031 -0.04653 1.62291 -0.07708 1.62673 -0.10695 E">
                                      <p:cBhvr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38889E-006 -1.11111E-006 C 0.15243 0.12546 0.30503 0.25092 0.48003 0.27986 C 0.65503 0.30879 0.89166 0.18889 1.05 0.17338 C 1.20833 0.15787 1.33333 0.16666 1.43003 0.18657 C 1.52673 0.20648 1.57829 0.24976 1.63003 0.29328 E">
                                      <p:cBhvr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3.7037E-006 C 0.14427 0.04884 0.28889 0.09791 0.46841 0.10671 C 0.64792 0.11551 0.89775 0.05115 1.07726 0.05324 C 1.25677 0.05532 1.40122 0.0875 1.54584 0.1199 E">
                                      <p:cBhvr>
                                        <p:cTn id="2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0833 0.02361 C 0.1467 -0.02477 0.28524 -0.07315 0.46406 -0.06991 C 0.64253 -0.06644 0.91232 0.03588 1.07951 0.04421 C 1.2467 0.05277 1.39253 -0.00787 1.46701 -0.01968 C 1.54166 -0.03149 1.53385 -0.02894 1.52621 -0.02662 E">
                                      <p:cBhvr>
                                        <p:cTn id="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2066 0.27291 C 0.22969 0.19629 0.47882 0.1206 0.74427 0.125 C 1.01181 0.13032 1.36111 0.28402 1.57917 0.30231 C 1.7941 0.32013 1.95382 0.25856 2.05347 0.23217 C 2.14896 0.20763 2.15226 0.17708 2.15747 0.14699 E">
                                      <p:cBhvr>
                                        <p:cTn id="2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33333E-006 4.81481E-006 C 0.0809 -0.17662 0.16181 -0.35324 0.31007 -0.38658 C 0.45833 -0.41991 0.7217 -0.22223 0.88993 -0.2 C 1.05816 -0.17778 1.21823 -0.23773 1.31997 -0.25324 C 1.4217 -0.26875 1.46076 -0.28102 1.5 -0.29329 E">
                                      <p:cBhvr>
                                        <p:cTn id="2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-0.0537 C 0.15243 0.07176 0.30504 0.19722 0.47987 0.22616 C 0.65504 0.2551 0.89167 0.13519 1.05 0.11968 C 1.20834 0.10417 1.33334 0.11297 1.43004 0.13287 C 1.52674 0.15278 1.5783 0.19607 1.63004 0.23959 E">
                                      <p:cBhvr>
                                        <p:cTn id="2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5.55556E-007 6.93642E-007 C 0.14427 0.0585 0.28889 0.11746 0.4684 0.12832 C 0.64792 0.13896 0.89774 0.06127 1.07726 0.06381 C 1.25677 0.06636 1.40122 0.10497 1.54583 0.14428 E">
                                      <p:cBhvr>
                                        <p:cTn id="3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 主题​​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2</TotalTime>
  <Application>LibreOffice/7.4.7.2$Linux_X86_64 LibreOffice_project/40$Build-2</Application>
  <AppVersion>15.0000</AppVersion>
  <Words>13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7T08:26:27Z</dcterms:created>
  <dc:creator>Min Zhong</dc:creator>
  <dc:description/>
  <dc:language>en-US</dc:language>
  <cp:lastModifiedBy>王玉清</cp:lastModifiedBy>
  <dcterms:modified xsi:type="dcterms:W3CDTF">2016-02-19T04:33:47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