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8F6-72C0-4406-AEBF-8595AA94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40E-5517-4A16-8124-A825C35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B5F-BBF9-491D-BE03-19BAA18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895-75D3-4C7A-8DC8-C2E6FB81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0E8-3375-42EA-875B-AE15E0BA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F48-198C-4134-A78A-877863D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17C-1502-4816-A109-EF4E32B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F99-E371-428E-8DC7-3519661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15C-CA3C-402E-8BCF-E2676151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22B-1456-4F2E-8A93-0178F608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8E0-930D-44A7-B98E-30CFFE3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D01-0E50-4FA9-9E41-465362E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01210F-39F0-4152-841F-1235E99EE4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rcRect l="0" t="9711" r="0" b="55894"/>
          <a:stretch/>
        </p:blipFill>
        <p:spPr>
          <a:xfrm>
            <a:off x="0" y="0"/>
            <a:ext cx="12191760" cy="28008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2515680"/>
            <a:ext cx="12191760" cy="4341960"/>
          </a:xfrm>
          <a:prstGeom prst="rect">
            <a:avLst/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83360" y="3661560"/>
            <a:ext cx="9852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狼图腾影评通用</a:t>
            </a:r>
            <a:r>
              <a:rPr b="0" lang="en-US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3229560" y="4598640"/>
            <a:ext cx="628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大多数人看的是精彩，而少数人看的是精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" name="直接连接符 2"/>
          <p:cNvCxnSpPr/>
          <p:nvPr/>
        </p:nvCxnSpPr>
        <p:spPr>
          <a:xfrm>
            <a:off x="4724280" y="4484160"/>
            <a:ext cx="329508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0"/>
          <p:cNvGrpSpPr/>
          <p:nvPr/>
        </p:nvGrpSpPr>
        <p:grpSpPr>
          <a:xfrm>
            <a:off x="4003560" y="2820600"/>
            <a:ext cx="2597760" cy="2239560"/>
            <a:chOff x="4003560" y="2820600"/>
            <a:chExt cx="2597760" cy="2239560"/>
          </a:xfrm>
        </p:grpSpPr>
        <p:sp>
          <p:nvSpPr>
            <p:cNvPr id="48" name="等腰三角形 19"/>
            <p:cNvSpPr/>
            <p:nvPr/>
          </p:nvSpPr>
          <p:spPr>
            <a:xfrm>
              <a:off x="4003560" y="2820600"/>
              <a:ext cx="2597760" cy="2239560"/>
            </a:xfrm>
            <a:prstGeom prst="triangle">
              <a:avLst>
                <a:gd name="adj" fmla="val 50000"/>
              </a:avLst>
            </a:prstGeom>
            <a:noFill/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矩形 28"/>
            <p:cNvSpPr/>
            <p:nvPr/>
          </p:nvSpPr>
          <p:spPr>
            <a:xfrm rot="19616400">
              <a:off x="5958000" y="3352680"/>
              <a:ext cx="184320" cy="1524960"/>
            </a:xfrm>
            <a:prstGeom prst="rect">
              <a:avLst/>
            </a:prstGeom>
            <a:solidFill>
              <a:srgbClr val="0d0d0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" name="文本框 3"/>
          <p:cNvSpPr/>
          <p:nvPr/>
        </p:nvSpPr>
        <p:spPr>
          <a:xfrm>
            <a:off x="1494360" y="492120"/>
            <a:ext cx="1267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前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" name="直接连接符 17"/>
          <p:cNvCxnSpPr/>
          <p:nvPr/>
        </p:nvCxnSpPr>
        <p:spPr>
          <a:xfrm flipH="1">
            <a:off x="2731320" y="491760"/>
            <a:ext cx="399600" cy="70848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cxnSp>
        <p:nvCxnSpPr>
          <p:cNvPr id="52" name="直接连接符 18"/>
          <p:cNvCxnSpPr/>
          <p:nvPr/>
        </p:nvCxnSpPr>
        <p:spPr>
          <a:xfrm flipH="1">
            <a:off x="957240" y="491760"/>
            <a:ext cx="399960" cy="70848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53" name="任意多边形 27"/>
          <p:cNvSpPr/>
          <p:nvPr/>
        </p:nvSpPr>
        <p:spPr>
          <a:xfrm>
            <a:off x="4565160" y="3603960"/>
            <a:ext cx="398520" cy="1130760"/>
          </a:xfrm>
          <a:custGeom>
            <a:avLst/>
            <a:gdLst>
              <a:gd name="textAreaLeft" fmla="*/ 0 w 398520"/>
              <a:gd name="textAreaRight" fmla="*/ 398880 w 398520"/>
              <a:gd name="textAreaTop" fmla="*/ 0 h 1130760"/>
              <a:gd name="textAreaBottom" fmla="*/ 1131120 h 1130760"/>
            </a:gdLst>
            <a:ahLst/>
            <a:rect l="textAreaLeft" t="textAreaTop" r="textAreaRight" b="textAreaBottom"/>
            <a:pathLst>
              <a:path w="398859" h="1131094">
                <a:moveTo>
                  <a:pt x="0" y="0"/>
                </a:moveTo>
                <a:lnTo>
                  <a:pt x="291703" y="0"/>
                </a:lnTo>
                <a:lnTo>
                  <a:pt x="351234" y="107156"/>
                </a:lnTo>
                <a:lnTo>
                  <a:pt x="398859" y="77391"/>
                </a:lnTo>
                <a:lnTo>
                  <a:pt x="398859" y="214312"/>
                </a:lnTo>
                <a:lnTo>
                  <a:pt x="381000" y="232172"/>
                </a:lnTo>
                <a:lnTo>
                  <a:pt x="381000" y="1029891"/>
                </a:lnTo>
                <a:cubicBezTo>
                  <a:pt x="381000" y="1097359"/>
                  <a:pt x="339328" y="1131094"/>
                  <a:pt x="255984" y="1131094"/>
                </a:cubicBezTo>
                <a:lnTo>
                  <a:pt x="0" y="1131094"/>
                </a:lnTo>
                <a:lnTo>
                  <a:pt x="0" y="1029891"/>
                </a:lnTo>
                <a:lnTo>
                  <a:pt x="119062" y="1029891"/>
                </a:lnTo>
                <a:lnTo>
                  <a:pt x="119062" y="595312"/>
                </a:lnTo>
                <a:lnTo>
                  <a:pt x="0" y="660797"/>
                </a:lnTo>
                <a:lnTo>
                  <a:pt x="0" y="517922"/>
                </a:lnTo>
                <a:lnTo>
                  <a:pt x="119062" y="458391"/>
                </a:lnTo>
                <a:lnTo>
                  <a:pt x="119062" y="363141"/>
                </a:lnTo>
                <a:lnTo>
                  <a:pt x="0" y="422672"/>
                </a:lnTo>
                <a:lnTo>
                  <a:pt x="0" y="285750"/>
                </a:lnTo>
                <a:lnTo>
                  <a:pt x="119062" y="226219"/>
                </a:lnTo>
                <a:lnTo>
                  <a:pt x="119062" y="172641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任意多边形 26"/>
          <p:cNvSpPr/>
          <p:nvPr/>
        </p:nvSpPr>
        <p:spPr>
          <a:xfrm>
            <a:off x="5005440" y="3603960"/>
            <a:ext cx="928800" cy="1131120"/>
          </a:xfrm>
          <a:custGeom>
            <a:avLst/>
            <a:gdLst>
              <a:gd name="textAreaLeft" fmla="*/ 0 w 928800"/>
              <a:gd name="textAreaRight" fmla="*/ 929160 w 928800"/>
              <a:gd name="textAreaTop" fmla="*/ 0 h 1131120"/>
              <a:gd name="textAreaBottom" fmla="*/ 1131480 h 1131120"/>
            </a:gdLst>
            <a:ahLst/>
            <a:rect l="textAreaLeft" t="textAreaTop" r="textAreaRight" b="textAreaBottom"/>
            <a:pathLst>
              <a:path w="929255" h="1131407">
                <a:moveTo>
                  <a:pt x="286034" y="0"/>
                </a:moveTo>
                <a:lnTo>
                  <a:pt x="547972" y="0"/>
                </a:lnTo>
                <a:lnTo>
                  <a:pt x="571784" y="53578"/>
                </a:lnTo>
                <a:lnTo>
                  <a:pt x="928972" y="53578"/>
                </a:lnTo>
                <a:lnTo>
                  <a:pt x="928972" y="398859"/>
                </a:lnTo>
                <a:cubicBezTo>
                  <a:pt x="932940" y="478234"/>
                  <a:pt x="895237" y="515937"/>
                  <a:pt x="815862" y="511969"/>
                </a:cubicBezTo>
                <a:lnTo>
                  <a:pt x="250315" y="511969"/>
                </a:lnTo>
                <a:lnTo>
                  <a:pt x="250315" y="970359"/>
                </a:lnTo>
                <a:cubicBezTo>
                  <a:pt x="238409" y="1017984"/>
                  <a:pt x="260237" y="1037828"/>
                  <a:pt x="315800" y="1029891"/>
                </a:cubicBezTo>
                <a:lnTo>
                  <a:pt x="428909" y="1029891"/>
                </a:lnTo>
                <a:lnTo>
                  <a:pt x="428909" y="1131094"/>
                </a:lnTo>
                <a:lnTo>
                  <a:pt x="113393" y="1131094"/>
                </a:lnTo>
                <a:cubicBezTo>
                  <a:pt x="34018" y="1135062"/>
                  <a:pt x="-3685" y="1101328"/>
                  <a:pt x="284" y="1029891"/>
                </a:cubicBezTo>
                <a:lnTo>
                  <a:pt x="284" y="53578"/>
                </a:lnTo>
                <a:lnTo>
                  <a:pt x="315800" y="53578"/>
                </a:lnTo>
                <a:lnTo>
                  <a:pt x="286034" y="0"/>
                </a:lnTo>
                <a:close/>
                <a:moveTo>
                  <a:pt x="250315" y="172641"/>
                </a:moveTo>
                <a:lnTo>
                  <a:pt x="250315" y="226219"/>
                </a:lnTo>
                <a:lnTo>
                  <a:pt x="690847" y="226219"/>
                </a:lnTo>
                <a:lnTo>
                  <a:pt x="690847" y="172641"/>
                </a:lnTo>
                <a:lnTo>
                  <a:pt x="250315" y="172641"/>
                </a:lnTo>
                <a:close/>
                <a:moveTo>
                  <a:pt x="250315" y="339328"/>
                </a:moveTo>
                <a:lnTo>
                  <a:pt x="250315" y="398859"/>
                </a:lnTo>
                <a:lnTo>
                  <a:pt x="631315" y="398859"/>
                </a:lnTo>
                <a:cubicBezTo>
                  <a:pt x="678940" y="406797"/>
                  <a:pt x="698784" y="388937"/>
                  <a:pt x="690847" y="345281"/>
                </a:cubicBezTo>
                <a:lnTo>
                  <a:pt x="690847" y="339328"/>
                </a:lnTo>
                <a:lnTo>
                  <a:pt x="250315" y="33932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任意多边形 25"/>
          <p:cNvSpPr/>
          <p:nvPr/>
        </p:nvSpPr>
        <p:spPr>
          <a:xfrm rot="20469000">
            <a:off x="5435280" y="4162320"/>
            <a:ext cx="435960" cy="869040"/>
          </a:xfrm>
          <a:custGeom>
            <a:avLst/>
            <a:gdLst>
              <a:gd name="textAreaLeft" fmla="*/ 0 w 435960"/>
              <a:gd name="textAreaRight" fmla="*/ 436320 w 435960"/>
              <a:gd name="textAreaTop" fmla="*/ 0 h 869040"/>
              <a:gd name="textAreaBottom" fmla="*/ 869400 h 869040"/>
            </a:gdLst>
            <a:ahLst/>
            <a:rect l="textAreaLeft" t="textAreaTop" r="textAreaRight" b="textAreaBottom"/>
            <a:pathLst>
              <a:path w="589360" h="559594">
                <a:moveTo>
                  <a:pt x="0" y="0"/>
                </a:moveTo>
                <a:lnTo>
                  <a:pt x="255985" y="0"/>
                </a:lnTo>
                <a:lnTo>
                  <a:pt x="297656" y="65484"/>
                </a:lnTo>
                <a:lnTo>
                  <a:pt x="589360" y="0"/>
                </a:lnTo>
                <a:lnTo>
                  <a:pt x="589360" y="101203"/>
                </a:lnTo>
                <a:lnTo>
                  <a:pt x="351235" y="160734"/>
                </a:lnTo>
                <a:lnTo>
                  <a:pt x="589360" y="559594"/>
                </a:lnTo>
                <a:lnTo>
                  <a:pt x="333375" y="55959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文本框 29"/>
          <p:cNvSpPr/>
          <p:nvPr/>
        </p:nvSpPr>
        <p:spPr>
          <a:xfrm>
            <a:off x="5965920" y="3429000"/>
            <a:ext cx="1719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谭黑简体"/>
                <a:ea typeface="方正粗谭黑简体"/>
              </a:rPr>
              <a:t>图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31"/>
          <p:cNvSpPr/>
          <p:nvPr/>
        </p:nvSpPr>
        <p:spPr>
          <a:xfrm>
            <a:off x="5976360" y="4270320"/>
            <a:ext cx="4494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最成功的地方在于精神的塑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文本框 32"/>
          <p:cNvSpPr/>
          <p:nvPr/>
        </p:nvSpPr>
        <p:spPr>
          <a:xfrm>
            <a:off x="6798960" y="4828320"/>
            <a:ext cx="969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狼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文本框 33"/>
          <p:cNvSpPr/>
          <p:nvPr/>
        </p:nvSpPr>
        <p:spPr>
          <a:xfrm>
            <a:off x="7686000" y="4824000"/>
            <a:ext cx="969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人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文本框 35"/>
          <p:cNvSpPr/>
          <p:nvPr/>
        </p:nvSpPr>
        <p:spPr>
          <a:xfrm>
            <a:off x="8647920" y="4824000"/>
            <a:ext cx="1868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冲突与碰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rcRect l="38330" t="0" r="23401" b="0"/>
          <a:stretch/>
        </p:blipFill>
        <p:spPr>
          <a:xfrm>
            <a:off x="0" y="0"/>
            <a:ext cx="4478760" cy="6857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" descr=""/>
          <p:cNvPicPr/>
          <p:nvPr/>
        </p:nvPicPr>
        <p:blipFill>
          <a:blip r:embed="rId2"/>
          <a:stretch/>
        </p:blipFill>
        <p:spPr>
          <a:xfrm>
            <a:off x="-1800" y="0"/>
            <a:ext cx="4480560" cy="6858360"/>
          </a:xfrm>
          <a:prstGeom prst="rect">
            <a:avLst/>
          </a:prstGeom>
          <a:ln w="0">
            <a:noFill/>
          </a:ln>
        </p:spPr>
      </p:pic>
      <p:sp>
        <p:nvSpPr>
          <p:cNvPr id="63" name="L 形 15"/>
          <p:cNvSpPr/>
          <p:nvPr/>
        </p:nvSpPr>
        <p:spPr>
          <a:xfrm>
            <a:off x="3236760" y="254016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L 形 16"/>
          <p:cNvSpPr/>
          <p:nvPr/>
        </p:nvSpPr>
        <p:spPr>
          <a:xfrm flipH="1" flipV="1">
            <a:off x="3869640" y="12038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5152680" y="1836000"/>
            <a:ext cx="6414840" cy="253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文本框 14"/>
          <p:cNvSpPr/>
          <p:nvPr/>
        </p:nvSpPr>
        <p:spPr>
          <a:xfrm>
            <a:off x="7934400" y="3106080"/>
            <a:ext cx="1395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造字工房朗倩（非商用）细体"/>
                <a:ea typeface="造字工房朗倩（非商用）细体"/>
              </a:rPr>
              <a:t>血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文本框 11"/>
          <p:cNvSpPr/>
          <p:nvPr/>
        </p:nvSpPr>
        <p:spPr>
          <a:xfrm>
            <a:off x="6991200" y="2262600"/>
            <a:ext cx="95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团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文本框 12"/>
          <p:cNvSpPr/>
          <p:nvPr/>
        </p:nvSpPr>
        <p:spPr>
          <a:xfrm>
            <a:off x="8021520" y="2259360"/>
            <a:ext cx="95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忍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文本框 13"/>
          <p:cNvSpPr/>
          <p:nvPr/>
        </p:nvSpPr>
        <p:spPr>
          <a:xfrm>
            <a:off x="9054360" y="2259360"/>
            <a:ext cx="95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渴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直接连接符 20"/>
          <p:cNvCxnSpPr/>
          <p:nvPr/>
        </p:nvCxnSpPr>
        <p:spPr>
          <a:xfrm flipV="1">
            <a:off x="6640200" y="2860200"/>
            <a:ext cx="3817440" cy="30960"/>
          </a:xfrm>
          <a:prstGeom prst="straightConnector1">
            <a:avLst/>
          </a:prstGeom>
          <a:ln w="28575">
            <a:solidFill>
              <a:srgbClr val="0d0d0d"/>
            </a:solidFill>
          </a:ln>
        </p:spPr>
      </p:cxnSp>
      <p:sp>
        <p:nvSpPr>
          <p:cNvPr id="71" name="L 形 26"/>
          <p:cNvSpPr/>
          <p:nvPr/>
        </p:nvSpPr>
        <p:spPr>
          <a:xfrm flipH="1" flipV="1">
            <a:off x="9897840" y="20336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L 形 27"/>
          <p:cNvSpPr/>
          <p:nvPr/>
        </p:nvSpPr>
        <p:spPr>
          <a:xfrm flipH="1">
            <a:off x="9857520" y="382356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L 形 30"/>
          <p:cNvSpPr/>
          <p:nvPr/>
        </p:nvSpPr>
        <p:spPr>
          <a:xfrm>
            <a:off x="6799320" y="38264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L 形 31"/>
          <p:cNvSpPr/>
          <p:nvPr/>
        </p:nvSpPr>
        <p:spPr>
          <a:xfrm flipV="1">
            <a:off x="6801120" y="198648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文本框 36"/>
          <p:cNvSpPr/>
          <p:nvPr/>
        </p:nvSpPr>
        <p:spPr>
          <a:xfrm>
            <a:off x="6371640" y="4864320"/>
            <a:ext cx="4919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狼活着就是为了去捕猎、去战斗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如果你让一只狼变成了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那就是剥夺了狼的尊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4818600" y="2481840"/>
            <a:ext cx="3410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团队的狼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" name="直接连接符 3"/>
          <p:cNvCxnSpPr/>
          <p:nvPr/>
        </p:nvCxnSpPr>
        <p:spPr>
          <a:xfrm>
            <a:off x="4267080" y="3295080"/>
            <a:ext cx="4064400" cy="36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78" name="文本框 4"/>
          <p:cNvSpPr/>
          <p:nvPr/>
        </p:nvSpPr>
        <p:spPr>
          <a:xfrm>
            <a:off x="4717080" y="3483360"/>
            <a:ext cx="3613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造字工房朗倩（非商用）细体"/>
                <a:ea typeface="造字工房朗倩（非商用）细体"/>
              </a:rPr>
              <a:t>嗅觉  创造力  执行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80000" y="61207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rcRect l="0" t="38031" r="1757" b="25094"/>
          <a:stretch/>
        </p:blipFill>
        <p:spPr>
          <a:xfrm>
            <a:off x="0" y="0"/>
            <a:ext cx="12177000" cy="256860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0" y="0"/>
            <a:ext cx="12191760" cy="2568600"/>
          </a:xfrm>
          <a:prstGeom prst="rect">
            <a:avLst/>
          </a:prstGeom>
          <a:solidFill>
            <a:srgbClr val="0d0d0d">
              <a:alpha val="7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L 形 4"/>
          <p:cNvSpPr/>
          <p:nvPr/>
        </p:nvSpPr>
        <p:spPr>
          <a:xfrm flipH="1">
            <a:off x="2465280" y="131040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L 形 5"/>
          <p:cNvSpPr/>
          <p:nvPr/>
        </p:nvSpPr>
        <p:spPr>
          <a:xfrm flipV="1">
            <a:off x="1300320" y="7844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1336680" y="917280"/>
            <a:ext cx="1506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人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1278720" y="2902680"/>
            <a:ext cx="2016360" cy="3686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8"/>
          <p:cNvSpPr/>
          <p:nvPr/>
        </p:nvSpPr>
        <p:spPr>
          <a:xfrm>
            <a:off x="1294200" y="3889800"/>
            <a:ext cx="2059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造字工房朗倩（非商用）细体"/>
                <a:ea typeface="造字工房朗倩（非商用）细体"/>
              </a:rPr>
              <a:t>善良与丑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1278720" y="4488120"/>
            <a:ext cx="2030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造字工房朗倩（非商用）细体"/>
                <a:ea typeface="造字工房朗倩（非商用）细体"/>
              </a:rPr>
              <a:t>真情与假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" name="直接连接符 11"/>
          <p:cNvCxnSpPr/>
          <p:nvPr/>
        </p:nvCxnSpPr>
        <p:spPr>
          <a:xfrm flipV="1">
            <a:off x="1264320" y="5042880"/>
            <a:ext cx="2031120" cy="15120"/>
          </a:xfrm>
          <a:prstGeom prst="straightConnector1">
            <a:avLst/>
          </a:prstGeom>
          <a:ln w="38100">
            <a:solidFill>
              <a:srgbClr val="0d0d0d"/>
            </a:solidFill>
          </a:ln>
        </p:spPr>
      </p:cxnSp>
      <p:sp>
        <p:nvSpPr>
          <p:cNvPr id="89" name="文本框 13"/>
          <p:cNvSpPr/>
          <p:nvPr/>
        </p:nvSpPr>
        <p:spPr>
          <a:xfrm>
            <a:off x="1591200" y="5228640"/>
            <a:ext cx="1465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造字工房朗倩（非商用）细体"/>
                <a:ea typeface="造字工房朗倩（非商用）细体"/>
              </a:rPr>
              <a:t>碰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 形 20"/>
          <p:cNvSpPr/>
          <p:nvPr/>
        </p:nvSpPr>
        <p:spPr>
          <a:xfrm flipH="1" flipV="1">
            <a:off x="3067560" y="276660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L 形 21"/>
          <p:cNvSpPr/>
          <p:nvPr/>
        </p:nvSpPr>
        <p:spPr>
          <a:xfrm>
            <a:off x="1133280" y="627516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文本框 23"/>
          <p:cNvSpPr/>
          <p:nvPr/>
        </p:nvSpPr>
        <p:spPr>
          <a:xfrm>
            <a:off x="4281840" y="3822120"/>
            <a:ext cx="67633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在影片中，人性的冲突从来没有终止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善良与丑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真情与假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传承与腐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整个剧情贯穿对丑陋腐朽的抨击，对真善美的歌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"/>
          <p:cNvSpPr/>
          <p:nvPr/>
        </p:nvSpPr>
        <p:spPr>
          <a:xfrm>
            <a:off x="4818600" y="2481840"/>
            <a:ext cx="3410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社群的人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直接连接符 2"/>
          <p:cNvCxnSpPr/>
          <p:nvPr/>
        </p:nvCxnSpPr>
        <p:spPr>
          <a:xfrm>
            <a:off x="4267080" y="3295080"/>
            <a:ext cx="4064400" cy="36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95" name="文本框 3"/>
          <p:cNvSpPr/>
          <p:nvPr/>
        </p:nvSpPr>
        <p:spPr>
          <a:xfrm>
            <a:off x="4615560" y="3468960"/>
            <a:ext cx="3613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造字工房朗倩（非商用）细体"/>
                <a:ea typeface="造字工房朗倩（非商用）细体"/>
              </a:rPr>
              <a:t>纯真  人情  反抗  维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rcRect l="41118" t="0" r="11749" b="0"/>
          <a:stretch/>
        </p:blipFill>
        <p:spPr>
          <a:xfrm flipH="1">
            <a:off x="7348680" y="0"/>
            <a:ext cx="48434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7329600" y="0"/>
            <a:ext cx="4861800" cy="6857640"/>
          </a:xfrm>
          <a:prstGeom prst="rect">
            <a:avLst/>
          </a:prstGeom>
          <a:solidFill>
            <a:srgbClr val="0d0d0d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L 形 3"/>
          <p:cNvSpPr/>
          <p:nvPr/>
        </p:nvSpPr>
        <p:spPr>
          <a:xfrm flipH="1">
            <a:off x="8540640" y="14342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L 形 4"/>
          <p:cNvSpPr/>
          <p:nvPr/>
        </p:nvSpPr>
        <p:spPr>
          <a:xfrm flipV="1">
            <a:off x="8026560" y="44352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文本框 6"/>
          <p:cNvSpPr/>
          <p:nvPr/>
        </p:nvSpPr>
        <p:spPr>
          <a:xfrm>
            <a:off x="8018640" y="558000"/>
            <a:ext cx="8614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平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336240" y="1139400"/>
            <a:ext cx="6414840" cy="253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文本框 9"/>
          <p:cNvSpPr/>
          <p:nvPr/>
        </p:nvSpPr>
        <p:spPr>
          <a:xfrm>
            <a:off x="3060000" y="2383560"/>
            <a:ext cx="1395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造字工房朗倩（非商用）细体"/>
                <a:ea typeface="造字工房朗倩（非商用）细体"/>
              </a:rPr>
              <a:t>动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文本框 10"/>
          <p:cNvSpPr/>
          <p:nvPr/>
        </p:nvSpPr>
        <p:spPr>
          <a:xfrm>
            <a:off x="902880" y="1517040"/>
            <a:ext cx="1380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人与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2444400" y="1517040"/>
            <a:ext cx="161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狼与黄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4218840" y="1517040"/>
            <a:ext cx="2029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造字工房朗倩（非商用）细体"/>
                <a:ea typeface="造字工房朗倩（非商用）细体"/>
              </a:rPr>
              <a:t>牧民与草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直接连接符 13"/>
          <p:cNvCxnSpPr/>
          <p:nvPr/>
        </p:nvCxnSpPr>
        <p:spPr>
          <a:xfrm flipV="1">
            <a:off x="739800" y="2140560"/>
            <a:ext cx="5735880" cy="5400"/>
          </a:xfrm>
          <a:prstGeom prst="straightConnector1">
            <a:avLst/>
          </a:prstGeom>
          <a:ln w="28575">
            <a:solidFill>
              <a:srgbClr val="0d0d0d"/>
            </a:solidFill>
          </a:ln>
        </p:spPr>
      </p:cxnSp>
      <p:sp>
        <p:nvSpPr>
          <p:cNvPr id="107" name="L 形 14"/>
          <p:cNvSpPr/>
          <p:nvPr/>
        </p:nvSpPr>
        <p:spPr>
          <a:xfrm flipH="1" flipV="1">
            <a:off x="6286320" y="120852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L 形 15"/>
          <p:cNvSpPr/>
          <p:nvPr/>
        </p:nvSpPr>
        <p:spPr>
          <a:xfrm flipH="1">
            <a:off x="6286320" y="31586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L 形 16"/>
          <p:cNvSpPr/>
          <p:nvPr/>
        </p:nvSpPr>
        <p:spPr>
          <a:xfrm>
            <a:off x="362880" y="315864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L 形 17"/>
          <p:cNvSpPr/>
          <p:nvPr/>
        </p:nvSpPr>
        <p:spPr>
          <a:xfrm flipV="1">
            <a:off x="362880" y="1208520"/>
            <a:ext cx="376920" cy="449640"/>
          </a:xfrm>
          <a:prstGeom prst="corner">
            <a:avLst>
              <a:gd name="adj1" fmla="val 11883"/>
              <a:gd name="adj2" fmla="val 11883"/>
            </a:avLst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文本框 18"/>
          <p:cNvSpPr/>
          <p:nvPr/>
        </p:nvSpPr>
        <p:spPr>
          <a:xfrm>
            <a:off x="1366560" y="4160880"/>
            <a:ext cx="4919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物竞天择，适者生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世界万物，都存在这一种动态平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一旦某一个链条被打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意味着我们的生存将会受到威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818600" y="2481840"/>
            <a:ext cx="3410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竞争的平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直接连接符 2"/>
          <p:cNvCxnSpPr/>
          <p:nvPr/>
        </p:nvCxnSpPr>
        <p:spPr>
          <a:xfrm>
            <a:off x="4267080" y="3295080"/>
            <a:ext cx="4064400" cy="36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114" name="文本框 3"/>
          <p:cNvSpPr/>
          <p:nvPr/>
        </p:nvSpPr>
        <p:spPr>
          <a:xfrm>
            <a:off x="4615560" y="3468960"/>
            <a:ext cx="3613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造字工房朗倩（非商用）细体"/>
                <a:ea typeface="造字工房朗倩（非商用）细体"/>
              </a:rPr>
              <a:t>贪婪  毁灭  制约  共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4964040" y="2496600"/>
            <a:ext cx="2046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腾格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5805720" y="3381840"/>
            <a:ext cx="3584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造字工房朗倩（非商用）细体"/>
                <a:ea typeface="造字工房朗倩（非商用）细体"/>
              </a:rPr>
              <a:t>信仰、力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80000" y="61207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207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2:31:59Z</dcterms:created>
  <dc:creator>陈华州</dc:creator>
  <dc:description/>
  <dc:language>en-US</dc:language>
  <cp:lastModifiedBy>王玉清</cp:lastModifiedBy>
  <dcterms:modified xsi:type="dcterms:W3CDTF">2016-03-01T07:25:17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9</vt:r8>
  </property>
</Properties>
</file>