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D09-73E6-45B0-82EF-3EB0594B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FC2-47EB-49DD-A093-FF4AD663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EF8-2C30-4CA4-B690-8503B1B6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DAB-C450-41ED-8771-A3B9A65E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D4C8-D744-4939-871C-EE350C3F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922-2E54-4657-88DF-29559513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6B03-6A3E-4502-ADAA-AD918C40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C7D-12E4-4F40-BA09-2CF6E512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866-57A6-41AA-8DD8-A658FA31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2AC-A687-4ED6-8F6B-2321F965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951-02FB-42FD-B17C-2C850096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122-D733-46CF-AAC1-366A02E4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2D9F49-F2B4-4262-ADC8-F2AB7F7596C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7640" y="4418280"/>
            <a:ext cx="8316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两条围巾两个人的世界通用</a:t>
            </a:r>
            <a:r>
              <a:rPr b="0" lang="en-US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699640" y="5157360"/>
            <a:ext cx="4104000" cy="36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7956360" y="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  <Words>100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王玉清</cp:lastModifiedBy>
  <dcterms:modified xsi:type="dcterms:W3CDTF">2016-02-20T03:24:2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