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CE77-EC59-4D39-8199-3BD597665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91D3-261A-43B3-8A47-FE7BB32F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C8D8E-DF71-4E98-8EF8-90B45450E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245D1-0665-46E7-81CF-B368CB3E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C847-51C4-494A-9E13-715AD5BF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EFA6D-D0FF-41AF-83A0-76F47C1CB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F26F-39C9-4480-B82F-2ADBE9BD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86D5-3697-45B6-972E-498C1163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89F1A-38A9-4447-BCB1-75F32A93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2A9B-8895-473F-9763-9D96E10E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FEDD-A51E-4A8C-8420-4CB6EE5F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9FC5-ECCF-4276-AF67-057DAEAD9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B2D0-0783-4A79-9560-7010ECE6D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90400" y="2060640"/>
            <a:ext cx="31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 </a:t>
            </a:r>
            <a:endParaRPr b="0" lang="en-US" sz="4000" spc="-1" strike="noStrike">
              <a:solidFill>
                <a:srgbClr val="000000"/>
              </a:solidFill>
              <a:latin typeface="Arial"/>
            </a:endParaRPr>
          </a:p>
        </p:txBody>
      </p:sp>
      <p:sp>
        <p:nvSpPr>
          <p:cNvPr id="42" name=""/>
          <p:cNvSpPr/>
          <p:nvPr/>
        </p:nvSpPr>
        <p:spPr>
          <a:xfrm>
            <a:off x="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3" name=""/>
          <p:cNvSpPr/>
          <p:nvPr/>
        </p:nvSpPr>
        <p:spPr>
          <a:xfrm>
            <a:off x="2871360" y="333360"/>
            <a:ext cx="293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楼宇的</a:t>
            </a:r>
            <a:r>
              <a:rPr b="0" lang="zh-CN" sz="4000" spc="-1" strike="noStrike">
                <a:solidFill>
                  <a:srgbClr val="000000"/>
                </a:solidFill>
                <a:latin typeface="Arial"/>
              </a:rPr>
              <a:t>PPT</a:t>
            </a:r>
            <a:r>
              <a:rPr b="0" lang="zh-CN" sz="4000" spc="-1" strike="noStrike">
                <a:solidFill>
                  <a:srgbClr val="000000"/>
                </a:solidFill>
                <a:latin typeface="Arial"/>
              </a:rPr>
              <a:t>素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55640" y="1341360"/>
            <a:ext cx="7848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24000" y="6021360"/>
            <a:ext cx="69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素材下载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DA5D3F4-8370-4255-AEEA-37A74C391094}"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0:58:08Z</dcterms:created>
  <dc:creator>幻灯片之家 http://www.eeppt.com</dc:creator>
  <dc:description/>
  <cp:keywords>幻灯片之家 http:/www.eeppt.com</cp:keywords>
  <dc:language>en-US</dc:language>
  <cp:lastModifiedBy/>
  <dcterms:modified xsi:type="dcterms:W3CDTF">2015-07-18T01:05:31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