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BCB8-E67C-4F5B-ACB2-75F15B55D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C585-936A-4DFC-AA67-BB09E7515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E8EE-4830-473F-A20E-45D1C6E15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602E-C42C-4FF9-977E-172E38C1F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822CD-6ECD-49F3-BCB8-910EF79B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BC345-E425-4E90-8184-E5965C43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ACA9A-1298-43F5-945C-10CDE86E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6D177-20A1-45C5-ACC6-C7F9FDEF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1FD8A-433E-4DBE-AA1F-133C5DA7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31560"/>
            <a:ext cx="5973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9384C-C8AD-446A-B981-26D554DB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04062-D7E3-4D4B-ACC1-53ECCC97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AD36-CE1E-4F3E-B619-4F9BACC6F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8FA88-6383-4592-B8BF-77AA2CB4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AD8C5-4EB9-456D-816F-83A1E230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F3EF5-B78B-4AAF-BAE8-02FC54F4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CEF44-F698-4F24-85CC-3FF10B8E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95475-A604-4F90-9AF9-2149B52A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AD50-5D41-4FB6-9E5A-2F3B7C622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5280-9AB1-4AC4-B6D0-DF1522CC9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4DDB-E592-46EA-8DC2-37CC22E2A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31560"/>
            <a:ext cx="5973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594A-F738-4F01-9C84-161FD3CF0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4890-5EE9-422F-8F71-666571B12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3BC1-5321-49EA-87CC-383A33AD6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51AB-D5AC-4FA7-ABEF-003E601AE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3"/>
          <p:cNvSpPr/>
          <p:nvPr/>
        </p:nvSpPr>
        <p:spPr>
          <a:xfrm>
            <a:off x="228600" y="590400"/>
            <a:ext cx="8686800" cy="5791320"/>
          </a:xfrm>
          <a:prstGeom prst="rect">
            <a:avLst/>
          </a:prstGeom>
          <a:noFill/>
          <a:ln w="38160">
            <a:solidFill>
              <a:srgbClr val="4cb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Rectangle 54"/>
          <p:cNvSpPr/>
          <p:nvPr/>
        </p:nvSpPr>
        <p:spPr>
          <a:xfrm>
            <a:off x="609480" y="190440"/>
            <a:ext cx="556272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b9cb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b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A360-C75A-454A-898E-270657FC461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85800" y="331560"/>
            <a:ext cx="5973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59" descr="03_icon"/>
          <p:cNvPicPr/>
          <p:nvPr/>
        </p:nvPicPr>
        <p:blipFill>
          <a:blip r:embed="rId3"/>
          <a:stretch/>
        </p:blipFill>
        <p:spPr>
          <a:xfrm>
            <a:off x="5376960" y="166680"/>
            <a:ext cx="749160" cy="92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4"/>
          <p:cNvSpPr/>
          <p:nvPr/>
        </p:nvSpPr>
        <p:spPr>
          <a:xfrm>
            <a:off x="357120" y="1171440"/>
            <a:ext cx="8406000" cy="4772160"/>
          </a:xfrm>
          <a:prstGeom prst="rect">
            <a:avLst/>
          </a:prstGeom>
          <a:solidFill>
            <a:srgbClr val="ffffff"/>
          </a:solidFill>
          <a:ln w="38160">
            <a:solidFill>
              <a:srgbClr val="4cb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" name="Picture 30" descr="03_back"/>
          <p:cNvPicPr/>
          <p:nvPr/>
        </p:nvPicPr>
        <p:blipFill>
          <a:blip r:embed="rId3"/>
          <a:stretch/>
        </p:blipFill>
        <p:spPr>
          <a:xfrm>
            <a:off x="374760" y="1197000"/>
            <a:ext cx="8346960" cy="470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03_icon"/>
          <p:cNvPicPr/>
          <p:nvPr/>
        </p:nvPicPr>
        <p:blipFill>
          <a:blip r:embed="rId4"/>
          <a:stretch/>
        </p:blipFill>
        <p:spPr>
          <a:xfrm>
            <a:off x="2895480" y="4648320"/>
            <a:ext cx="749520" cy="927000"/>
          </a:xfrm>
          <a:prstGeom prst="rect">
            <a:avLst/>
          </a:prstGeom>
          <a:ln w="0">
            <a:noFill/>
          </a:ln>
        </p:spPr>
      </p:pic>
      <p:sp>
        <p:nvSpPr>
          <p:cNvPr id="45" name="Line 32"/>
          <p:cNvSpPr/>
          <p:nvPr/>
        </p:nvSpPr>
        <p:spPr>
          <a:xfrm>
            <a:off x="3635280" y="5029200"/>
            <a:ext cx="510552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b9cb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b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331560"/>
            <a:ext cx="5973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380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F23A-98D1-4855-A70F-7613D2005E1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1773360"/>
            <a:ext cx="7128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粗倩简体"/>
                <a:ea typeface="方正粗倩简体"/>
              </a:rPr>
              <a:t>绿叶通用</a:t>
            </a:r>
            <a:r>
              <a:rPr b="0" lang="en-US" sz="4000" spc="-1" strike="noStrike">
                <a:solidFill>
                  <a:srgbClr val="262626"/>
                </a:solidFill>
                <a:latin typeface="方正粗倩简体"/>
                <a:ea typeface="方正粗倩简体"/>
              </a:rPr>
              <a:t>PPT</a:t>
            </a:r>
            <a:r>
              <a:rPr b="0" lang="zh-CN" sz="4000" spc="-1" strike="noStrike">
                <a:solidFill>
                  <a:srgbClr val="262626"/>
                </a:solidFill>
                <a:latin typeface="方正粗倩简体"/>
                <a:ea typeface="方正粗倩简体"/>
              </a:rPr>
              <a:t>模板完整版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71800" y="4313160"/>
            <a:ext cx="76320" cy="228600"/>
          </a:xfrm>
          <a:prstGeom prst="rect">
            <a:avLst/>
          </a:prstGeom>
          <a:solidFill>
            <a:srgbClr val="4cb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09480" y="190440"/>
            <a:ext cx="5562720" cy="717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5973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684360" y="1052640"/>
            <a:ext cx="6911640" cy="1368000"/>
            <a:chOff x="684360" y="1052640"/>
            <a:chExt cx="6911640" cy="1368000"/>
          </a:xfrm>
        </p:grpSpPr>
        <p:sp>
          <p:nvSpPr>
            <p:cNvPr id="93" name="AutoShape 5"/>
            <p:cNvSpPr/>
            <p:nvPr/>
          </p:nvSpPr>
          <p:spPr>
            <a:xfrm>
              <a:off x="813240" y="1104480"/>
              <a:ext cx="6782760" cy="1263960"/>
            </a:xfrm>
            <a:custGeom>
              <a:avLst/>
              <a:gdLst>
                <a:gd name="textAreaLeft" fmla="*/ 155880 w 6782760"/>
                <a:gd name="textAreaRight" fmla="*/ 6626880 w 6782760"/>
                <a:gd name="textAreaTop" fmla="*/ 155880 h 1263960"/>
                <a:gd name="textAreaBottom" fmla="*/ 1108080 h 1263960"/>
              </a:gdLst>
              <a:ahLst/>
              <a:rect l="textAreaLeft" t="textAreaTop" r="textAreaRight" b="textAreaBottom"/>
              <a:pathLst>
                <a:path w="115885" h="21600">
                  <a:moveTo>
                    <a:pt x="3769" y="0"/>
                  </a:moveTo>
                  <a:arcTo wR="3769" hR="3769" stAng="0" swAng="5400000"/>
                  <a:lnTo>
                    <a:pt x="0" y="17831"/>
                  </a:lnTo>
                  <a:arcTo wR="3769" hR="3769" stAng="16200000" swAng="5400000"/>
                  <a:lnTo>
                    <a:pt x="112116" y="21600"/>
                  </a:lnTo>
                  <a:arcTo wR="3769" hR="3769" stAng="10800000" swAng="5400000"/>
                  <a:lnTo>
                    <a:pt x="115885" y="3769"/>
                  </a:lnTo>
                  <a:arcTo wR="3769" hR="3769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153753" dir="2700000" blurRad="0" rotWithShape="0">
                <a:srgbClr val="8c8c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944280" y="1368000"/>
              <a:ext cx="0" cy="84132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684360" y="1052640"/>
              <a:ext cx="390960" cy="315360"/>
            </a:xfrm>
            <a:prstGeom prst="ellipse">
              <a:avLst/>
            </a:prstGeom>
            <a:gradFill rotWithShape="0">
              <a:gsLst>
                <a:gs pos="0">
                  <a:srgbClr val="9900cc"/>
                </a:gs>
                <a:gs pos="100000">
                  <a:srgbClr val="47005e"/>
                </a:gs>
              </a:gsLst>
              <a:lin ang="189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" name="Line 8"/>
            <p:cNvSpPr/>
            <p:nvPr/>
          </p:nvSpPr>
          <p:spPr>
            <a:xfrm>
              <a:off x="813240" y="1368000"/>
              <a:ext cx="0" cy="84132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" name="Oval 9"/>
            <p:cNvSpPr/>
            <p:nvPr/>
          </p:nvSpPr>
          <p:spPr>
            <a:xfrm>
              <a:off x="684360" y="2104920"/>
              <a:ext cx="390960" cy="31572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85e5e"/>
                </a:gs>
              </a:gsLst>
              <a:lin ang="189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8" name="AutoShape 10"/>
          <p:cNvSpPr/>
          <p:nvPr/>
        </p:nvSpPr>
        <p:spPr>
          <a:xfrm>
            <a:off x="826920" y="2833560"/>
            <a:ext cx="6782040" cy="1263600"/>
          </a:xfrm>
          <a:custGeom>
            <a:avLst/>
            <a:gdLst>
              <a:gd name="textAreaLeft" fmla="*/ 155880 w 6782040"/>
              <a:gd name="textAreaRight" fmla="*/ 6626160 w 6782040"/>
              <a:gd name="textAreaTop" fmla="*/ 155880 h 1263600"/>
              <a:gd name="textAreaBottom" fmla="*/ 1107720 h 1263600"/>
            </a:gdLst>
            <a:ahLst/>
            <a:rect l="textAreaLeft" t="textAreaTop" r="textAreaRight" b="textAreaBottom"/>
            <a:pathLst>
              <a:path w="115905" h="21600">
                <a:moveTo>
                  <a:pt x="3769" y="0"/>
                </a:moveTo>
                <a:arcTo wR="3769" hR="3769" stAng="0" swAng="5400000"/>
                <a:lnTo>
                  <a:pt x="0" y="17831"/>
                </a:lnTo>
                <a:arcTo wR="3769" hR="3769" stAng="16200000" swAng="5400000"/>
                <a:lnTo>
                  <a:pt x="112136" y="21600"/>
                </a:lnTo>
                <a:arcTo wR="3769" hR="3769" stAng="10800000" swAng="5400000"/>
                <a:lnTo>
                  <a:pt x="115905" y="3769"/>
                </a:lnTo>
                <a:arcTo wR="3769" hR="3769" stAng="5400000" swAng="5400000"/>
                <a:close/>
              </a:path>
            </a:pathLst>
          </a:custGeom>
          <a:solidFill>
            <a:srgbClr val="eaeaea"/>
          </a:solidFill>
          <a:ln w="0">
            <a:noFill/>
          </a:ln>
          <a:effectLst>
            <a:outerShdw dist="153753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7610400" y="3097080"/>
            <a:ext cx="0" cy="8352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Oval 12"/>
          <p:cNvSpPr/>
          <p:nvPr/>
        </p:nvSpPr>
        <p:spPr>
          <a:xfrm>
            <a:off x="7350120" y="2781360"/>
            <a:ext cx="390600" cy="31572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47005e"/>
              </a:gs>
            </a:gsLst>
            <a:lin ang="189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7480440" y="3097080"/>
            <a:ext cx="0" cy="84168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7350120" y="3833640"/>
            <a:ext cx="390600" cy="3160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AutoShape 15"/>
          <p:cNvSpPr/>
          <p:nvPr/>
        </p:nvSpPr>
        <p:spPr>
          <a:xfrm>
            <a:off x="826920" y="4633920"/>
            <a:ext cx="6782040" cy="1263600"/>
          </a:xfrm>
          <a:custGeom>
            <a:avLst/>
            <a:gdLst>
              <a:gd name="textAreaLeft" fmla="*/ 155880 w 6782040"/>
              <a:gd name="textAreaRight" fmla="*/ 6626160 w 6782040"/>
              <a:gd name="textAreaTop" fmla="*/ 155880 h 1263600"/>
              <a:gd name="textAreaBottom" fmla="*/ 1107720 h 1263600"/>
            </a:gdLst>
            <a:ahLst/>
            <a:rect l="textAreaLeft" t="textAreaTop" r="textAreaRight" b="textAreaBottom"/>
            <a:pathLst>
              <a:path w="115905" h="21600">
                <a:moveTo>
                  <a:pt x="3769" y="0"/>
                </a:moveTo>
                <a:arcTo wR="3769" hR="3769" stAng="0" swAng="5400000"/>
                <a:lnTo>
                  <a:pt x="0" y="17831"/>
                </a:lnTo>
                <a:arcTo wR="3769" hR="3769" stAng="16200000" swAng="5400000"/>
                <a:lnTo>
                  <a:pt x="112136" y="21600"/>
                </a:lnTo>
                <a:arcTo wR="3769" hR="3769" stAng="10800000" swAng="5400000"/>
                <a:lnTo>
                  <a:pt x="115905" y="3769"/>
                </a:lnTo>
                <a:arcTo wR="3769" hR="3769" stAng="5400000" swAng="5400000"/>
                <a:close/>
              </a:path>
            </a:pathLst>
          </a:custGeom>
          <a:solidFill>
            <a:srgbClr val="eaeaea"/>
          </a:solidFill>
          <a:ln w="0">
            <a:noFill/>
          </a:ln>
          <a:effectLst>
            <a:outerShdw dist="153753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7610400" y="4897440"/>
            <a:ext cx="0" cy="8352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Oval 17"/>
          <p:cNvSpPr/>
          <p:nvPr/>
        </p:nvSpPr>
        <p:spPr>
          <a:xfrm>
            <a:off x="7350120" y="4581360"/>
            <a:ext cx="390600" cy="31608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47005e"/>
              </a:gs>
            </a:gsLst>
            <a:lin ang="189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7480440" y="4897440"/>
            <a:ext cx="0" cy="84132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Oval 19"/>
          <p:cNvSpPr/>
          <p:nvPr/>
        </p:nvSpPr>
        <p:spPr>
          <a:xfrm>
            <a:off x="7350120" y="5634000"/>
            <a:ext cx="390600" cy="3160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944640" y="4897440"/>
            <a:ext cx="0" cy="83520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84360" y="4581360"/>
            <a:ext cx="390240" cy="31608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47005e"/>
              </a:gs>
            </a:gsLst>
            <a:lin ang="189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814320" y="4897440"/>
            <a:ext cx="0" cy="8413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Oval 23"/>
          <p:cNvSpPr/>
          <p:nvPr/>
        </p:nvSpPr>
        <p:spPr>
          <a:xfrm>
            <a:off x="684360" y="5634000"/>
            <a:ext cx="390240" cy="3160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1116000" y="1413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lcome to use these powerpoint templates, New Content design, 10 years experience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1116000" y="3141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lcome to use these powerpoint templates, New Content design, 10 years experience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1116000" y="5013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lcome to use these powerpoint templates, New Content design, 10 years experience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5" name="Picture 27" descr="03_icon"/>
          <p:cNvPicPr/>
          <p:nvPr/>
        </p:nvPicPr>
        <p:blipFill>
          <a:blip r:embed="rId1"/>
          <a:stretch/>
        </p:blipFill>
        <p:spPr>
          <a:xfrm>
            <a:off x="5376960" y="166680"/>
            <a:ext cx="749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24360" y="3068640"/>
            <a:ext cx="464832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0c0c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THANK YOU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871800" y="4313160"/>
            <a:ext cx="76320" cy="228600"/>
          </a:xfrm>
          <a:prstGeom prst="rect">
            <a:avLst/>
          </a:prstGeom>
          <a:solidFill>
            <a:srgbClr val="4cb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6:21:15Z</dcterms:created>
  <dc:creator>user</dc:creator>
  <dc:description/>
  <dc:language>en-US</dc:language>
  <cp:lastModifiedBy>王玉清</cp:lastModifiedBy>
  <dcterms:modified xsi:type="dcterms:W3CDTF">2016-02-21T04:52:36Z</dcterms:modified>
  <cp:revision>109</cp:revision>
  <dc:subject/>
  <dc:title>PowerPoint Template</dc:title>
</cp:coreProperties>
</file>