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A98-29F8-4DA0-88F4-B2366050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8D2-27A5-4FA8-8872-D36CC88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D89-07A9-4463-8FB3-A5D3643F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949-BF3F-4A3D-B9AA-99E51E98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5B5-185C-49A5-ABA3-54C3D279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0F0-E95A-452C-9269-5B909714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9D7-8E72-4913-90D8-EC276B6C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CAC-7B8E-4225-B6DD-934E9D7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C40-8EFC-438E-9788-2A61AEFE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CFD-92A6-4E22-94B4-1B1A63C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036-F9D0-4158-9713-A34F7A9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DB2-3686-4345-8909-F00738DA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D855-D3C4-4EE3-9DBF-14BCA0746C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4920" y="6526080"/>
            <a:ext cx="735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9"/>
          <p:cNvSpPr/>
          <p:nvPr/>
        </p:nvSpPr>
        <p:spPr>
          <a:xfrm>
            <a:off x="3357720" y="492912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4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流程图: 顺序访问存储器 10"/>
          <p:cNvSpPr/>
          <p:nvPr/>
        </p:nvSpPr>
        <p:spPr>
          <a:xfrm>
            <a:off x="2800440" y="1143000"/>
            <a:ext cx="22572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流程图: 顺序访问存储器 11"/>
          <p:cNvSpPr/>
          <p:nvPr/>
        </p:nvSpPr>
        <p:spPr>
          <a:xfrm flipV="1">
            <a:off x="2786040" y="3384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流程图: 顺序访问存储器 12"/>
          <p:cNvSpPr/>
          <p:nvPr/>
        </p:nvSpPr>
        <p:spPr>
          <a:xfrm flipH="1" flipV="1">
            <a:off x="5027040" y="3384000"/>
            <a:ext cx="22590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流程图: 顺序访问存储器 13"/>
          <p:cNvSpPr/>
          <p:nvPr/>
        </p:nvSpPr>
        <p:spPr>
          <a:xfrm flipH="1">
            <a:off x="5027040" y="1143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3283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3354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剪去单角的矩形 11"/>
          <p:cNvSpPr/>
          <p:nvPr/>
        </p:nvSpPr>
        <p:spPr>
          <a:xfrm>
            <a:off x="4714920" y="982800"/>
            <a:ext cx="3089160" cy="3089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剪去单角的矩形 12"/>
          <p:cNvSpPr/>
          <p:nvPr/>
        </p:nvSpPr>
        <p:spPr>
          <a:xfrm flipH="1" flipV="1">
            <a:off x="1624680" y="2571120"/>
            <a:ext cx="3089160" cy="3089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5569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2926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5EF-86BC-40E5-9665-B9CD2DA851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五角星 15"/>
          <p:cNvSpPr/>
          <p:nvPr/>
        </p:nvSpPr>
        <p:spPr>
          <a:xfrm>
            <a:off x="4643280" y="3643200"/>
            <a:ext cx="714600" cy="714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五角星 16"/>
          <p:cNvSpPr/>
          <p:nvPr/>
        </p:nvSpPr>
        <p:spPr>
          <a:xfrm>
            <a:off x="4857840" y="2214720"/>
            <a:ext cx="714240" cy="7142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17"/>
          <p:cNvSpPr/>
          <p:nvPr/>
        </p:nvSpPr>
        <p:spPr>
          <a:xfrm>
            <a:off x="4143240" y="1143000"/>
            <a:ext cx="714600" cy="714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18"/>
          <p:cNvSpPr/>
          <p:nvPr/>
        </p:nvSpPr>
        <p:spPr>
          <a:xfrm>
            <a:off x="3857760" y="4714920"/>
            <a:ext cx="714240" cy="7142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角星 19"/>
          <p:cNvSpPr/>
          <p:nvPr/>
        </p:nvSpPr>
        <p:spPr>
          <a:xfrm>
            <a:off x="3071880" y="2500200"/>
            <a:ext cx="1150920" cy="1150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5569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5855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528372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7120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2640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燕尾形 10"/>
          <p:cNvSpPr/>
          <p:nvPr/>
        </p:nvSpPr>
        <p:spPr>
          <a:xfrm rot="5400000">
            <a:off x="3785760" y="887040"/>
            <a:ext cx="2327400" cy="23274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燕尾形 11"/>
          <p:cNvSpPr/>
          <p:nvPr/>
        </p:nvSpPr>
        <p:spPr>
          <a:xfrm>
            <a:off x="2428920" y="2244600"/>
            <a:ext cx="2327400" cy="23274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燕尾形 12"/>
          <p:cNvSpPr/>
          <p:nvPr/>
        </p:nvSpPr>
        <p:spPr>
          <a:xfrm flipH="1" flipV="1" rot="5400000">
            <a:off x="3785040" y="3601800"/>
            <a:ext cx="2327040" cy="2327400"/>
          </a:xfrm>
          <a:custGeom>
            <a:avLst/>
            <a:gdLst>
              <a:gd name="textAreaLeft" fmla="*/ 360 w 2327040"/>
              <a:gd name="textAreaRight" fmla="*/ 2327760 w 2327040"/>
              <a:gd name="textAreaTop" fmla="*/ -360 h 2327400"/>
              <a:gd name="textAreaBottom" fmla="*/ 232740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13"/>
          <p:cNvSpPr/>
          <p:nvPr/>
        </p:nvSpPr>
        <p:spPr>
          <a:xfrm flipH="1">
            <a:off x="5143680" y="2244600"/>
            <a:ext cx="2327040" cy="2327400"/>
          </a:xfrm>
          <a:custGeom>
            <a:avLst/>
            <a:gdLst>
              <a:gd name="textAreaLeft" fmla="*/ 360 w 2327040"/>
              <a:gd name="textAreaRight" fmla="*/ 2327760 w 232704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4426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6783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442656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5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闪电形 11"/>
          <p:cNvSpPr/>
          <p:nvPr/>
        </p:nvSpPr>
        <p:spPr>
          <a:xfrm rot="674400">
            <a:off x="3161880" y="831600"/>
            <a:ext cx="2149560" cy="21492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闪电形 12"/>
          <p:cNvSpPr/>
          <p:nvPr/>
        </p:nvSpPr>
        <p:spPr>
          <a:xfrm rot="19249800">
            <a:off x="2509560" y="1983960"/>
            <a:ext cx="2149560" cy="214956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闪电形 13"/>
          <p:cNvSpPr/>
          <p:nvPr/>
        </p:nvSpPr>
        <p:spPr>
          <a:xfrm rot="16770000">
            <a:off x="2752200" y="3026520"/>
            <a:ext cx="2149560" cy="214956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闪电形 14"/>
          <p:cNvSpPr/>
          <p:nvPr/>
        </p:nvSpPr>
        <p:spPr>
          <a:xfrm rot="13190400">
            <a:off x="4158720" y="3620880"/>
            <a:ext cx="2149560" cy="214920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闪电形 15"/>
          <p:cNvSpPr/>
          <p:nvPr/>
        </p:nvSpPr>
        <p:spPr>
          <a:xfrm rot="8665800">
            <a:off x="5568120" y="2354400"/>
            <a:ext cx="2149560" cy="21492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闪电形 16"/>
          <p:cNvSpPr/>
          <p:nvPr/>
        </p:nvSpPr>
        <p:spPr>
          <a:xfrm rot="4836600">
            <a:off x="4874760" y="874440"/>
            <a:ext cx="2151000" cy="215100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640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649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47836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283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59266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36406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斜纹 10"/>
          <p:cNvSpPr/>
          <p:nvPr/>
        </p:nvSpPr>
        <p:spPr>
          <a:xfrm>
            <a:off x="3000240" y="1500120"/>
            <a:ext cx="1857600" cy="1857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斜纹 11"/>
          <p:cNvSpPr/>
          <p:nvPr/>
        </p:nvSpPr>
        <p:spPr>
          <a:xfrm flipH="1" flipV="1">
            <a:off x="4857120" y="3357000"/>
            <a:ext cx="1857240" cy="1857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斜纹 12"/>
          <p:cNvSpPr/>
          <p:nvPr/>
        </p:nvSpPr>
        <p:spPr>
          <a:xfrm flipV="1">
            <a:off x="3000240" y="3357000"/>
            <a:ext cx="1857600" cy="18572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斜纹 13"/>
          <p:cNvSpPr/>
          <p:nvPr/>
        </p:nvSpPr>
        <p:spPr>
          <a:xfrm flipH="1">
            <a:off x="4857120" y="1500120"/>
            <a:ext cx="1857240" cy="1857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926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0696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5926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新月形 10"/>
          <p:cNvSpPr/>
          <p:nvPr/>
        </p:nvSpPr>
        <p:spPr>
          <a:xfrm>
            <a:off x="2571840" y="1143000"/>
            <a:ext cx="2143080" cy="42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新月形 11"/>
          <p:cNvSpPr/>
          <p:nvPr/>
        </p:nvSpPr>
        <p:spPr>
          <a:xfrm flipH="1">
            <a:off x="5142960" y="1143000"/>
            <a:ext cx="2143080" cy="42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4980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1997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虚尾箭头 10"/>
          <p:cNvSpPr/>
          <p:nvPr/>
        </p:nvSpPr>
        <p:spPr>
          <a:xfrm>
            <a:off x="1600200" y="2487600"/>
            <a:ext cx="1614600" cy="108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虚尾箭头 11"/>
          <p:cNvSpPr/>
          <p:nvPr/>
        </p:nvSpPr>
        <p:spPr>
          <a:xfrm>
            <a:off x="3214800" y="2428920"/>
            <a:ext cx="1614240" cy="1084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虚尾箭头 12"/>
          <p:cNvSpPr/>
          <p:nvPr/>
        </p:nvSpPr>
        <p:spPr>
          <a:xfrm>
            <a:off x="4857840" y="2428920"/>
            <a:ext cx="1614240" cy="108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虚尾箭头 13"/>
          <p:cNvSpPr/>
          <p:nvPr/>
        </p:nvSpPr>
        <p:spPr>
          <a:xfrm>
            <a:off x="6529320" y="2428920"/>
            <a:ext cx="1614600" cy="1084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5690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9980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283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13546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 形 10"/>
          <p:cNvSpPr/>
          <p:nvPr/>
        </p:nvSpPr>
        <p:spPr>
          <a:xfrm>
            <a:off x="3286080" y="3286080"/>
            <a:ext cx="1714680" cy="1714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 形 11"/>
          <p:cNvSpPr/>
          <p:nvPr/>
        </p:nvSpPr>
        <p:spPr>
          <a:xfrm flipH="1">
            <a:off x="5000760" y="3286080"/>
            <a:ext cx="1714320" cy="17146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 形 12"/>
          <p:cNvSpPr/>
          <p:nvPr/>
        </p:nvSpPr>
        <p:spPr>
          <a:xfrm flipH="1" flipV="1">
            <a:off x="5000760" y="1571760"/>
            <a:ext cx="1714320" cy="171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 形 13"/>
          <p:cNvSpPr/>
          <p:nvPr/>
        </p:nvSpPr>
        <p:spPr>
          <a:xfrm flipV="1">
            <a:off x="3286080" y="1571760"/>
            <a:ext cx="1714680" cy="1714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5712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6212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2854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流程图: 顺序访问存储器 10"/>
          <p:cNvSpPr/>
          <p:nvPr/>
        </p:nvSpPr>
        <p:spPr>
          <a:xfrm>
            <a:off x="2800440" y="1143000"/>
            <a:ext cx="22572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顺序访问存储器 11"/>
          <p:cNvSpPr/>
          <p:nvPr/>
        </p:nvSpPr>
        <p:spPr>
          <a:xfrm flipV="1">
            <a:off x="2786040" y="3384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流程图: 顺序访问存储器 12"/>
          <p:cNvSpPr/>
          <p:nvPr/>
        </p:nvSpPr>
        <p:spPr>
          <a:xfrm flipH="1" flipV="1">
            <a:off x="5027040" y="3384000"/>
            <a:ext cx="22590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顺序访问存储器 13"/>
          <p:cNvSpPr/>
          <p:nvPr/>
        </p:nvSpPr>
        <p:spPr>
          <a:xfrm flipH="1">
            <a:off x="5027040" y="1143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3283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3354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38:29Z</dcterms:modified>
  <cp:revision>2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