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25F7C-675D-4BA9-ADB9-052F3E1AE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B82DA-7EA7-4A14-BA68-F982A3167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90035-7B38-4F6D-AABC-D6DA8C715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6D078-EC18-43DC-AF3C-87015F4F5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B5F97-4AE6-4FC7-8A56-61C383C84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98FF7-1257-4B12-8C13-833DE3097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89E94-E99D-4962-AF9B-02BAC6111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28B82-FCE2-45A9-9E04-475B433FC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A1198-3E0F-4222-9421-2F0A64F25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9EDD7-1791-4C95-BFA0-37A2F965C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E397-C68E-4518-AFEF-3E7296E20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3DEEB-96B6-44A2-94D3-DF8E2C479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968F-6E23-4D6F-A68F-7DA587B55F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691920"/>
            <a:ext cx="7772400" cy="93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玫瑰花瓣通用</a:t>
            </a:r>
            <a:r>
              <a:rPr b="1" lang="en-US" sz="4000" spc="-1" strike="noStrike">
                <a:solidFill>
                  <a:srgbClr val="ffffff"/>
                </a:solidFill>
                <a:latin typeface="Arial"/>
              </a:rPr>
              <a:t>PPT</a:t>
            </a:r>
            <a:r>
              <a:rPr b="1" lang="zh-CN" sz="4000" spc="-1" strike="noStrike">
                <a:solidFill>
                  <a:srgbClr val="ffffff"/>
                </a:solidFill>
                <a:latin typeface="Arial"/>
              </a:rPr>
              <a:t>模板免费下载</a:t>
            </a:r>
            <a:endParaRPr b="0" lang="en-US" sz="4000" spc="-1" strike="noStrike">
              <a:solidFill>
                <a:srgbClr val="000000"/>
              </a:solidFill>
              <a:latin typeface="Arial"/>
            </a:endParaRPr>
          </a:p>
        </p:txBody>
      </p:sp>
      <p:sp>
        <p:nvSpPr>
          <p:cNvPr id="42"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826920" y="2060640"/>
            <a:ext cx="7428240" cy="47815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331640" y="1916280"/>
            <a:ext cx="7427880" cy="47815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68000" y="836640"/>
            <a:ext cx="7427880" cy="4781520"/>
          </a:xfrm>
          <a:prstGeom prst="rect">
            <a:avLst/>
          </a:prstGeom>
          <a:noFill/>
          <a:ln w="0">
            <a:noFill/>
          </a:ln>
        </p:spPr>
        <p:txBody>
          <a:bodyPr anchor="t">
            <a:normAutofit/>
          </a:bodyPr>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26:21Z</dcterms:created>
  <dc:creator>FiSh</dc:creator>
  <dc:description/>
  <dc:language>en-US</dc:language>
  <cp:lastModifiedBy>王玉清</cp:lastModifiedBy>
  <dcterms:modified xsi:type="dcterms:W3CDTF">2016-02-20T04:39:33Z</dcterms:modified>
  <cp:revision>7</cp:revision>
  <dc:subject/>
  <dc:title>Name of presentation</dc:title>
</cp:coreProperties>
</file>