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913F-D5A1-44FC-A1DB-B845A1F0B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D793-6A74-4523-A0AF-9287A8904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900C-5487-47FC-B8F1-D72630E8C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B13E-AD15-4A74-A53A-5290BF2FC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5DF3B-A9F0-4657-AAD2-4BBDEB3DC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D2403-2182-4B20-A7A0-0641EE64F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C8353-9676-4B68-ACB3-3B7DE108A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4FCB5-4E72-4988-89BC-CD0E475DD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52FA8-C982-46DC-9DB8-936A233A1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560A4-D7C0-4BF3-9760-DE192B5EA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3CE86-1F0B-4603-B126-56B786820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0600-7B7A-470A-8EDB-43B30E720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EE350-9A4A-4DAD-BD06-62DD89BA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B6F97-08DB-4BF9-B8B7-EB08279E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00DC7-E98F-46DB-A74D-2598AF0C8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8CCA2-0467-45D8-BC61-0C7DF7A3B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29C7E-6383-4DAC-9BDB-77C463286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F5D1-0281-4DD5-A7B6-E5A8CAF8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A0A0-128E-4214-AE25-8245F2732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6D29-6D9E-43E2-A913-AECBC2333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F709-A4B9-4C00-9AEC-810383184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8F8D-4F05-46BE-B40F-C703E851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145C-AA91-4535-B04F-23301A5A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AA2E-D077-4E3E-BE01-0E56006D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26AF1-F49C-4C1E-9012-30BEB26F28C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3240"/>
            <a:ext cx="28958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A51B0-6690-47DE-919C-B08433B92E3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1924200"/>
            <a:ext cx="77724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综艺简体"/>
                <a:ea typeface="方正综艺简体"/>
              </a:rPr>
              <a:t>梅花宽频通用</a:t>
            </a:r>
            <a:r>
              <a:rPr b="0" lang="en-US" sz="4000" spc="-1" strike="noStrike">
                <a:solidFill>
                  <a:srgbClr val="000000"/>
                </a:solidFill>
                <a:latin typeface="方正综艺简体"/>
                <a:ea typeface="方正综艺简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方正综艺简体"/>
                <a:ea typeface="方正综艺简体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矩形 3"/>
          <p:cNvSpPr/>
          <p:nvPr/>
        </p:nvSpPr>
        <p:spPr>
          <a:xfrm>
            <a:off x="5940360" y="17640"/>
            <a:ext cx="107964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ziliao/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fanwen/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314280" y="46594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823634"/>
                </a:solidFill>
                <a:latin typeface="Calibri"/>
              </a:rPr>
              <a:t>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8236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23634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8236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23634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823634"/>
                </a:solidFill>
                <a:latin typeface="Calibri"/>
              </a:rPr>
              <a:t>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8236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23634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8236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23634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823634"/>
                </a:solidFill>
                <a:latin typeface="Calibri"/>
              </a:rPr>
              <a:t>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8236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23634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8236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23634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3059280"/>
            <a:ext cx="9144000" cy="2085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5a0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396720" y="106056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b2b2b2"/>
                </a:solidFill>
                <a:latin typeface="Arial"/>
                <a:ea typeface="微软雅黑"/>
              </a:rPr>
              <a:t>谢谢观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-219600" y="397656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5a0c5"/>
                </a:solidFill>
                <a:latin typeface="Mistral"/>
                <a:ea typeface="宋体"/>
              </a:rPr>
              <a:t>Make Presentation much more f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12:44:23Z</dcterms:created>
  <dc:creator>Admin</dc:creator>
  <dc:description/>
  <dc:language>en-US</dc:language>
  <cp:lastModifiedBy>王玉清</cp:lastModifiedBy>
  <cp:lastPrinted>1899-12-30T00:00:00Z</cp:lastPrinted>
  <dcterms:modified xsi:type="dcterms:W3CDTF">2016-02-21T03:49:36Z</dcterms:modified>
  <cp:revision>7</cp:revision>
  <dc:subject/>
  <dc:title>PRESENTATION  NA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