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281480" y="0"/>
            <a:ext cx="32767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4480" y="1336320"/>
            <a:ext cx="4809960" cy="360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55280" y="5145120"/>
            <a:ext cx="604836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5240"/>
            <a:ext cx="32767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1480" y="10155240"/>
            <a:ext cx="32767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9958B-ECEA-4235-A6B8-82467C6688A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374840" y="1336680"/>
            <a:ext cx="4809960" cy="36082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755280" y="5145120"/>
            <a:ext cx="6048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灯片编号占位符 3"/>
          <p:cNvSpPr/>
          <p:nvPr/>
        </p:nvSpPr>
        <p:spPr>
          <a:xfrm>
            <a:off x="4281480" y="10155240"/>
            <a:ext cx="32767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F4C41-3DC4-43C9-B8B5-DD429748B99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A7BC-B7AB-41F2-B060-DEA4A7635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A282-CF8C-432B-A6CB-180FD7195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A280-761D-46D5-9068-5E230C37F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0DE6-B2BE-4CA9-994D-58174B64C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523C-30B1-47E0-A018-D095B4973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ABE1-53F5-43B0-99A1-BE3F63EDD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0E2A-FDFC-47D4-AFF1-B2FE5DC79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3CB0-AF81-4C88-9903-7201CFFFE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EBA0-0816-4340-AF67-85AD5D289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4499-974D-42FA-9F4A-0AC2827A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C76D-E83A-4D80-85AD-40B2E37B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4263-BD44-47E7-999F-2CF02F9B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6B49C-ED90-4115-9C25-23E4A81E73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4066560" y="4299120"/>
            <a:ext cx="436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丽七彩玫瑰通用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5933520" y="500688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适用于七彩颜色及相关类别演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895040" y="2060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967400" y="3068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203868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2038680" y="5013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2432160" y="3357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4087800" y="1917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6248520" y="2924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5888160" y="5300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3512520" y="5445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1391040" y="3933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7223400" y="3933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5279760" y="39276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3263760" y="3933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3656160" y="2276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1640160" y="2276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5528520" y="2276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7544880" y="2205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11:53:25Z</dcterms:created>
  <dc:creator>Administrator</dc:creator>
  <dc:description/>
  <dc:language>en-US</dc:language>
  <cp:lastModifiedBy>王玉清</cp:lastModifiedBy>
  <cp:lastPrinted>1899-12-30T00:00:00Z</cp:lastPrinted>
  <dcterms:modified xsi:type="dcterms:W3CDTF">2016-02-20T03:38:05Z</dcterms:modified>
  <cp:revision>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249</vt:lpwstr>
  </property>
</Properties>
</file>