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A1D-16D4-439B-87C2-6F13FAB6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E46-B19B-4419-820F-5950D38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DD3-1767-4836-BBC0-712F461E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0EF-0F51-443D-93A4-0F00E13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BB2-C8BD-4F77-A2BC-05E20FEB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18E1-86EE-4A92-A163-78A0B178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094E-BB59-4860-8D17-AFBDC43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727-9070-4DB8-B45B-B5BEA779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237F-E71E-490A-991A-BCDEB9B3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4274-F508-43B4-ACD1-80AC5EDC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30A-F94A-4920-8B81-0AAB7646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3CC-E3E1-4BCA-BCE4-09ECE623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E182-771B-4A7E-B3A1-197F202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AF7-8A82-466D-9277-90428D9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642-6F78-4296-9E86-F5B03E0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BAC3-EA72-443B-BC7F-248A2CA4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B9BF-5BAD-4A6E-A541-0C3FBA2B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8FC-FE67-4A82-819C-F9A0663D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4B4-0C93-467D-8A78-3EB60A4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E97-8DDE-4AFB-AFB4-C35B3C1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A54-06CE-4825-82DD-5FD86DE4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584-A569-4DBA-A688-9A4EC5A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3C4-7E66-4640-A930-F27ADA3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4D1-B61C-4538-A288-CA630B3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C92-D5BD-452A-BB16-0C60D5C986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5EB9-76CD-432F-971D-133740177D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摩天大厦商务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>ppt宝藏</dc:creator>
  <dc:description/>
  <dc:language>en-US</dc:language>
  <cp:lastModifiedBy>a</cp:lastModifiedBy>
  <cp:lastPrinted>1899-12-30T00:00:00Z</cp:lastPrinted>
  <dcterms:modified xsi:type="dcterms:W3CDTF">2015-07-25T06:08:40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_TemplateID">
    <vt:lpwstr>TC011408322052</vt:lpwstr>
  </property>
</Properties>
</file>