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C456-3444-48DF-8E00-0828F0AD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9075-057A-4ABE-A058-5DCEC5E1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5460-0C68-44E6-9E42-9D36C555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3E98-EFB7-43B3-A2F7-9E3CB076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676C-FDC7-4AC3-A69D-B96A1BA0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430E-91B5-4BBD-B4C5-3B6B1948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DA62-AB2F-4844-8D37-4056D296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3A3A-15BA-4D34-9A04-2371697F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0CA8-55F0-4060-A79E-B92A3EF7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8479-D022-41FA-B540-90F1B3FD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3FFC-DD0F-4C5B-8582-AA4A48C2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7CCD-344A-4CB7-B2A9-7A2157D1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0E49-3AB1-4FF1-9EE8-81D8B9F4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164F-FB97-49C2-8DEB-08881421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5B57-F901-4B24-A6E3-A1A0A302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73FC-BED6-4FB5-8E61-B8C400DA2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BBDE-A1AD-49A9-8560-564D406B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349B-876F-4FCF-9130-73BFD603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A4CA-B12D-4EEA-A7B2-7A8922E5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44D-0D8E-4E4B-8E9A-24ADEE0E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5B11-9F8C-422B-B590-6EFE04D4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DAA1-2817-42C9-A655-E6E11140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443D-574F-4A5B-AADA-C183C2AA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404E-3EEB-4C23-86C4-D6AEE5CE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9666-D223-44D3-9A08-C64925315CC0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28880" y="6350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D7FD-803E-428D-8DE3-712D5A95C1B5}" type="slidenum">
              <a:rPr b="0" i="1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2113920" y="472428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攀登巅峰通用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6"/>
          <p:cNvSpPr/>
          <p:nvPr/>
        </p:nvSpPr>
        <p:spPr>
          <a:xfrm>
            <a:off x="324000" y="62373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7T03:15:00Z</dcterms:created>
  <dc:creator>www.pptbz.com</dc:creator>
  <dc:description/>
  <cp:keywords>lxym148</cp:keywords>
  <dc:language>en-US</dc:language>
  <cp:lastModifiedBy>王玉清</cp:lastModifiedBy>
  <dcterms:modified xsi:type="dcterms:W3CDTF">2016-03-06T03:35:49Z</dcterms:modified>
  <cp:revision>11</cp:revision>
  <dc:subject>lxym148</dc:subject>
  <dc:title>RESU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