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58B4-5C6B-4C5A-A6A6-0E5BBDBA8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4984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FAFD-C191-4B3C-A735-4F7EBEF58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4984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21DC-6D4B-4A81-B719-02F108A10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4984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A782-82AB-477B-B187-F06BD1142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FA39D-7F51-4092-B0C0-5D6562E23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4984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CE559-61F1-4B3E-A715-A5E5464D9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4984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254B4-8165-41B1-95EC-D771BDB00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4984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9D94A-FAF1-445A-9D36-935DBBF85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4984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C04AC-4FAC-4FCC-AAF2-7D5BE226D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80773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43AB4-05A4-4702-BC09-1E5420DE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4984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46D02-742F-4B19-AAD6-E2C3ACF4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4984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209B-2DE0-4E46-AD0C-A282410A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4984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23BF4-8713-4CF1-961C-0A6DE871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4984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9B687-2DD1-4340-B255-2DC519D7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4984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EB094-7D85-4689-B0DA-EA9935BFE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4984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40C2D-2595-4BBB-9C58-C97979262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4984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86D62-F11A-48AA-BAC7-5BE04DB8A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4984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7E7C-93AD-4383-BB05-F34B618C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4984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7F9F-07C1-486A-AA4B-19A2BD069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4984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2B16-36C7-4E9F-ACE9-2DAD7DE57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80773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7B3E-7494-455D-A43C-AE997CBD3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4984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2347-D0B0-448E-81AD-52E707D7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4984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1E42-70EC-4752-B252-DD0CA541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4984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5364-27B1-4FE2-8CB7-B95C065F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3c27"/>
            </a:gs>
            <a:gs pos="100000">
              <a:srgbClr val="24926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5"/>
          <p:cNvSpPr/>
          <p:nvPr/>
        </p:nvSpPr>
        <p:spPr>
          <a:xfrm>
            <a:off x="228600" y="0"/>
            <a:ext cx="8686800" cy="914400"/>
          </a:xfrm>
          <a:prstGeom prst="roundRect">
            <a:avLst>
              <a:gd name="adj" fmla="val 48787"/>
            </a:avLst>
          </a:prstGeom>
          <a:gradFill rotWithShape="0">
            <a:gsLst>
              <a:gs pos="0">
                <a:srgbClr val="8dda62">
                  <a:alpha val="0"/>
                </a:srgbClr>
              </a:gs>
              <a:gs pos="100000">
                <a:srgbClr val="9bd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533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C9670-FD57-4636-BF18-E837C830F209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Picture 19" descr="232_a"/>
          <p:cNvPicPr/>
          <p:nvPr/>
        </p:nvPicPr>
        <p:blipFill>
          <a:blip r:embed="rId2"/>
          <a:stretch/>
        </p:blipFill>
        <p:spPr>
          <a:xfrm>
            <a:off x="5378400" y="990720"/>
            <a:ext cx="3765600" cy="5867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3c27"/>
            </a:gs>
            <a:gs pos="100000">
              <a:srgbClr val="2492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41"/>
          <p:cNvSpPr/>
          <p:nvPr/>
        </p:nvSpPr>
        <p:spPr>
          <a:xfrm>
            <a:off x="228600" y="1600200"/>
            <a:ext cx="8610480" cy="990720"/>
          </a:xfrm>
          <a:prstGeom prst="roundRect">
            <a:avLst>
              <a:gd name="adj" fmla="val 48787"/>
            </a:avLst>
          </a:prstGeom>
          <a:gradFill rotWithShape="0">
            <a:gsLst>
              <a:gs pos="0">
                <a:srgbClr val="c8edb4">
                  <a:alpha val="0"/>
                </a:srgbClr>
              </a:gs>
              <a:gs pos="100000">
                <a:srgbClr val="8dda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14"/>
          <p:cNvSpPr/>
          <p:nvPr/>
        </p:nvSpPr>
        <p:spPr>
          <a:xfrm>
            <a:off x="4039200" y="5667480"/>
            <a:ext cx="1155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ompan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LOG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40" descr="232_a"/>
          <p:cNvPicPr/>
          <p:nvPr/>
        </p:nvPicPr>
        <p:blipFill>
          <a:blip r:embed="rId2"/>
          <a:stretch/>
        </p:blipFill>
        <p:spPr>
          <a:xfrm>
            <a:off x="4743360" y="0"/>
            <a:ext cx="440064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533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552720"/>
            <a:ext cx="213372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552720"/>
            <a:ext cx="289584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552720"/>
            <a:ext cx="213372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D4E31-BDE0-44EC-B621-37E7F011AE1F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57880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漂亮绿色科幻线条通用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i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下载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4419360"/>
            <a:ext cx="8061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矩形 12"/>
          <p:cNvSpPr/>
          <p:nvPr/>
        </p:nvSpPr>
        <p:spPr>
          <a:xfrm>
            <a:off x="179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533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Group 31"/>
          <p:cNvGrpSpPr/>
          <p:nvPr/>
        </p:nvGrpSpPr>
        <p:grpSpPr>
          <a:xfrm>
            <a:off x="1828800" y="1752480"/>
            <a:ext cx="5410080" cy="665280"/>
            <a:chOff x="1828800" y="1752480"/>
            <a:chExt cx="5410080" cy="665280"/>
          </a:xfrm>
        </p:grpSpPr>
        <p:grpSp>
          <p:nvGrpSpPr>
            <p:cNvPr id="92" name="Group 3"/>
            <p:cNvGrpSpPr/>
            <p:nvPr/>
          </p:nvGrpSpPr>
          <p:grpSpPr>
            <a:xfrm>
              <a:off x="1828800" y="1752480"/>
              <a:ext cx="762120" cy="665280"/>
              <a:chOff x="1828800" y="1752480"/>
              <a:chExt cx="762120" cy="665280"/>
            </a:xfrm>
          </p:grpSpPr>
          <p:sp>
            <p:nvSpPr>
              <p:cNvPr id="93" name="AutoShape 4"/>
              <p:cNvSpPr/>
              <p:nvPr/>
            </p:nvSpPr>
            <p:spPr>
              <a:xfrm>
                <a:off x="1834920" y="17636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AutoShape 5"/>
              <p:cNvSpPr/>
              <p:nvPr/>
            </p:nvSpPr>
            <p:spPr>
              <a:xfrm>
                <a:off x="1828800" y="17524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AutoShape 6"/>
              <p:cNvSpPr/>
              <p:nvPr/>
            </p:nvSpPr>
            <p:spPr>
              <a:xfrm>
                <a:off x="1873080" y="1792080"/>
                <a:ext cx="663840" cy="574920"/>
              </a:xfrm>
              <a:prstGeom prst="hexagon">
                <a:avLst>
                  <a:gd name="adj" fmla="val 28861"/>
                  <a:gd name="vf" fmla="val 115470"/>
                </a:avLst>
              </a:prstGeom>
              <a:gradFill rotWithShape="0">
                <a:gsLst>
                  <a:gs pos="0">
                    <a:srgbClr val="41652d"/>
                  </a:gs>
                  <a:gs pos="100000">
                    <a:srgbClr val="8dda62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Line 11"/>
            <p:cNvSpPr/>
            <p:nvPr/>
          </p:nvSpPr>
          <p:spPr>
            <a:xfrm>
              <a:off x="2438280" y="236232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Text Box 12"/>
            <p:cNvSpPr/>
            <p:nvPr/>
          </p:nvSpPr>
          <p:spPr>
            <a:xfrm>
              <a:off x="2666880" y="182880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Text Box 13"/>
            <p:cNvSpPr/>
            <p:nvPr/>
          </p:nvSpPr>
          <p:spPr>
            <a:xfrm>
              <a:off x="2027520" y="1851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9" name="Group 32"/>
          <p:cNvGrpSpPr/>
          <p:nvPr/>
        </p:nvGrpSpPr>
        <p:grpSpPr>
          <a:xfrm>
            <a:off x="1828800" y="2666880"/>
            <a:ext cx="5410080" cy="665280"/>
            <a:chOff x="1828800" y="2666880"/>
            <a:chExt cx="5410080" cy="665280"/>
          </a:xfrm>
        </p:grpSpPr>
        <p:grpSp>
          <p:nvGrpSpPr>
            <p:cNvPr id="100" name="Group 7"/>
            <p:cNvGrpSpPr/>
            <p:nvPr/>
          </p:nvGrpSpPr>
          <p:grpSpPr>
            <a:xfrm>
              <a:off x="1828800" y="2666880"/>
              <a:ext cx="761760" cy="665280"/>
              <a:chOff x="1828800" y="2666880"/>
              <a:chExt cx="761760" cy="665280"/>
            </a:xfrm>
          </p:grpSpPr>
          <p:sp>
            <p:nvSpPr>
              <p:cNvPr id="101" name="AutoShape 8"/>
              <p:cNvSpPr/>
              <p:nvPr/>
            </p:nvSpPr>
            <p:spPr>
              <a:xfrm>
                <a:off x="1834920" y="2678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AutoShape 9"/>
              <p:cNvSpPr/>
              <p:nvPr/>
            </p:nvSpPr>
            <p:spPr>
              <a:xfrm>
                <a:off x="1828800" y="26668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AutoShape 10"/>
              <p:cNvSpPr/>
              <p:nvPr/>
            </p:nvSpPr>
            <p:spPr>
              <a:xfrm>
                <a:off x="1873080" y="2706480"/>
                <a:ext cx="663840" cy="574920"/>
              </a:xfrm>
              <a:prstGeom prst="hexagon">
                <a:avLst>
                  <a:gd name="adj" fmla="val 28861"/>
                  <a:gd name="vf" fmla="val 115470"/>
                </a:avLst>
              </a:prstGeom>
              <a:gradFill rotWithShape="0">
                <a:gsLst>
                  <a:gs pos="0">
                    <a:srgbClr val="6a4016"/>
                  </a:gs>
                  <a:gs pos="100000">
                    <a:srgbClr val="e68b30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4" name="Line 14"/>
            <p:cNvSpPr/>
            <p:nvPr/>
          </p:nvSpPr>
          <p:spPr>
            <a:xfrm>
              <a:off x="2438280" y="327672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Text Box 15"/>
            <p:cNvSpPr/>
            <p:nvPr/>
          </p:nvSpPr>
          <p:spPr>
            <a:xfrm>
              <a:off x="2666880" y="274320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Text Box 16"/>
            <p:cNvSpPr/>
            <p:nvPr/>
          </p:nvSpPr>
          <p:spPr>
            <a:xfrm>
              <a:off x="2027520" y="2765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" name="Group 33"/>
          <p:cNvGrpSpPr/>
          <p:nvPr/>
        </p:nvGrpSpPr>
        <p:grpSpPr>
          <a:xfrm>
            <a:off x="1828800" y="3559320"/>
            <a:ext cx="5410080" cy="664920"/>
            <a:chOff x="1828800" y="3559320"/>
            <a:chExt cx="5410080" cy="664920"/>
          </a:xfrm>
        </p:grpSpPr>
        <p:grpSp>
          <p:nvGrpSpPr>
            <p:cNvPr id="108" name="Group 17"/>
            <p:cNvGrpSpPr/>
            <p:nvPr/>
          </p:nvGrpSpPr>
          <p:grpSpPr>
            <a:xfrm>
              <a:off x="1828800" y="3559320"/>
              <a:ext cx="762120" cy="664920"/>
              <a:chOff x="1828800" y="3559320"/>
              <a:chExt cx="762120" cy="664920"/>
            </a:xfrm>
          </p:grpSpPr>
          <p:sp>
            <p:nvSpPr>
              <p:cNvPr id="109" name="AutoShape 18"/>
              <p:cNvSpPr/>
              <p:nvPr/>
            </p:nvSpPr>
            <p:spPr>
              <a:xfrm>
                <a:off x="1834920" y="3570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AutoShape 19"/>
              <p:cNvSpPr/>
              <p:nvPr/>
            </p:nvSpPr>
            <p:spPr>
              <a:xfrm>
                <a:off x="1828800" y="35593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AutoShape 20"/>
              <p:cNvSpPr/>
              <p:nvPr/>
            </p:nvSpPr>
            <p:spPr>
              <a:xfrm>
                <a:off x="1873080" y="35989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1652d"/>
                  </a:gs>
                  <a:gs pos="100000">
                    <a:srgbClr val="8dda62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2" name="Line 25"/>
            <p:cNvSpPr/>
            <p:nvPr/>
          </p:nvSpPr>
          <p:spPr>
            <a:xfrm>
              <a:off x="2438280" y="416880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Text Box 26"/>
            <p:cNvSpPr/>
            <p:nvPr/>
          </p:nvSpPr>
          <p:spPr>
            <a:xfrm>
              <a:off x="2666880" y="363528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Text Box 27"/>
            <p:cNvSpPr/>
            <p:nvPr/>
          </p:nvSpPr>
          <p:spPr>
            <a:xfrm>
              <a:off x="2027520" y="3657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" name="Group 34"/>
          <p:cNvGrpSpPr/>
          <p:nvPr/>
        </p:nvGrpSpPr>
        <p:grpSpPr>
          <a:xfrm>
            <a:off x="1828800" y="4473720"/>
            <a:ext cx="5410080" cy="664920"/>
            <a:chOff x="1828800" y="4473720"/>
            <a:chExt cx="5410080" cy="664920"/>
          </a:xfrm>
        </p:grpSpPr>
        <p:grpSp>
          <p:nvGrpSpPr>
            <p:cNvPr id="116" name="Group 21"/>
            <p:cNvGrpSpPr/>
            <p:nvPr/>
          </p:nvGrpSpPr>
          <p:grpSpPr>
            <a:xfrm>
              <a:off x="1828800" y="4473720"/>
              <a:ext cx="761760" cy="664920"/>
              <a:chOff x="1828800" y="4473720"/>
              <a:chExt cx="761760" cy="664920"/>
            </a:xfrm>
          </p:grpSpPr>
          <p:sp>
            <p:nvSpPr>
              <p:cNvPr id="117" name="AutoShape 22"/>
              <p:cNvSpPr/>
              <p:nvPr/>
            </p:nvSpPr>
            <p:spPr>
              <a:xfrm>
                <a:off x="1834920" y="4484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AutoShape 23"/>
              <p:cNvSpPr/>
              <p:nvPr/>
            </p:nvSpPr>
            <p:spPr>
              <a:xfrm>
                <a:off x="1828800" y="44737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AutoShape 24"/>
              <p:cNvSpPr/>
              <p:nvPr/>
            </p:nvSpPr>
            <p:spPr>
              <a:xfrm>
                <a:off x="1873080" y="451332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6a4016"/>
                  </a:gs>
                  <a:gs pos="100000">
                    <a:srgbClr val="e68b30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0" name="Line 28"/>
            <p:cNvSpPr/>
            <p:nvPr/>
          </p:nvSpPr>
          <p:spPr>
            <a:xfrm>
              <a:off x="2438280" y="5083200"/>
              <a:ext cx="480060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Text Box 29"/>
            <p:cNvSpPr/>
            <p:nvPr/>
          </p:nvSpPr>
          <p:spPr>
            <a:xfrm>
              <a:off x="2666880" y="454968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Text Box 30"/>
            <p:cNvSpPr/>
            <p:nvPr/>
          </p:nvSpPr>
          <p:spPr>
            <a:xfrm>
              <a:off x="2027520" y="4572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533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Group 3"/>
          <p:cNvGrpSpPr/>
          <p:nvPr/>
        </p:nvGrpSpPr>
        <p:grpSpPr>
          <a:xfrm>
            <a:off x="1676520" y="1749600"/>
            <a:ext cx="5867280" cy="1301400"/>
            <a:chOff x="1676520" y="1749600"/>
            <a:chExt cx="5867280" cy="1301400"/>
          </a:xfrm>
        </p:grpSpPr>
        <p:sp>
          <p:nvSpPr>
            <p:cNvPr id="125" name="AutoShape 4"/>
            <p:cNvSpPr/>
            <p:nvPr/>
          </p:nvSpPr>
          <p:spPr>
            <a:xfrm>
              <a:off x="1676520" y="1749600"/>
              <a:ext cx="5867280" cy="130140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6" name="Group 5"/>
            <p:cNvGrpSpPr/>
            <p:nvPr/>
          </p:nvGrpSpPr>
          <p:grpSpPr>
            <a:xfrm>
              <a:off x="1804320" y="1869120"/>
              <a:ext cx="1131120" cy="1064520"/>
              <a:chOff x="1804320" y="1869120"/>
              <a:chExt cx="1131120" cy="1064520"/>
            </a:xfrm>
          </p:grpSpPr>
          <p:sp>
            <p:nvSpPr>
              <p:cNvPr id="127" name="AutoShape 6"/>
              <p:cNvSpPr/>
              <p:nvPr/>
            </p:nvSpPr>
            <p:spPr>
              <a:xfrm>
                <a:off x="1804320" y="186912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8dda62"/>
                  </a:gs>
                  <a:gs pos="100000">
                    <a:srgbClr val="629844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Freeform 7"/>
              <p:cNvSpPr/>
              <p:nvPr/>
            </p:nvSpPr>
            <p:spPr>
              <a:xfrm>
                <a:off x="1876320" y="1936080"/>
                <a:ext cx="564480" cy="53280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1eba9"/>
                  </a:gs>
                  <a:gs pos="50000">
                    <a:srgbClr val="8dda62">
                      <a:alpha val="0"/>
                    </a:srgbClr>
                  </a:gs>
                  <a:gs pos="100000">
                    <a:srgbClr val="c1eba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Text Box 8"/>
              <p:cNvSpPr/>
              <p:nvPr/>
            </p:nvSpPr>
            <p:spPr>
              <a:xfrm>
                <a:off x="1930680" y="2157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0" name="Text Box 9"/>
            <p:cNvSpPr/>
            <p:nvPr/>
          </p:nvSpPr>
          <p:spPr>
            <a:xfrm>
              <a:off x="3090240" y="19508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1" name="Group 10"/>
          <p:cNvGrpSpPr/>
          <p:nvPr/>
        </p:nvGrpSpPr>
        <p:grpSpPr>
          <a:xfrm>
            <a:off x="1676520" y="3279600"/>
            <a:ext cx="5867280" cy="1301760"/>
            <a:chOff x="1676520" y="3279600"/>
            <a:chExt cx="5867280" cy="1301760"/>
          </a:xfrm>
        </p:grpSpPr>
        <p:sp>
          <p:nvSpPr>
            <p:cNvPr id="132" name="AutoShape 11"/>
            <p:cNvSpPr/>
            <p:nvPr/>
          </p:nvSpPr>
          <p:spPr>
            <a:xfrm>
              <a:off x="1676520" y="327960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2f2f2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804320" y="3399120"/>
              <a:ext cx="1131120" cy="1064520"/>
              <a:chOff x="1804320" y="3399120"/>
              <a:chExt cx="1131120" cy="1064520"/>
            </a:xfrm>
          </p:grpSpPr>
          <p:sp>
            <p:nvSpPr>
              <p:cNvPr id="134" name="AutoShape 13"/>
              <p:cNvSpPr/>
              <p:nvPr/>
            </p:nvSpPr>
            <p:spPr>
              <a:xfrm>
                <a:off x="1804320" y="339912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6b8f2b"/>
                  </a:gs>
                  <a:gs pos="100000">
                    <a:srgbClr val="445b1b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876320" y="3466080"/>
                <a:ext cx="564480" cy="53280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d0a5"/>
                  </a:gs>
                  <a:gs pos="100000">
                    <a:srgbClr val="6b8f2b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Text Box 15"/>
              <p:cNvSpPr/>
              <p:nvPr/>
            </p:nvSpPr>
            <p:spPr>
              <a:xfrm>
                <a:off x="1930680" y="36889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7" name="Text Box 16"/>
            <p:cNvSpPr/>
            <p:nvPr/>
          </p:nvSpPr>
          <p:spPr>
            <a:xfrm>
              <a:off x="3090240" y="345780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8" name="Group 17"/>
          <p:cNvGrpSpPr/>
          <p:nvPr/>
        </p:nvGrpSpPr>
        <p:grpSpPr>
          <a:xfrm>
            <a:off x="1676520" y="4819680"/>
            <a:ext cx="5867280" cy="1301760"/>
            <a:chOff x="1676520" y="4819680"/>
            <a:chExt cx="5867280" cy="1301760"/>
          </a:xfrm>
        </p:grpSpPr>
        <p:sp>
          <p:nvSpPr>
            <p:cNvPr id="139" name="AutoShape 18"/>
            <p:cNvSpPr/>
            <p:nvPr/>
          </p:nvSpPr>
          <p:spPr>
            <a:xfrm>
              <a:off x="1676520" y="48196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0" name="Group 19"/>
            <p:cNvGrpSpPr/>
            <p:nvPr/>
          </p:nvGrpSpPr>
          <p:grpSpPr>
            <a:xfrm>
              <a:off x="1804320" y="4939200"/>
              <a:ext cx="1131120" cy="1064520"/>
              <a:chOff x="1804320" y="4939200"/>
              <a:chExt cx="1131120" cy="1064520"/>
            </a:xfrm>
          </p:grpSpPr>
          <p:sp>
            <p:nvSpPr>
              <p:cNvPr id="141" name="AutoShape 20"/>
              <p:cNvSpPr/>
              <p:nvPr/>
            </p:nvSpPr>
            <p:spPr>
              <a:xfrm>
                <a:off x="1804320" y="4939200"/>
                <a:ext cx="113112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3ba7e3"/>
                  </a:gs>
                  <a:gs pos="100000">
                    <a:srgbClr val="215e80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21"/>
              <p:cNvSpPr/>
              <p:nvPr/>
            </p:nvSpPr>
            <p:spPr>
              <a:xfrm>
                <a:off x="1876320" y="5006160"/>
                <a:ext cx="564480" cy="53280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0d4f1"/>
                  </a:gs>
                  <a:gs pos="100000">
                    <a:srgbClr val="3ba7e3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Text Box 22"/>
              <p:cNvSpPr/>
              <p:nvPr/>
            </p:nvSpPr>
            <p:spPr>
              <a:xfrm>
                <a:off x="1930680" y="522900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4" name="Text Box 23"/>
            <p:cNvSpPr/>
            <p:nvPr/>
          </p:nvSpPr>
          <p:spPr>
            <a:xfrm>
              <a:off x="3090240" y="499788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533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Table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85800" y="1849320"/>
          <a:ext cx="7620120" cy="3694320"/>
        </p:xfrm>
        <a:graphic>
          <a:graphicData uri="http://schemas.openxmlformats.org/drawingml/2006/table">
            <a:tbl>
              <a:tblPr/>
              <a:tblGrid>
                <a:gridCol w="1522440"/>
                <a:gridCol w="1219320"/>
                <a:gridCol w="1218960"/>
                <a:gridCol w="1219320"/>
                <a:gridCol w="1220760"/>
                <a:gridCol w="1219320"/>
              </a:tblGrid>
              <a:tr h="43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44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24214"/>
                        </a:gs>
                        <a:gs pos="50000">
                          <a:srgbClr val="6b8f2b"/>
                        </a:gs>
                        <a:gs pos="100000">
                          <a:srgbClr val="32421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4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24214"/>
                        </a:gs>
                        <a:gs pos="50000">
                          <a:srgbClr val="6b8f2b"/>
                        </a:gs>
                        <a:gs pos="100000">
                          <a:srgbClr val="32421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44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24214"/>
                        </a:gs>
                        <a:gs pos="50000">
                          <a:srgbClr val="6b8f2b"/>
                        </a:gs>
                        <a:gs pos="100000">
                          <a:srgbClr val="32421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4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24214"/>
                        </a:gs>
                        <a:gs pos="50000">
                          <a:srgbClr val="6b8f2b"/>
                        </a:gs>
                        <a:gs pos="100000">
                          <a:srgbClr val="32421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44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24214"/>
                        </a:gs>
                        <a:gs pos="50000">
                          <a:srgbClr val="6b8f2b"/>
                        </a:gs>
                        <a:gs pos="100000">
                          <a:srgbClr val="32421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4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24214"/>
                        </a:gs>
                        <a:gs pos="50000">
                          <a:srgbClr val="6b8f2b"/>
                        </a:gs>
                        <a:gs pos="100000">
                          <a:srgbClr val="32421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  <p:sp>
        <p:nvSpPr>
          <p:cNvPr id="147" name="Text Box 6"/>
          <p:cNvSpPr/>
          <p:nvPr/>
        </p:nvSpPr>
        <p:spPr>
          <a:xfrm>
            <a:off x="458640" y="6381720"/>
            <a:ext cx="582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模板打包下载</a:t>
            </a:r>
            <a:r>
              <a:rPr b="0" lang="zh-CN" sz="1600" spc="-1" strike="noStrike" u="sng">
                <a:solidFill>
                  <a:srgbClr val="6b8f2b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533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" name="Group 23"/>
          <p:cNvGrpSpPr/>
          <p:nvPr/>
        </p:nvGrpSpPr>
        <p:grpSpPr>
          <a:xfrm>
            <a:off x="1086120" y="1420200"/>
            <a:ext cx="6667920" cy="4675320"/>
            <a:chOff x="1086120" y="1420200"/>
            <a:chExt cx="6667920" cy="4675320"/>
          </a:xfrm>
        </p:grpSpPr>
        <p:sp>
          <p:nvSpPr>
            <p:cNvPr id="150" name="Oval 4"/>
            <p:cNvSpPr/>
            <p:nvPr/>
          </p:nvSpPr>
          <p:spPr>
            <a:xfrm rot="20601600">
              <a:off x="1397160" y="2317320"/>
              <a:ext cx="5762520" cy="301608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bdbe3"/>
                </a:gs>
                <a:gs pos="100000">
                  <a:srgbClr val="296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5"/>
            <p:cNvSpPr/>
            <p:nvPr/>
          </p:nvSpPr>
          <p:spPr>
            <a:xfrm rot="20601600">
              <a:off x="1454040" y="2155320"/>
              <a:ext cx="5562360" cy="2922480"/>
            </a:xfrm>
            <a:prstGeom prst="ellipse">
              <a:avLst/>
            </a:prstGeom>
            <a:gradFill rotWithShape="0">
              <a:gsLst>
                <a:gs pos="0">
                  <a:srgbClr val="208282"/>
                </a:gs>
                <a:gs pos="100000">
                  <a:srgbClr val="33cccc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Arc 6"/>
            <p:cNvSpPr/>
            <p:nvPr/>
          </p:nvSpPr>
          <p:spPr>
            <a:xfrm rot="20601600">
              <a:off x="4101840" y="2233080"/>
              <a:ext cx="2851200" cy="1538280"/>
            </a:xfrm>
            <a:custGeom>
              <a:avLst/>
              <a:gdLst/>
              <a:ahLst/>
              <a:rect l="l" t="t" r="r" b="b"/>
              <a:pathLst>
                <a:path fill="none" w="21600" h="22718">
                  <a:moveTo>
                    <a:pt x="16157" y="-1"/>
                  </a:moveTo>
                  <a:cubicBezTo>
                    <a:pt x="19663" y="3951"/>
                    <a:pt x="21600" y="9051"/>
                    <a:pt x="21600" y="14335"/>
                  </a:cubicBezTo>
                  <a:cubicBezTo>
                    <a:pt x="21600" y="17214"/>
                    <a:pt x="21024" y="20064"/>
                    <a:pt x="19906" y="22717"/>
                  </a:cubicBezTo>
                </a:path>
                <a:path stroke="0" w="21600" h="22718">
                  <a:moveTo>
                    <a:pt x="16157" y="-1"/>
                  </a:moveTo>
                  <a:cubicBezTo>
                    <a:pt x="19663" y="3951"/>
                    <a:pt x="21600" y="9051"/>
                    <a:pt x="21600" y="14335"/>
                  </a:cubicBezTo>
                  <a:cubicBezTo>
                    <a:pt x="21600" y="17214"/>
                    <a:pt x="21024" y="20064"/>
                    <a:pt x="19906" y="22717"/>
                  </a:cubicBezTo>
                  <a:lnTo>
                    <a:pt x="0" y="14335"/>
                  </a:lnTo>
                  <a:lnTo>
                    <a:pt x="16157" y="-1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Arc 7"/>
            <p:cNvSpPr/>
            <p:nvPr/>
          </p:nvSpPr>
          <p:spPr>
            <a:xfrm flipH="1" rot="20602200">
              <a:off x="1506960" y="3546000"/>
              <a:ext cx="2876760" cy="1630440"/>
            </a:xfrm>
            <a:custGeom>
              <a:avLst/>
              <a:gdLst/>
              <a:ahLst/>
              <a:rect l="l" t="t" r="r" b="b"/>
              <a:pathLst>
                <a:path fill="none" w="21600" h="24439">
                  <a:moveTo>
                    <a:pt x="20452" y="-1"/>
                  </a:moveTo>
                  <a:cubicBezTo>
                    <a:pt x="21212" y="2237"/>
                    <a:pt x="21600" y="4584"/>
                    <a:pt x="21600" y="6947"/>
                  </a:cubicBezTo>
                  <a:cubicBezTo>
                    <a:pt x="21600" y="13871"/>
                    <a:pt x="18280" y="20376"/>
                    <a:pt x="12672" y="24438"/>
                  </a:cubicBezTo>
                </a:path>
                <a:path stroke="0" w="21600" h="24439">
                  <a:moveTo>
                    <a:pt x="20452" y="-1"/>
                  </a:moveTo>
                  <a:cubicBezTo>
                    <a:pt x="21212" y="2237"/>
                    <a:pt x="21600" y="4584"/>
                    <a:pt x="21600" y="6947"/>
                  </a:cubicBezTo>
                  <a:cubicBezTo>
                    <a:pt x="21600" y="13871"/>
                    <a:pt x="18280" y="20376"/>
                    <a:pt x="12672" y="24438"/>
                  </a:cubicBezTo>
                  <a:lnTo>
                    <a:pt x="0" y="6947"/>
                  </a:lnTo>
                  <a:lnTo>
                    <a:pt x="20452" y="-1"/>
                  </a:lnTo>
                  <a:close/>
                </a:path>
              </a:pathLst>
            </a:custGeom>
            <a:gradFill rotWithShape="0">
              <a:gsLst>
                <a:gs pos="0">
                  <a:srgbClr val="abd9f2"/>
                </a:gs>
                <a:gs pos="100000">
                  <a:srgbClr val="47abe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Arc 8"/>
            <p:cNvSpPr/>
            <p:nvPr/>
          </p:nvSpPr>
          <p:spPr>
            <a:xfrm rot="20601600">
              <a:off x="3346560" y="1961640"/>
              <a:ext cx="2813040" cy="1417680"/>
            </a:xfrm>
            <a:custGeom>
              <a:avLst/>
              <a:gdLst/>
              <a:ahLst/>
              <a:rect l="l" t="t" r="r" b="b"/>
              <a:pathLst>
                <a:path fill="none" w="21397" h="21600">
                  <a:moveTo>
                    <a:pt x="0" y="549"/>
                  </a:moveTo>
                  <a:cubicBezTo>
                    <a:pt x="1587" y="184"/>
                    <a:pt x="3210" y="-1"/>
                    <a:pt x="4839" y="0"/>
                  </a:cubicBezTo>
                  <a:cubicBezTo>
                    <a:pt x="11230" y="0"/>
                    <a:pt x="17293" y="2830"/>
                    <a:pt x="21397" y="7729"/>
                  </a:cubicBezTo>
                </a:path>
                <a:path stroke="0" w="21397" h="21600">
                  <a:moveTo>
                    <a:pt x="0" y="549"/>
                  </a:moveTo>
                  <a:cubicBezTo>
                    <a:pt x="1587" y="184"/>
                    <a:pt x="3210" y="-1"/>
                    <a:pt x="4839" y="0"/>
                  </a:cubicBezTo>
                  <a:cubicBezTo>
                    <a:pt x="11230" y="0"/>
                    <a:pt x="17293" y="2830"/>
                    <a:pt x="21397" y="7729"/>
                  </a:cubicBezTo>
                  <a:lnTo>
                    <a:pt x="4839" y="21600"/>
                  </a:lnTo>
                  <a:lnTo>
                    <a:pt x="0" y="549"/>
                  </a:lnTo>
                  <a:close/>
                </a:path>
              </a:pathLst>
            </a:custGeom>
            <a:gradFill rotWithShape="0">
              <a:gsLst>
                <a:gs pos="0">
                  <a:srgbClr val="4f4a73"/>
                </a:gs>
                <a:gs pos="100000">
                  <a:srgbClr val="aaa0f8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Arc 9"/>
            <p:cNvSpPr/>
            <p:nvPr/>
          </p:nvSpPr>
          <p:spPr>
            <a:xfrm flipH="1" rot="20602200">
              <a:off x="1307880" y="2613960"/>
              <a:ext cx="2762280" cy="1380960"/>
            </a:xfrm>
            <a:custGeom>
              <a:avLst/>
              <a:gdLst/>
              <a:ahLst/>
              <a:rect l="l" t="t" r="r" b="b"/>
              <a:pathLst>
                <a:path fill="none" w="20934" h="21142">
                  <a:moveTo>
                    <a:pt x="4423" y="-1"/>
                  </a:moveTo>
                  <a:cubicBezTo>
                    <a:pt x="12495" y="1688"/>
                    <a:pt x="18902" y="7826"/>
                    <a:pt x="20934" y="15819"/>
                  </a:cubicBezTo>
                </a:path>
                <a:path stroke="0" w="20934" h="21142">
                  <a:moveTo>
                    <a:pt x="4423" y="-1"/>
                  </a:moveTo>
                  <a:cubicBezTo>
                    <a:pt x="12495" y="1688"/>
                    <a:pt x="18902" y="7826"/>
                    <a:pt x="20934" y="15819"/>
                  </a:cubicBezTo>
                  <a:lnTo>
                    <a:pt x="0" y="21142"/>
                  </a:lnTo>
                  <a:lnTo>
                    <a:pt x="4423" y="-1"/>
                  </a:lnTo>
                  <a:close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214f69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0"/>
            <p:cNvSpPr/>
            <p:nvPr/>
          </p:nvSpPr>
          <p:spPr>
            <a:xfrm rot="20601600">
              <a:off x="2914560" y="286956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Text Box 11"/>
            <p:cNvSpPr/>
            <p:nvPr/>
          </p:nvSpPr>
          <p:spPr>
            <a:xfrm>
              <a:off x="2230200" y="30924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Text Box 12"/>
            <p:cNvSpPr/>
            <p:nvPr/>
          </p:nvSpPr>
          <p:spPr>
            <a:xfrm>
              <a:off x="4134960" y="21780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Text Box 13"/>
            <p:cNvSpPr/>
            <p:nvPr/>
          </p:nvSpPr>
          <p:spPr>
            <a:xfrm>
              <a:off x="5811480" y="26352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14"/>
            <p:cNvSpPr/>
            <p:nvPr/>
          </p:nvSpPr>
          <p:spPr>
            <a:xfrm>
              <a:off x="6237360" y="3168360"/>
              <a:ext cx="1295280" cy="1711440"/>
            </a:xfrm>
            <a:custGeom>
              <a:avLst/>
              <a:gdLst/>
              <a:ahLst/>
              <a:rect l="l" t="t" r="r" b="b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b98be8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Arc 15"/>
            <p:cNvSpPr/>
            <p:nvPr/>
          </p:nvSpPr>
          <p:spPr>
            <a:xfrm rot="20539200">
              <a:off x="4635720" y="3174480"/>
              <a:ext cx="2984400" cy="1346400"/>
            </a:xfrm>
            <a:custGeom>
              <a:avLst/>
              <a:gdLst/>
              <a:ahLst/>
              <a:rect l="l" t="t" r="r" b="b"/>
              <a:pathLst>
                <a:path fill="none" w="20601" h="19523">
                  <a:moveTo>
                    <a:pt x="20601" y="6492"/>
                  </a:moveTo>
                  <a:cubicBezTo>
                    <a:pt x="18793" y="12227"/>
                    <a:pt x="14677" y="16949"/>
                    <a:pt x="9241" y="19522"/>
                  </a:cubicBezTo>
                </a:path>
                <a:path stroke="0" w="20601" h="19523">
                  <a:moveTo>
                    <a:pt x="20601" y="6492"/>
                  </a:moveTo>
                  <a:cubicBezTo>
                    <a:pt x="18793" y="12227"/>
                    <a:pt x="14677" y="16949"/>
                    <a:pt x="9241" y="19522"/>
                  </a:cubicBezTo>
                  <a:lnTo>
                    <a:pt x="0" y="0"/>
                  </a:lnTo>
                  <a:lnTo>
                    <a:pt x="20601" y="6492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16"/>
            <p:cNvSpPr/>
            <p:nvPr/>
          </p:nvSpPr>
          <p:spPr>
            <a:xfrm>
              <a:off x="4537080" y="3649680"/>
              <a:ext cx="1758960" cy="1236600"/>
            </a:xfrm>
            <a:custGeom>
              <a:avLst/>
              <a:gdLst/>
              <a:ahLst/>
              <a:rect l="l" t="t" r="r" b="b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af8ed4"/>
                </a:gs>
                <a:gs pos="100000">
                  <a:srgbClr val="5007a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Text Box 17"/>
            <p:cNvSpPr/>
            <p:nvPr/>
          </p:nvSpPr>
          <p:spPr>
            <a:xfrm>
              <a:off x="5811480" y="362556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Text Box 18"/>
            <p:cNvSpPr/>
            <p:nvPr/>
          </p:nvSpPr>
          <p:spPr>
            <a:xfrm>
              <a:off x="4059000" y="438768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Text Box 19"/>
            <p:cNvSpPr/>
            <p:nvPr/>
          </p:nvSpPr>
          <p:spPr>
            <a:xfrm>
              <a:off x="2153880" y="42354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20"/>
            <p:cNvSpPr/>
            <p:nvPr/>
          </p:nvSpPr>
          <p:spPr>
            <a:xfrm rot="20601600">
              <a:off x="3016440" y="3122640"/>
              <a:ext cx="2585880" cy="1090440"/>
            </a:xfrm>
            <a:prstGeom prst="ellipse">
              <a:avLst/>
            </a:prstGeom>
            <a:gradFill rotWithShape="0">
              <a:gsLst>
                <a:gs pos="0">
                  <a:srgbClr val="11442c"/>
                </a:gs>
                <a:gs pos="100000">
                  <a:srgbClr val="24926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21"/>
            <p:cNvSpPr/>
            <p:nvPr/>
          </p:nvSpPr>
          <p:spPr>
            <a:xfrm>
              <a:off x="4713480" y="4044960"/>
              <a:ext cx="1282680" cy="1028520"/>
            </a:xfrm>
            <a:custGeom>
              <a:avLst/>
              <a:gdLst/>
              <a:ahLst/>
              <a:rect l="l" t="t" r="r" b="b"/>
              <a:pathLst>
                <a:path w="808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08" y="424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9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WordArt 3"/>
          <p:cNvSpPr txBox="1"/>
          <p:nvPr/>
        </p:nvSpPr>
        <p:spPr>
          <a:xfrm>
            <a:off x="1676520" y="1905120"/>
            <a:ext cx="54864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6b8f2b"/>
                    </a:gs>
                    <a:gs pos="100000">
                      <a:srgbClr val="8dda62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6b8f2b"/>
                  </a:gs>
                  <a:gs pos="100000">
                    <a:srgbClr val="8dda62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6840" y="4419360"/>
            <a:ext cx="80614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2T08:19:42Z</dcterms:created>
  <dc:creator>keke</dc:creator>
  <dc:description/>
  <dc:language>en-US</dc:language>
  <cp:lastModifiedBy>王玉清</cp:lastModifiedBy>
  <dcterms:modified xsi:type="dcterms:W3CDTF">2016-02-21T04:59:05Z</dcterms:modified>
  <cp:revision>3</cp:revision>
  <dc:subject/>
  <dc:title>PowerPoint Template</dc:title>
</cp:coreProperties>
</file>