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94D2-2143-40DA-83A2-EF9336BC9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5428-A847-44C9-B97E-1D689B51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A49F-5929-43BF-8C94-6B70BF46A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CF0B-0A2E-4A71-B76A-7F6B8AAA1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F416-64FE-45FE-988D-970BCD5B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C3B9-0833-43E4-9EF4-738DB622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F1D7-78F4-4ADD-9715-57CB3A9A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37C5-D30A-4641-B623-AE576DAD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4823-2C57-4630-A40D-ADF39E77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EAF1-8407-43CB-9EDD-056B07BB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D40D-C9B5-40AD-A350-A39376D1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9471-CF90-4D0A-BE68-4736225D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3B17-CF7B-446C-AE35-4534AB2C7821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636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13920" y="4221000"/>
            <a:ext cx="293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气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220464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4076640"/>
            <a:ext cx="69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素材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3192-1BD5-4978-818E-49950AE2A4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1:47:56Z</dcterms:modified>
  <cp:revision>76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