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DE3A-6DD1-4568-8ECD-F4FECC9E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4470-2353-4B90-AA3F-4B1EB479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24B9-C5B1-4F87-BD82-DAD4DA65A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AAA3-C659-41DD-A060-DFFED810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F128-B687-4249-B803-4A2B3A47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9322-D31E-4692-8BA9-05B3AB12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0E65-FC25-47CC-A9E7-4C5F7574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A49F-1216-4E6F-BBCE-6DAC3A5D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648F-7A62-4598-AAF9-EF30B129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77BA-C297-4AA6-9217-5AD4F6CA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22A2-7875-4DC1-9B62-20132E45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B988-8ACA-4513-B843-D958CB5E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730F-6BD3-4B53-8775-E666B02907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5000760" y="542916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企业商务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"/>
          <p:cNvSpPr/>
          <p:nvPr/>
        </p:nvSpPr>
        <p:spPr>
          <a:xfrm>
            <a:off x="2510280" y="2700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全球商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73404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52120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41407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/>
          <p:cNvSpPr/>
          <p:nvPr/>
        </p:nvSpPr>
        <p:spPr>
          <a:xfrm>
            <a:off x="23547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500040" y="7142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4140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1407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39265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66276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2071800" y="31431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8550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292608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66276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43549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52120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342612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66276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47120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49266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8548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591120" y="785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1214280" y="3714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4164840" y="35002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6409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11280" y="6334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662760" y="785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4266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385488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35690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506952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66276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57121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29977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44265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805680" y="642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60696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9"/>
          <p:cNvSpPr/>
          <p:nvPr/>
        </p:nvSpPr>
        <p:spPr>
          <a:xfrm>
            <a:off x="29977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ppt宝藏</dc:creator>
  <dc:description/>
  <dc:language>en-US</dc:language>
  <cp:lastModifiedBy>a</cp:lastModifiedBy>
  <dcterms:modified xsi:type="dcterms:W3CDTF">2015-07-25T02:46:49Z</dcterms:modified>
  <cp:revision>39</cp:revision>
  <dc:subject/>
  <dc:title>www.pptbz.com</dc:title>
</cp:coreProperties>
</file>