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F1A89-67CA-4980-B68A-A557565C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8898-99C3-432F-B8D4-E8745CE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F6B1-0A13-4149-A693-E5C49F8C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9A53-C98B-44DD-AC8D-19941E0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9A74-E848-4D8B-AE81-D556779D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7C32-1292-44DB-B4B6-60EFBE1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8E04F-2126-4C99-AB81-C86E8B93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BC87-CE4E-4722-944B-804ED19B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C328-952B-4507-B2BE-DC79C7A2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1145-4751-42B7-9CFA-EE845297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A2582-4B52-4285-95C1-9DB811F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7BC3-4C54-415E-ABB0-CC02BE7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968B-80C0-4208-BC10-CC3A1645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76BD-56DD-4962-B232-7641FDF2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A062-3D5F-4DFC-9D49-9B93CE0E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E582-EB27-4D34-A2B3-9A38446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1A3D-C783-431F-ADDB-8C98DB9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E4984-10DD-4610-A10A-6ACCB94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111F1-8565-4708-8159-E7CEC16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CA2F4-75DF-40A5-B4EE-F3CDE6F1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13840-B6F0-4B42-AC75-96CB548B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F0A49-0F4E-4F9D-B6F2-A125B78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4E077-0E32-4392-AD13-5255737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5FA8D-B677-44CA-BBFF-03DC9E4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D42AB-B78B-40A3-90E5-D2EE017C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72D00-068C-4512-9130-F2C14A6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9766C-403D-443A-980F-2A832E4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AA2D7-CCFA-435F-8B1C-4C40BE9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0B7BE-6F27-4C0A-8525-667B7E5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3073E-C8E3-4CC9-866C-0458311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EBF-B3B1-4558-B3D2-83B1FAD0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B779F-D912-4514-8789-651DB42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D01AE-8423-472B-9F23-3A4669D4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143E-7E4D-4DBD-85DF-87D4FF32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FECB6-A4A1-4B98-A33F-E31C99F0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B5D9E-2F69-4ABF-9470-4D66925B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EE10-8F02-426E-BF1D-E41344C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F6EC2-9922-4081-9A4E-E953DB6E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0B19-214E-4044-9530-F9BBB3D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437B-491D-43AE-9B76-4BF8D15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FA7DD-28B7-417F-97E9-A7F8326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2F8-6EFD-4A4F-A3EA-BDAFB2B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FCE6-1032-40D3-B22B-277A887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B611-A512-49B1-906A-63D2415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60E4C-AD37-4C9C-A6B7-92B24BB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82908-E076-404D-A550-491A2D44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56BE1-2513-40B1-9302-476F528C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522-88A5-43D9-8BDB-17E41FE1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144-C085-46C4-A925-2CA15B2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528-A6AF-4C4E-AF89-72307385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8F4-0F1D-479B-AB31-8BBAB38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E6E-DB71-4C9A-8ED5-8784F53E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95D-DFA9-4EE4-A1C3-F9A19F4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25C-4DDB-4111-A696-2D0EE21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1BD-E029-497A-B0FC-032BEAC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121-A5EA-49D1-B854-3F421B4F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ABA-5F5C-4DC5-8081-41D5BEF2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E8B-E5BA-418E-9D5F-0CBE161E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6EAA-2D8C-4857-B392-D72FDBC7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DD7-84F7-43C1-BAF3-FACCF44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C5A-78BF-47E9-8B78-DF3D7C4E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73F-8F74-4688-9651-9BB1870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9C5-4746-47A9-A980-ED6F3B6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F946-D576-47D8-B68F-10AEFFF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8F30-B374-41C5-A149-3A69712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2350-FBBE-442B-A41E-16B51D41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4D2-3F82-4FA6-BA52-5506418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F064-168F-40EA-AA4B-B9719C88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A84-1D7A-44B0-ACAD-9B554DC4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68A4-C1D8-46A2-AD82-2D04BBC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E502-8480-49D0-BAA1-A9B863CB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C3D4-BCB5-4C70-954A-D51D77F0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062A-C7A0-4DFD-BBDF-28000B7C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22C0-D692-4D23-BAD9-177C4BC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26CB-C023-4CB9-BBFA-5957C2AE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F1E8-B5B9-4836-BC6B-9309C2B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C00C-2567-4D77-A104-5F94D5E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1A61-0A0F-4DA6-84E3-A8210F5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4BD8-965F-49AF-A8C9-A9D0053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BDB8-C480-4A2B-9833-AAD02F96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E633-E77B-4A45-9F8D-6803B056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31E6-DF1E-4D67-B52F-B6087E24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FC6C-9A7D-47FD-8930-B1814D2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CD64-CB1C-4DF8-ACD3-F147624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1BB1-C945-4825-AEF2-0975A7A2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80AD-8ACE-4F59-8E37-E04FE4F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CB02-0F01-44F0-A62D-CF9FF56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151D-0BD0-4842-952A-DFD48B7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5C50-5C61-489D-818A-EF65223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6736-39F1-4DF4-9E12-206621F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45E2-6E7B-444C-A297-9ED51C82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2C16-60CD-4687-AC24-AD37BCF7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760C-F4E9-4282-B463-1BFA1752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C831-00A4-418F-98CE-55879281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177C-2C9F-4186-ADF8-330F85AA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22FFC-1034-43EF-8F23-BEFCF4A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D63B-F38C-4269-8186-E42059CA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30B6-8358-41FE-A124-473F3FA1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408B-A263-4250-83DB-7235F21A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EDA6-0096-4FB4-BDB7-7A72D25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1D75-97D0-4CD5-B7C2-E5F326C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EB98-E386-42EC-BF9C-BCFAD27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60EB-5D6F-4FA3-99D9-629BFC8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79AA-1FB8-4714-AEDE-E139CDC9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9F55-7556-49B6-BCF0-78B95BE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CC6C8-FCFE-4FE2-BFA5-57D69DA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C221-58AC-4353-BBF6-53F1833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1A412-AA45-4862-BF81-7CE3998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7E34-C3E0-48BD-97D1-588833E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E998-6C48-4DF2-BEA4-922A601F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DA4A3-32A3-4F43-BBA9-33598FFB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FD11-17EB-4D35-A5C6-6E65CE7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9442-CBE1-46E7-B066-84AC0DA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25BD-8889-477F-940B-03A9C1A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2CD8-6265-4BE7-99DD-7DD0D12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A929-389B-498B-AC55-88195C83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F0E2-C935-4397-8A3F-3E2876A2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2C57D-211E-4B66-8C0F-853348C8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C94A-3319-4982-9D94-A39856A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6E8C-5570-4DDA-BAE4-46AF795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CEFF9-6568-468B-B17C-0ED4F7D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8AEC6-D4B7-4C59-A7B7-A43D231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86FA-B7A5-4D3F-89D1-120C36D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DB84-7F89-42D8-A2D7-C05DCB1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AA5E-67C4-4B3C-99C7-607C60E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7E88-CDDF-47E3-9327-0A15C25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7871-E039-4001-8E85-58EFD8D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7927-F8C3-4989-A273-C4C412FA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6ABE-C0B2-49C2-A201-A03E1F8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090A-2C9D-4F1D-A9BA-FB4FA0BD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8402-1DBC-4D75-B4EC-694175C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EB4E-AE4B-44BB-B76C-4DD06267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D1F-D3EB-4574-AFBC-D6BDE460E4A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902E-F441-4FCA-9307-53FB7A49DB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E78-43DE-4876-899E-56182AC3762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515-8A6A-490C-A057-21279C4AE6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C45E-2348-45F8-89DC-97373C0F44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C7E-53FC-4AB6-91B3-88FE2A48E6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5F9-D5F4-4400-B5BF-3ED62F396C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434-FAA2-4B9E-85FF-C921BB2F43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5C5-40C9-4DA0-87CB-188F931AEC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B33-38C1-4684-A673-81326F0F328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25F2-5EC6-49E3-89FF-2CAD4BE022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1613880" y="25351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新春绿简洁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2794320" y="18046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 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王玉清</cp:lastModifiedBy>
  <dcterms:modified xsi:type="dcterms:W3CDTF">2016-03-01T07:19:03Z</dcterms:modified>
  <cp:revision>11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