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1FD-8BA6-46D9-9EC8-B673BC73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085-C10D-476A-9BAC-D26E9D9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463-944D-4ADA-9495-12C075C8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956-94ED-424B-A5F6-79FDF090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9188-9FC0-40F3-BBAD-16B0AB49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B29A-40C5-49A5-89C6-CF3A7B44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1A29-A979-4186-BAFA-F3072ACE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0CF3-92D4-41A9-BCBE-AE001DB5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847A-2D48-464B-B1BA-E73D03B2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2CE-1FE5-4A0D-9AE0-05231A5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F5E3-320E-4318-8910-1B8A6D6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3F4-1D92-4637-9666-9C04DA7C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D6D3-7799-4BB6-A11A-6EF3E7E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1303-4656-420D-A00C-39F5DB6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66A9-4422-4C96-8DB8-C2FA3C8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01AE-7200-4E54-BE04-875C8810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1AA1-ACB6-4CE7-8FD9-4AB18F9A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9DD-177F-4536-A568-1643C82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125-559C-4351-B58F-904CE45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119-93A6-422B-AD1B-0B96CAF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486-1BBC-426E-A9E3-AF675E5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77C-FEB4-4426-B087-C87DE91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B43-E323-4AC8-BC69-C129E276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601-EBFA-4AED-8757-2BCA1BB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BA0-55E2-43A0-BFE2-8AAEB36B3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B8C6-2B61-4019-87AB-E3B8ACF6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清新植物通用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54160" y="386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25:43Z</dcterms:created>
  <dc:creator>Administrator</dc:creator>
  <dc:description/>
  <dc:language>en-US</dc:language>
  <cp:lastModifiedBy>王玉清</cp:lastModifiedBy>
  <cp:lastPrinted>1899-12-30T00:00:00Z</cp:lastPrinted>
  <dcterms:modified xsi:type="dcterms:W3CDTF">2016-02-22T02:53:10Z</dcterms:modified>
  <cp:revision>2</cp:revision>
  <dc:subject/>
  <dc:title>清新绿色植物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5</vt:lpwstr>
  </property>
</Properties>
</file>