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178F-16DF-418D-9BF5-38F1FEFB9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C195-4239-4FC8-B13F-1627D5BE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14C5-4F5F-4BBA-9917-12B3AD335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811E-1038-472D-B574-4761EB0EB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874A-AF71-416A-B4B1-732B0AD8B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BF28-222E-447B-8746-8C87D7FD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361F-E465-4112-BFD0-D11A2B1A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8B4C-8811-4621-8C1C-E8126E1B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980D-8F67-4788-931A-D03E6C4D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79246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D5CD-D21F-42E0-B21F-0D20A662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D8F2-970D-4FAC-82F4-2DF23A42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BD34-1C93-47BB-A62B-6C7090CF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84E5-0A50-4CE7-A595-4C610BF6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E23C-AF77-4AE8-B1CF-64D1F9B8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A510-03A4-41A3-835C-6F555B1B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01A1-0C7D-4598-898B-B116E1054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C0FC-16D9-41F3-BDF7-04AC579AC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EDA75-E9CA-4B43-B2DC-D026EF02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45EFC-65F4-4280-8807-44E04F9C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91C4C-866F-405A-A893-32EB796F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46946-5108-4119-9EF9-E38A9642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F9A22-9BC9-4BEB-AACA-8102F452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A9BB-459D-42A8-8509-63BDA267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79246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A9A59-58EB-4134-879D-4658426E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98B8F-4E13-46A3-9CB0-864DD3E9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FF46F-A14A-4A4E-AF7A-BCC4923F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27D85-F01F-4A67-9565-5D364A57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66460-A9F3-44A3-9691-38A1CE51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310AB-C862-4B1D-95E9-737D0012B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EAB52-2982-42E2-A9E5-E199205F3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FE93-FC79-4861-A807-2DCD9E76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3A33-28ED-47BC-881E-D5EBFAD3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79246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CCE5-B579-41BD-A671-47456C2E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3D94-9FC4-4FCD-86CE-9B1E9ECC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6E74-C9A4-4017-87BE-63B472E8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AF62-2789-44A3-8587-2DAB1E74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nordridesign.cn/index.php" TargetMode="External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宋体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7108-BEF8-47AB-92DA-EA722D33D18A}" type="slidenum">
              <a:rPr b="0" lang="en-US" sz="1400" spc="-1" strike="noStrike">
                <a:solidFill>
                  <a:srgbClr val="ffffff"/>
                </a:solidFill>
                <a:latin typeface="宋体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icrosoft JhengHei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9BB0-658A-4F86-8393-CB3CA0A01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813120" y="224964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029120" y="224964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255920" y="224964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543560" y="224964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4757760" y="224964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5037120" y="224964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5264280" y="224964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5478480" y="224964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4078080" y="2732040"/>
            <a:ext cx="14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中国专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设计交流论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6" descr="logo"/>
          <p:cNvPicPr/>
          <p:nvPr/>
        </p:nvPicPr>
        <p:blipFill>
          <a:blip r:embed="rId3"/>
          <a:stretch/>
        </p:blipFill>
        <p:spPr>
          <a:xfrm>
            <a:off x="3116160" y="2238480"/>
            <a:ext cx="782640" cy="73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logo2"/>
          <p:cNvPicPr/>
          <p:nvPr/>
        </p:nvPicPr>
        <p:blipFill>
          <a:blip r:embed="rId4"/>
          <a:stretch/>
        </p:blipFill>
        <p:spPr>
          <a:xfrm>
            <a:off x="2563920" y="2060640"/>
            <a:ext cx="3828960" cy="13255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8">
            <a:hlinkClick r:id="rId5"/>
          </p:cNvPr>
          <p:cNvSpPr/>
          <p:nvPr/>
        </p:nvSpPr>
        <p:spPr>
          <a:xfrm>
            <a:off x="2484360" y="1773360"/>
            <a:ext cx="3987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icrosoft JhengHei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宋体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0899-9A57-4B24-8DDF-08329A809B22}" type="slidenum">
              <a:rPr b="0" lang="en-US" sz="1400" spc="-1" strike="noStrike">
                <a:solidFill>
                  <a:srgbClr val="ffffff"/>
                </a:solidFill>
                <a:latin typeface="宋体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7162920" y="53352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"/>
          <p:cNvSpPr/>
          <p:nvPr/>
        </p:nvSpPr>
        <p:spPr>
          <a:xfrm>
            <a:off x="914400" y="2133720"/>
            <a:ext cx="7391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汉仪中圆简"/>
                <a:ea typeface="汉仪中圆简"/>
              </a:rPr>
              <a:t>千纸鹤通用</a:t>
            </a:r>
            <a:r>
              <a:rPr b="0" lang="en-US" sz="4000" spc="-1" strike="noStrike">
                <a:solidFill>
                  <a:srgbClr val="ffffff"/>
                </a:solidFill>
                <a:latin typeface="汉仪中圆简"/>
                <a:ea typeface="汉仪中圆简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汉仪中圆简"/>
                <a:ea typeface="汉仪中圆简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209680" y="3733560"/>
            <a:ext cx="55627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灯片编号占位符 5"/>
          <p:cNvSpPr/>
          <p:nvPr/>
        </p:nvSpPr>
        <p:spPr>
          <a:xfrm>
            <a:off x="6553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0091-F482-4BAA-B0E8-51903461D0C2}" type="slidenum">
              <a:rPr b="0" lang="en-US" sz="1400" spc="-1" strike="noStrike">
                <a:solidFill>
                  <a:srgbClr val="ffffff"/>
                </a:solidFill>
                <a:latin typeface="宋体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Microsoft JhengHei"/>
              </a:rPr>
              <a:t>按一下添加标题</a:t>
            </a: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ffffff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默认设置：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首页主标题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4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号（中文微软雅黑英文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Arial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）加粗；副标题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号（中文微软雅黑英文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Arial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）加粗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内页标题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36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号（中文微软雅黑英文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Arial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）加粗；内页内容文字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号（微软雅黑）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6553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4FF4-7D4F-4149-92B7-5596C30F1DD1}" type="slidenum">
              <a:rPr b="0" lang="en-US" sz="1400" spc="-1" strike="noStrike">
                <a:solidFill>
                  <a:srgbClr val="ffffff"/>
                </a:solidFill>
                <a:latin typeface="宋体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Microsoft JhengHei"/>
              </a:rPr>
              <a:t>按一下添加标题</a:t>
            </a: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graphicFrame>
        <p:nvGraphicFramePr>
          <p:cNvPr id="144" name="Object 113"/>
          <p:cNvGraphicFramePr/>
          <p:nvPr/>
        </p:nvGraphicFramePr>
        <p:xfrm>
          <a:off x="1219320" y="1830240"/>
          <a:ext cx="6551640" cy="43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1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30240"/>
                    <a:ext cx="6551640" cy="43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7162920" y="53352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8"/>
          <p:cNvSpPr txBox="1"/>
          <p:nvPr/>
        </p:nvSpPr>
        <p:spPr>
          <a:xfrm>
            <a:off x="3048120" y="2362320"/>
            <a:ext cx="2971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9999"/>
                  </a:outerShdw>
                </a:effectLst>
                <a:latin typeface="SimHei"/>
              </a:rPr>
              <a:t>感谢观赏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999999"/>
                </a:outerShdw>
              </a:effectLst>
              <a:latin typeface="SimHei"/>
              <a:ea typeface="SimHei"/>
            </a:endParaRPr>
          </a:p>
        </p:txBody>
      </p:sp>
      <p:sp>
        <p:nvSpPr>
          <p:cNvPr id="148" name="WordArt 9"/>
          <p:cNvSpPr txBox="1"/>
          <p:nvPr/>
        </p:nvSpPr>
        <p:spPr>
          <a:xfrm>
            <a:off x="76320" y="2498400"/>
            <a:ext cx="2971800" cy="61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ffffff">
                        <a:alpha val="40000"/>
                      </a:srgbClr>
                    </a:gs>
                  </a:gsLst>
                  <a:lin ang="5400000"/>
                </a:gradFill>
                <a:latin typeface="SimHei"/>
              </a:rPr>
              <a:t>感谢观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atin typeface="SimHei"/>
              <a:ea typeface="SimHei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192240" y="62485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3399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2209680" y="3733560"/>
            <a:ext cx="55627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hea</dc:creator>
  <dc:description>www.nordridesign.cn
</dc:description>
  <dc:language>en-US</dc:language>
  <cp:lastModifiedBy>王玉清</cp:lastModifiedBy>
  <dcterms:modified xsi:type="dcterms:W3CDTF">2016-02-20T04:16:09Z</dcterms:modified>
  <cp:revision>24</cp:revision>
  <dc:subject/>
  <dc:title>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