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559-2D7B-4DD9-921A-095A6B3C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515-5CED-4084-B659-BB2C450D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A5B-8DE7-4024-AAC1-9080C419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93F-644B-44CE-BFB2-4B1F43BC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37D-1ECF-494B-AAC1-65974DC0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0D0-3A12-4874-9EDD-91EA3FFD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888-C91B-4884-A5C6-9D071029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33B-8F58-4506-9946-1EAA7E84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BF9-D84F-4014-91EC-1BA2D559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C54-40F4-45B5-8A71-9442F58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47C-E839-431A-9AD5-47AFD565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9C1-7C3D-460E-B8BA-562E05F4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4FD9-BB35-460E-94C3-28FF9F36B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79920" y="2421000"/>
            <a:ext cx="37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人际交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免费素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来来来，我们一起做游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热身小活动：水果大逃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动物园里小熊饿了，他是要吃香蕉呢还是梨或者苹果？香蕉、梨和苹果赶快逃跑吧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角色：小熊、香蕉、苹果、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规则：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点饿               点哪种水果，哪种水果逃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饿了              点哪种水果，别的水果逃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非常饿              所有水果大逃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正确逃亡的同学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给大家表演一个小节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3573360"/>
            <a:ext cx="69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素材下载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30A-BDEF-40DA-B99D-BC1E172283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6:14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01:3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