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FE6-0719-43B7-AFAC-367EF8E8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F772-5B4F-4D40-BF99-8C34BC21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26E-19D8-4493-BFAC-308A4C7B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0F7-82DC-40ED-80ED-D845C563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8060-6CB8-490E-BE9F-F04E6809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1FCA-885A-4445-B2D4-BC7D0C28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C4A-0864-4B86-B307-7461EEB0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89EF-CC24-4432-834D-F3E9DDFA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6D5-54CF-4AD4-AB01-81BF18B0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608-3041-414B-A2C4-2E5A848D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A3F-296F-4FAE-A8BE-470D5EBB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08A1-E708-41BB-B83A-AB5103EA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51C9-DEE6-474E-AEFF-95B35BA1973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9"/>
          <p:cNvGrpSpPr/>
          <p:nvPr/>
        </p:nvGrpSpPr>
        <p:grpSpPr>
          <a:xfrm>
            <a:off x="609480" y="1447920"/>
            <a:ext cx="7785000" cy="4352760"/>
            <a:chOff x="609480" y="1447920"/>
            <a:chExt cx="7785000" cy="4352760"/>
          </a:xfrm>
        </p:grpSpPr>
        <p:pic>
          <p:nvPicPr>
            <p:cNvPr id="45" name="Rectangle 9" descr=""/>
            <p:cNvPicPr/>
            <p:nvPr/>
          </p:nvPicPr>
          <p:blipFill>
            <a:blip r:embed="rId2"/>
            <a:stretch/>
          </p:blipFill>
          <p:spPr>
            <a:xfrm>
              <a:off x="609480" y="1447920"/>
              <a:ext cx="7785000" cy="43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615960" y="1451160"/>
              <a:ext cx="777240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7" name="Picture 10" descr="2"/>
          <p:cNvPicPr/>
          <p:nvPr/>
        </p:nvPicPr>
        <p:blipFill>
          <a:blip r:embed="rId3"/>
          <a:stretch/>
        </p:blipFill>
        <p:spPr>
          <a:xfrm>
            <a:off x="8369280" y="1143000"/>
            <a:ext cx="546120" cy="4876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3"/>
          <p:cNvPicPr/>
          <p:nvPr/>
        </p:nvPicPr>
        <p:blipFill>
          <a:blip r:embed="rId4"/>
          <a:stretch/>
        </p:blipFill>
        <p:spPr>
          <a:xfrm>
            <a:off x="169920" y="1143000"/>
            <a:ext cx="515880" cy="4898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ahoma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ahoma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668680" y="30481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20000"/>
                </a:solidFill>
                <a:latin typeface="Tahoma"/>
              </a:rPr>
              <a:t>热烈欢迎</a:t>
            </a:r>
            <a:r>
              <a:rPr b="0" lang="zh-CN" sz="4000" spc="-1" strike="noStrike">
                <a:solidFill>
                  <a:srgbClr val="720000"/>
                </a:solidFill>
                <a:latin typeface="Tahoma"/>
              </a:rPr>
              <a:t>PPT</a:t>
            </a:r>
            <a:r>
              <a:rPr b="0" lang="zh-CN" sz="4000" spc="-1" strike="noStrike">
                <a:solidFill>
                  <a:srgbClr val="720000"/>
                </a:solidFill>
                <a:latin typeface="Tahoma"/>
              </a:rPr>
              <a:t>素材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36E0-5AD4-4BF4-9C98-8851E6BB5F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8T05:46:3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2:26:22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