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40"/>
      <c:rotY val="180"/>
      <c:rAngAx val="0"/>
      <c:perspective val="11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"/>
          <c:y val="0.10197401051483"/>
          <c:w val="0.9326873518194"/>
          <c:h val="0.84436067850411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11月份入职和离职人数</c:v>
                </c:pt>
              </c:strCache>
            </c:strRef>
          </c:tx>
          <c:spPr>
            <a:solidFill>
              <a:srgbClr val="4f81bd"/>
            </a:solidFill>
            <a:ln w="0">
              <a:solidFill>
                <a:srgbClr val="ffffff"/>
              </a:solidFill>
            </a:ln>
          </c:spPr>
          <c:explosion val="25"/>
          <c:dPt>
            <c:idx val="0"/>
            <c:explosion val="25"/>
            <c:spPr>
              <a:gradFill>
                <a:gsLst>
                  <a:gs pos="0">
                    <a:srgbClr val="842c46"/>
                  </a:gs>
                  <a:gs pos="100000">
                    <a:srgbClr val="bc4064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1"/>
            <c:explosion val="3"/>
            <c:spPr>
              <a:gradFill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2700000"/>
              </a:gra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square"/>
                <a:lstStyle/>
                <a:p>
                  <a:pPr>
                    <a:defRPr b="0" i="1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i="1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男，</a:t>
                    </a:r>
                    <a:r>
                      <a:rPr b="0" i="1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70</a:t>
                    </a:r>
                    <a:r>
                      <a:rPr b="0" i="1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numFmt formatCode="General" sourceLinked="1"/>
              <c:txPr>
                <a:bodyPr wrap="square"/>
                <a:lstStyle/>
                <a:p>
                  <a:pPr>
                    <a:defRPr b="0" i="1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i="1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女，</a:t>
                    </a:r>
                    <a:r>
                      <a:rPr b="0" i="1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15</a:t>
                    </a:r>
                    <a:r>
                      <a:rPr b="0" i="1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i="1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男</c:v>
                </c:pt>
                <c:pt idx="1">
                  <c:v>女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170</c:v>
                </c:pt>
                <c:pt idx="1">
                  <c:v>115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56172624576651"/>
          <c:y val="0.404635804107091"/>
          <c:w val="0.10018958201367"/>
          <c:h val="0.35179969243457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微软雅黑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50"/>
      <c:rotY val="80"/>
      <c:rAngAx val="0"/>
      <c:perspective val="12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女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bfbfbf"/>
              </a:solidFill>
              <a:ln w="0">
                <a:noFill/>
              </a:ln>
            </c:spPr>
          </c:dPt>
          <c:dPt>
            <c:idx val="1"/>
            <c:explosion val="25"/>
            <c:spPr>
              <a:gradFill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2"/>
            <c:explosion val="25"/>
            <c:spPr>
              <a:gradFill>
                <a:gsLst>
                  <a:gs pos="0">
                    <a:srgbClr val="842c46"/>
                  </a:gs>
                  <a:gs pos="100000">
                    <a:srgbClr val="bc4064"/>
                  </a:gs>
                </a:gsLst>
                <a:lin ang="2700000"/>
              </a:gradFill>
              <a:ln w="0">
                <a:solidFill>
                  <a:srgbClr val="d6567b"/>
                </a:solidFill>
              </a:ln>
            </c:spPr>
          </c:dPt>
          <c:dPt>
            <c:idx val="3"/>
            <c:explosion val="25"/>
            <c:spPr>
              <a:solidFill>
                <a:srgbClr val="eeb500"/>
              </a:solidFill>
              <a:ln w="0">
                <a:noFill/>
              </a:ln>
            </c:spPr>
          </c:dPt>
          <c:dPt>
            <c:idx val="4"/>
            <c:explosion val="25"/>
            <c:spPr>
              <a:solidFill>
                <a:srgbClr val="92d050"/>
              </a:solidFill>
              <a:ln w="0">
                <a:noFill/>
              </a:ln>
            </c:spPr>
          </c:dPt>
          <c:dPt>
            <c:idx val="5"/>
            <c:explosion val="25"/>
            <c:spPr>
              <a:solidFill>
                <a:srgbClr val="e46c0a"/>
              </a:solidFill>
              <a:ln w="0">
                <a:noFill/>
              </a:ln>
            </c:spPr>
          </c:dPt>
          <c:dPt>
            <c:idx val="6"/>
            <c:explosion val="25"/>
            <c:spPr>
              <a:solidFill>
                <a:srgbClr val="ff4343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8-22</a:t>
                    </a:r>
                    <a:r>
                      <a:rPr b="0" sz="1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</a:p>
                  <a:p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9</a:t>
                    </a:r>
                    <a:r>
                      <a:rPr b="0" sz="1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7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numFmt formatCode="General" sourceLinked="1"/>
              <c:txPr>
                <a:bodyPr wrap="square"/>
                <a:lstStyle/>
                <a:p>
                  <a:pPr>
                    <a:defRPr b="0" sz="3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22-25</a:t>
                    </a:r>
                    <a:r>
                      <a:rPr b="0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15</a:t>
                    </a:r>
                    <a:r>
                      <a:rPr b="0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28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2"/>
              <c:numFmt formatCode="General" sourceLinked="1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26-28</a:t>
                    </a:r>
                    <a:r>
                      <a:rPr b="0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岁 </a:t>
                    </a:r>
                  </a:p>
                  <a:p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5</a:t>
                    </a:r>
                    <a:r>
                      <a:rPr b="0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28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3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28-30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4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7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4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1-32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3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5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5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3—35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6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1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6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6—40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2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4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7"/>
                <c:pt idx="0">
                  <c:v>18-22</c:v>
                </c:pt>
                <c:pt idx="1">
                  <c:v>22-25</c:v>
                </c:pt>
                <c:pt idx="2">
                  <c:v>26-28</c:v>
                </c:pt>
                <c:pt idx="3">
                  <c:v>28-30</c:v>
                </c:pt>
                <c:pt idx="4">
                  <c:v>31-32</c:v>
                </c:pt>
                <c:pt idx="5">
                  <c:v>33—35</c:v>
                </c:pt>
                <c:pt idx="6">
                  <c:v>36—40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9</c:v>
                </c:pt>
                <c:pt idx="1">
                  <c:v>15</c:v>
                </c:pt>
                <c:pt idx="2">
                  <c:v>15</c:v>
                </c:pt>
                <c:pt idx="3">
                  <c:v>4</c:v>
                </c:pt>
                <c:pt idx="4">
                  <c:v>3</c:v>
                </c:pt>
                <c:pt idx="5">
                  <c:v>6</c:v>
                </c:pt>
                <c:pt idx="6">
                  <c:v>2</c:v>
                </c:pt>
              </c:numCache>
            </c:numRef>
          </c:val>
        </c:ser>
      </c:pie3DChart>
    </c:plotArea>
    <c:plotVisOnly val="1"/>
    <c:dispBlanksAs val="gap"/>
  </c:chart>
  <c:spPr>
    <a:noFill/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已婚</c:v>
                </c:pt>
              </c:strCache>
            </c:strRef>
          </c:tx>
          <c:spPr>
            <a:solidFill>
              <a:srgbClr val="558ed5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7"/>
                <c:pt idx="0">
                  <c:v>18-22岁</c:v>
                </c:pt>
                <c:pt idx="1">
                  <c:v>23-25岁</c:v>
                </c:pt>
                <c:pt idx="2">
                  <c:v>26-28岁</c:v>
                </c:pt>
                <c:pt idx="3">
                  <c:v>28-30岁</c:v>
                </c:pt>
                <c:pt idx="4">
                  <c:v>31-32岁</c:v>
                </c:pt>
                <c:pt idx="5">
                  <c:v>33-35岁</c:v>
                </c:pt>
                <c:pt idx="6">
                  <c:v>36-40岁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1</c:v>
                </c:pt>
                <c:pt idx="1">
                  <c:v>1</c:v>
                </c:pt>
                <c:pt idx="2">
                  <c:v>11</c:v>
                </c:pt>
                <c:pt idx="3">
                  <c:v>4</c:v>
                </c:pt>
                <c:pt idx="4">
                  <c:v>3</c:v>
                </c:pt>
                <c:pt idx="5">
                  <c:v>4</c:v>
                </c:pt>
                <c:pt idx="6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未婚</c:v>
                </c:pt>
              </c:strCache>
            </c:strRef>
          </c:tx>
          <c:spPr>
            <a:solidFill>
              <a:srgbClr val="ff4343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7"/>
                <c:pt idx="0">
                  <c:v>18-22岁</c:v>
                </c:pt>
                <c:pt idx="1">
                  <c:v>23-25岁</c:v>
                </c:pt>
                <c:pt idx="2">
                  <c:v>26-28岁</c:v>
                </c:pt>
                <c:pt idx="3">
                  <c:v>28-30岁</c:v>
                </c:pt>
                <c:pt idx="4">
                  <c:v>31-32岁</c:v>
                </c:pt>
                <c:pt idx="5">
                  <c:v>33-35岁</c:v>
                </c:pt>
                <c:pt idx="6">
                  <c:v>36-40岁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8</c:v>
                </c:pt>
                <c:pt idx="1">
                  <c:v>14</c:v>
                </c:pt>
                <c:pt idx="2">
                  <c:v>4</c:v>
                </c:pt>
                <c:pt idx="3">
                  <c:v>0</c:v>
                </c:pt>
                <c:pt idx="4">
                  <c:v>1</c:v>
                </c:pt>
                <c:pt idx="5">
                  <c:v>2</c:v>
                </c:pt>
                <c:pt idx="6">
                  <c:v>0</c:v>
                </c:pt>
              </c:numCache>
            </c:numRef>
          </c:val>
        </c:ser>
        <c:gapWidth val="150"/>
        <c:overlap val="0"/>
        <c:axId val="38700138"/>
        <c:axId val="22199215"/>
      </c:barChart>
      <c:catAx>
        <c:axId val="38700138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22199215"/>
        <c:crosses val="autoZero"/>
        <c:auto val="1"/>
        <c:lblAlgn val="ctr"/>
        <c:lblOffset val="100"/>
        <c:noMultiLvlLbl val="0"/>
      </c:catAx>
      <c:valAx>
        <c:axId val="22199215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38700138"/>
        <c:crosses val="autoZero"/>
        <c:crossBetween val="between"/>
      </c:valAx>
      <c:dTable>
        <c:showHorzBorder val="1"/>
        <c:showVertBorder val="1"/>
        <c:showOutline val="1"/>
      </c:dTable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60"/>
      <c:rotY val="180"/>
      <c:rAngAx val="0"/>
      <c:perspective val="11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"/>
          <c:y val="0.0424540293195492"/>
          <c:w val="0.983609937119885"/>
          <c:h val="0.88983984408101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列1</c:v>
                </c:pt>
              </c:strCache>
            </c:strRef>
          </c:tx>
          <c:spPr>
            <a:solidFill>
              <a:srgbClr val="4f81bd"/>
            </a:solidFill>
            <a:ln w="0">
              <a:solidFill>
                <a:srgbClr val="ffffff"/>
              </a:solidFill>
            </a:ln>
          </c:spPr>
          <c:explosion val="25"/>
          <c:dPt>
            <c:idx val="0"/>
            <c:explosion val="25"/>
            <c:spPr>
              <a:solidFill>
                <a:srgbClr val="ff4343"/>
              </a:solidFill>
              <a:ln w="0">
                <a:noFill/>
              </a:ln>
            </c:spPr>
          </c:dPt>
          <c:dPt>
            <c:idx val="1"/>
            <c:explosion val="3"/>
            <c:spPr>
              <a:gradFill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2700000"/>
              </a:gra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已婚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36</a:t>
                    </a:r>
                    <a:r>
                      <a:rPr b="0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 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48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numFmt formatCode="General" sourceLinked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未婚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49</a:t>
                    </a:r>
                    <a:r>
                      <a:rPr b="0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 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52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已婚</c:v>
                </c:pt>
                <c:pt idx="1">
                  <c:v>未婚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136</c:v>
                </c:pt>
                <c:pt idx="1">
                  <c:v>149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56172624576651"/>
          <c:y val="0.404635804107091"/>
          <c:w val="0.10018958201367"/>
          <c:h val="0.35179969243457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微软雅黑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60"/>
      <c:rotY val="160"/>
      <c:rAngAx val="0"/>
      <c:perspective val="12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26924135400422"/>
          <c:y val="0.0169388530193695"/>
          <c:w val="0.902486010457756"/>
          <c:h val="0.877630079756931"/>
        </c:manualLayout>
      </c:layout>
      <c:pie3DChart>
        <c:varyColors val="1"/>
        <c:ser>
          <c:idx val="0"/>
          <c:order val="0"/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gradFill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1"/>
            <c:explosion val="25"/>
            <c:spPr>
              <a:gradFill>
                <a:gsLst>
                  <a:gs pos="0">
                    <a:srgbClr val="9f1f1f"/>
                  </a:gs>
                  <a:gs pos="100000">
                    <a:srgbClr val="e22c2c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2"/>
            <c:explosion val="25"/>
            <c:spPr>
              <a:gradFill>
                <a:gsLst>
                  <a:gs pos="0">
                    <a:srgbClr val="979700"/>
                  </a:gs>
                  <a:gs pos="100000">
                    <a:srgbClr val="d6d600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d6567b"/>
              </a:solidFill>
              <a:ln w="0">
                <a:noFill/>
              </a:ln>
            </c:spPr>
          </c:dPt>
          <c:dPt>
            <c:idx val="4"/>
            <c:explosion val="25"/>
            <c:spPr>
              <a:solidFill>
                <a:srgbClr val="92d050"/>
              </a:solidFill>
              <a:ln w="0">
                <a:noFill/>
              </a:ln>
            </c:spPr>
          </c:dPt>
          <c:dPt>
            <c:idx val="5"/>
            <c:explosion val="25"/>
            <c:spPr>
              <a:solidFill>
                <a:srgbClr val="558ed5"/>
              </a:solidFill>
              <a:ln w="0">
                <a:noFill/>
              </a:ln>
            </c:spPr>
          </c:dPt>
          <c:dPt>
            <c:idx val="6"/>
            <c:explosion val="25"/>
            <c:spPr>
              <a:solidFill>
                <a:srgbClr val="ffff00"/>
              </a:solidFill>
              <a:ln w="0">
                <a:noFill/>
              </a:ln>
            </c:spPr>
          </c:dPt>
          <c:dPt>
            <c:idx val="7"/>
            <c:explosion val="25"/>
            <c:spPr>
              <a:solidFill>
                <a:srgbClr val="ff4343"/>
              </a:solidFill>
              <a:ln w="0">
                <a:noFill/>
              </a:ln>
            </c:spPr>
          </c:dPt>
          <c:dPt>
            <c:idx val="8"/>
            <c:explosion val="25"/>
            <c:spPr>
              <a:solidFill>
                <a:srgbClr val="e46c0a"/>
              </a:solidFill>
              <a:ln w="0">
                <a:noFill/>
              </a:ln>
            </c:spPr>
          </c:dPt>
          <c:dPt>
            <c:idx val="9"/>
            <c:explosion val="25"/>
            <c:spPr>
              <a:solidFill>
                <a:srgbClr val="92d050"/>
              </a:solidFill>
              <a:ln w="0">
                <a:noFill/>
              </a:ln>
            </c:spPr>
          </c:dPt>
          <c:dPt>
            <c:idx val="10"/>
            <c:explosion val="25"/>
            <c:spPr>
              <a:solidFill>
                <a:srgbClr val="58d252"/>
              </a:solidFill>
              <a:ln w="0">
                <a:noFill/>
              </a:ln>
            </c:spPr>
          </c:dPt>
          <c:dPt>
            <c:idx val="11"/>
            <c:explosion val="25"/>
            <c:spPr>
              <a:solidFill>
                <a:srgbClr val="00b0f0"/>
              </a:solidFill>
              <a:ln w="0">
                <a:noFill/>
              </a:ln>
            </c:spPr>
          </c:dPt>
          <c:dPt>
            <c:idx val="12"/>
            <c:explosion val="25"/>
            <c:spPr>
              <a:solidFill>
                <a:srgbClr val="d99694"/>
              </a:solidFill>
              <a:ln w="0">
                <a:noFill/>
              </a:ln>
            </c:spPr>
          </c:dPt>
          <c:dPt>
            <c:idx val="13"/>
            <c:explosion val="25"/>
            <c:spPr>
              <a:solidFill>
                <a:srgbClr val="808080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square"/>
                <a:lstStyle/>
                <a:p>
                  <a:pPr>
                    <a:defRPr b="0" sz="2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6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广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51</a:t>
                    </a:r>
                    <a:r>
                      <a:rPr b="0" sz="16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53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湖南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37</a:t>
                    </a:r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</a:p>
                  <a:p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3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2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湖北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9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7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3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河南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8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6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4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江西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1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4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5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广西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9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6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贵州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7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7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四川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7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2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8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甘肃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4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9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上海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0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安徽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1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山东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2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江苏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3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其他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0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4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14"/>
                <c:pt idx="0">
                  <c:v>广东</c:v>
                </c:pt>
                <c:pt idx="1">
                  <c:v>湖南</c:v>
                </c:pt>
                <c:pt idx="2">
                  <c:v>湖北</c:v>
                </c:pt>
                <c:pt idx="3">
                  <c:v>河南</c:v>
                </c:pt>
                <c:pt idx="4">
                  <c:v>江西</c:v>
                </c:pt>
                <c:pt idx="5">
                  <c:v>广西</c:v>
                </c:pt>
                <c:pt idx="6">
                  <c:v>贵州</c:v>
                </c:pt>
                <c:pt idx="7">
                  <c:v>四川</c:v>
                </c:pt>
                <c:pt idx="8">
                  <c:v>甘肃</c:v>
                </c:pt>
                <c:pt idx="9">
                  <c:v>上海</c:v>
                </c:pt>
                <c:pt idx="10">
                  <c:v>安徽</c:v>
                </c:pt>
                <c:pt idx="11">
                  <c:v>山东</c:v>
                </c:pt>
                <c:pt idx="12">
                  <c:v>江苏</c:v>
                </c:pt>
                <c:pt idx="13">
                  <c:v>其他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4"/>
                <c:pt idx="0">
                  <c:v>151</c:v>
                </c:pt>
                <c:pt idx="1">
                  <c:v>37</c:v>
                </c:pt>
                <c:pt idx="2">
                  <c:v>19</c:v>
                </c:pt>
                <c:pt idx="3">
                  <c:v>18</c:v>
                </c:pt>
                <c:pt idx="4">
                  <c:v>11</c:v>
                </c:pt>
                <c:pt idx="5">
                  <c:v>9</c:v>
                </c:pt>
                <c:pt idx="6">
                  <c:v>7</c:v>
                </c:pt>
                <c:pt idx="7">
                  <c:v>7</c:v>
                </c:pt>
                <c:pt idx="8">
                  <c:v>4</c:v>
                </c:pt>
                <c:pt idx="9">
                  <c:v>3</c:v>
                </c:pt>
                <c:pt idx="10">
                  <c:v>3</c:v>
                </c:pt>
                <c:pt idx="11">
                  <c:v>3</c:v>
                </c:pt>
                <c:pt idx="12">
                  <c:v>3</c:v>
                </c:pt>
                <c:pt idx="13">
                  <c:v>10</c:v>
                </c:pt>
              </c:numCache>
            </c:numRef>
          </c:val>
        </c:ser>
      </c:pie3DChart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50"/>
      <c:rotY val="180"/>
      <c:rAngAx val="0"/>
      <c:perspective val="12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92d050"/>
              </a:solidFill>
              <a:ln w="0">
                <a:noFill/>
              </a:ln>
            </c:spPr>
          </c:dPt>
          <c:dPt>
            <c:idx val="1"/>
            <c:explosion val="25"/>
            <c:spPr>
              <a:gradFill>
                <a:gsLst>
                  <a:gs pos="0">
                    <a:srgbClr val="842c46"/>
                  </a:gs>
                  <a:gs pos="100000">
                    <a:srgbClr val="bc4064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2"/>
            <c:explosion val="25"/>
            <c:spPr>
              <a:gradFill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a6a6a6"/>
              </a:solidFill>
              <a:ln w="0">
                <a:noFill/>
              </a:ln>
            </c:spPr>
          </c:dPt>
          <c:dPt>
            <c:idx val="4"/>
            <c:explosion val="25"/>
            <c:spPr>
              <a:gradFill>
                <a:gsLst>
                  <a:gs pos="0">
                    <a:srgbClr val="9f1f1f"/>
                  </a:gs>
                  <a:gs pos="100000">
                    <a:srgbClr val="e22c2c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5"/>
            <c:explosion val="25"/>
            <c:spPr>
              <a:solidFill>
                <a:srgbClr val="95b3d7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硕士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0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本科</a:t>
                    </a:r>
                  </a:p>
                  <a:p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43</a:t>
                    </a:r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5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2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大专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</a:t>
                    </a:r>
                  </a:p>
                  <a:p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10</a:t>
                    </a:r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39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3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中专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</a:t>
                    </a:r>
                  </a:p>
                  <a:p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63</a:t>
                    </a:r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22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4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高中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</a:t>
                    </a:r>
                  </a:p>
                  <a:p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46</a:t>
                    </a:r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6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5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初中</a:t>
                    </a:r>
                  </a:p>
                  <a:p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22</a:t>
                    </a:r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8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6"/>
                <c:pt idx="0">
                  <c:v>硕士</c:v>
                </c:pt>
                <c:pt idx="1">
                  <c:v>本科</c:v>
                </c:pt>
                <c:pt idx="2">
                  <c:v>大专</c:v>
                </c:pt>
                <c:pt idx="3">
                  <c:v>中专</c:v>
                </c:pt>
                <c:pt idx="4">
                  <c:v>高中</c:v>
                </c:pt>
                <c:pt idx="5">
                  <c:v>初中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</c:v>
                </c:pt>
                <c:pt idx="1">
                  <c:v>43</c:v>
                </c:pt>
                <c:pt idx="2">
                  <c:v>110</c:v>
                </c:pt>
                <c:pt idx="3">
                  <c:v>63</c:v>
                </c:pt>
                <c:pt idx="4">
                  <c:v>46</c:v>
                </c:pt>
                <c:pt idx="5">
                  <c:v>22</c:v>
                </c:pt>
              </c:numCache>
            </c:numRef>
          </c:val>
        </c:ser>
      </c:pie3DChart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848212410200395"/>
          <c:y val="0.0715097341110522"/>
          <c:w val="0.896819728605638"/>
          <c:h val="0.57791076433603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经理级及以上</c:v>
                </c:pt>
              </c:strCache>
            </c:strRef>
          </c:tx>
          <c:spPr>
            <a:gradFill>
              <a:gsLst>
                <a:gs pos="0">
                  <a:srgbClr val="977100"/>
                </a:gs>
                <a:gs pos="100000">
                  <a:srgbClr val="d6a100"/>
                </a:gs>
              </a:gsLst>
              <a:lin ang="2700000"/>
            </a:gra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硕士</c:v>
                </c:pt>
                <c:pt idx="1">
                  <c:v>本科</c:v>
                </c:pt>
                <c:pt idx="2">
                  <c:v>大专</c:v>
                </c:pt>
                <c:pt idx="3">
                  <c:v>中专</c:v>
                </c:pt>
                <c:pt idx="4">
                  <c:v>高中</c:v>
                </c:pt>
                <c:pt idx="5">
                  <c:v>初中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</c:v>
                </c:pt>
                <c:pt idx="1">
                  <c:v>15</c:v>
                </c:pt>
                <c:pt idx="2">
                  <c:v>10</c:v>
                </c:pt>
                <c:pt idx="3">
                  <c:v>2</c:v>
                </c:pt>
                <c:pt idx="4">
                  <c:v>4</c:v>
                </c:pt>
                <c:pt idx="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主管</c:v>
                </c:pt>
              </c:strCache>
            </c:strRef>
          </c:tx>
          <c:spPr>
            <a:gradFill>
              <a:gsLst>
                <a:gs pos="0">
                  <a:srgbClr val="842c46"/>
                </a:gs>
                <a:gs pos="100000">
                  <a:srgbClr val="bc4064"/>
                </a:gs>
              </a:gsLst>
              <a:lin ang="2700000"/>
            </a:gradFill>
            <a:ln w="0">
              <a:solidFill>
                <a:srgbClr val="ff4343"/>
              </a:solidFill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硕士</c:v>
                </c:pt>
                <c:pt idx="1">
                  <c:v>本科</c:v>
                </c:pt>
                <c:pt idx="2">
                  <c:v>大专</c:v>
                </c:pt>
                <c:pt idx="3">
                  <c:v>中专</c:v>
                </c:pt>
                <c:pt idx="4">
                  <c:v>高中</c:v>
                </c:pt>
                <c:pt idx="5">
                  <c:v>初中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0">
                  <c:v>0</c:v>
                </c:pt>
                <c:pt idx="1">
                  <c:v>12</c:v>
                </c:pt>
                <c:pt idx="2">
                  <c:v>11</c:v>
                </c:pt>
                <c:pt idx="3">
                  <c:v>5</c:v>
                </c:pt>
                <c:pt idx="4">
                  <c:v>8</c:v>
                </c:pt>
                <c:pt idx="5">
                  <c:v>0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员工</c:v>
                </c:pt>
              </c:strCache>
            </c:strRef>
          </c:tx>
          <c:spPr>
            <a:gradFill>
              <a:gsLst>
                <a:gs pos="0">
                  <a:srgbClr val="568129"/>
                </a:gs>
                <a:gs pos="100000">
                  <a:srgbClr val="7bb73b"/>
                </a:gs>
              </a:gsLst>
              <a:lin ang="2700000"/>
            </a:gra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硕士</c:v>
                </c:pt>
                <c:pt idx="1">
                  <c:v>本科</c:v>
                </c:pt>
                <c:pt idx="2">
                  <c:v>大专</c:v>
                </c:pt>
                <c:pt idx="3">
                  <c:v>中专</c:v>
                </c:pt>
                <c:pt idx="4">
                  <c:v>高中</c:v>
                </c:pt>
                <c:pt idx="5">
                  <c:v>初中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6"/>
                <c:pt idx="0">
                  <c:v>0</c:v>
                </c:pt>
                <c:pt idx="1">
                  <c:v>28</c:v>
                </c:pt>
                <c:pt idx="2">
                  <c:v>95</c:v>
                </c:pt>
                <c:pt idx="3">
                  <c:v>41</c:v>
                </c:pt>
                <c:pt idx="4">
                  <c:v>54</c:v>
                </c:pt>
                <c:pt idx="5">
                  <c:v>21</c:v>
                </c:pt>
              </c:numCache>
            </c:numRef>
          </c:val>
        </c:ser>
        <c:gapWidth val="48"/>
        <c:overlap val="0"/>
        <c:axId val="18520094"/>
        <c:axId val="34721062"/>
      </c:barChart>
      <c:catAx>
        <c:axId val="18520094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721062"/>
        <c:crosses val="autoZero"/>
        <c:auto val="1"/>
        <c:lblAlgn val="ctr"/>
        <c:lblOffset val="100"/>
        <c:noMultiLvlLbl val="0"/>
      </c:catAx>
      <c:valAx>
        <c:axId val="34721062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18520094"/>
        <c:crosses val="autoZero"/>
        <c:crossBetween val="between"/>
      </c:valAx>
      <c:dTable>
        <c:showHorzBorder val="1"/>
        <c:showVertBorder val="1"/>
        <c:showOutline val="1"/>
      </c:dTable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50"/>
      <c:rotY val="130"/>
      <c:rAngAx val="0"/>
      <c:perspective val="8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560102641242313"/>
          <c:y val="0.0827550182822178"/>
          <c:w val="0.839357607397248"/>
          <c:h val="0.811357361390941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人数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ffc000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d6567b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bfbfbf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ffff00"/>
              </a:solidFill>
              <a:ln w="0">
                <a:noFill/>
              </a:ln>
            </c:spPr>
          </c:dPt>
          <c:dPt>
            <c:idx val="4"/>
            <c:explosion val="25"/>
            <c:spPr>
              <a:solidFill>
                <a:srgbClr val="c00000"/>
              </a:solidFill>
              <a:ln w="0">
                <a:noFill/>
              </a:ln>
            </c:spPr>
          </c:dPt>
          <c:dPt>
            <c:idx val="5"/>
            <c:explosion val="25"/>
            <c:spPr>
              <a:solidFill>
                <a:srgbClr val="dc853e"/>
              </a:solidFill>
              <a:ln w="0">
                <a:noFill/>
              </a:ln>
            </c:spPr>
          </c:dPt>
          <c:dPt>
            <c:idx val="6"/>
            <c:explosion val="25"/>
            <c:spPr>
              <a:solidFill>
                <a:srgbClr val="95b3d7"/>
              </a:solidFill>
              <a:ln w="0">
                <a:noFill/>
              </a:ln>
            </c:spPr>
          </c:dPt>
          <c:dPt>
            <c:idx val="7"/>
            <c:explosion val="25"/>
            <c:spPr>
              <a:solidFill>
                <a:srgbClr val="ff4343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595959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8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1</a:t>
                    </a:r>
                    <a:r>
                      <a:rPr b="0" sz="18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年</a:t>
                    </a:r>
                    <a:r>
                      <a:rPr b="0" sz="18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以下</a:t>
                    </a:r>
                  </a:p>
                  <a:p>
                    <a:r>
                      <a:rPr b="0" lang="en-US" sz="18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127</a:t>
                    </a:r>
                    <a:r>
                      <a:rPr b="0" sz="18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人， </a:t>
                    </a:r>
                    <a:r>
                      <a:rPr b="0" lang="en-US" sz="18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45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numFmt formatCode="General" sourceLinked="1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595959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-2</a:t>
                    </a:r>
                    <a:r>
                      <a:rPr b="0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年</a:t>
                    </a: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69</a:t>
                    </a:r>
                    <a:r>
                      <a:rPr b="0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 </a:t>
                    </a:r>
                  </a:p>
                  <a:p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24</a:t>
                    </a: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2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2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至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年 </a:t>
                    </a:r>
                  </a:p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6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13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3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595959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3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至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5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年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14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5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4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595959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5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至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7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年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7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2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5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595959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7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至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9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年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12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4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6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595959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9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至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10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年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11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4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7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595959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10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年以上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9</a:t>
                    </a:r>
                    <a:r>
                      <a:rPr b="0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3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8"/>
                <c:pt idx="0">
                  <c:v>1年以下</c:v>
                </c:pt>
                <c:pt idx="1">
                  <c:v>1-2年</c:v>
                </c:pt>
                <c:pt idx="2">
                  <c:v>2至3年</c:v>
                </c:pt>
                <c:pt idx="3">
                  <c:v>3至5年</c:v>
                </c:pt>
                <c:pt idx="4">
                  <c:v>5至7年</c:v>
                </c:pt>
                <c:pt idx="5">
                  <c:v>7至9年</c:v>
                </c:pt>
                <c:pt idx="6">
                  <c:v>9至10年</c:v>
                </c:pt>
                <c:pt idx="7">
                  <c:v>10年以上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127</c:v>
                </c:pt>
                <c:pt idx="1">
                  <c:v>69</c:v>
                </c:pt>
                <c:pt idx="2">
                  <c:v>36</c:v>
                </c:pt>
                <c:pt idx="3">
                  <c:v>14</c:v>
                </c:pt>
                <c:pt idx="4">
                  <c:v>7</c:v>
                </c:pt>
                <c:pt idx="5">
                  <c:v>12</c:v>
                </c:pt>
                <c:pt idx="6">
                  <c:v>11</c:v>
                </c:pt>
                <c:pt idx="7">
                  <c:v>9</c:v>
                </c:pt>
              </c:numCache>
            </c:numRef>
          </c:val>
        </c:ser>
      </c:pie3DChart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layout>
        <c:manualLayout>
          <c:layoutTarget val="inner"/>
          <c:xMode val="edge"/>
          <c:yMode val="edge"/>
          <c:x val="0.0859708101016727"/>
          <c:y val="0.0289039918756347"/>
          <c:w val="0.913988192850115"/>
          <c:h val="0.598703226310445"/>
        </c:manualLayout>
      </c:layout>
      <c:bar3D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经理级及以上</c:v>
                </c:pt>
              </c:strCache>
            </c:strRef>
          </c:tx>
          <c:spPr>
            <a:solidFill>
              <a:srgbClr val="ffc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1年以下</c:v>
                </c:pt>
                <c:pt idx="1">
                  <c:v>1-2年</c:v>
                </c:pt>
                <c:pt idx="2">
                  <c:v>2至3年</c:v>
                </c:pt>
                <c:pt idx="3">
                  <c:v>3至5年</c:v>
                </c:pt>
                <c:pt idx="4">
                  <c:v>5至7年</c:v>
                </c:pt>
                <c:pt idx="5">
                  <c:v>7至9年</c:v>
                </c:pt>
                <c:pt idx="6">
                  <c:v>9至10年</c:v>
                </c:pt>
                <c:pt idx="7">
                  <c:v>10年以上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8</c:v>
                </c:pt>
                <c:pt idx="1">
                  <c:v>2</c:v>
                </c:pt>
                <c:pt idx="2">
                  <c:v>4</c:v>
                </c:pt>
                <c:pt idx="3">
                  <c:v>1</c:v>
                </c:pt>
                <c:pt idx="4">
                  <c:v>3</c:v>
                </c:pt>
                <c:pt idx="5">
                  <c:v>3</c:v>
                </c:pt>
                <c:pt idx="6">
                  <c:v>5</c:v>
                </c:pt>
                <c:pt idx="7">
                  <c:v>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主管</c:v>
                </c:pt>
              </c:strCache>
            </c:strRef>
          </c:tx>
          <c:spPr>
            <a:solidFill>
              <a:srgbClr val="ff4343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1年以下</c:v>
                </c:pt>
                <c:pt idx="1">
                  <c:v>1-2年</c:v>
                </c:pt>
                <c:pt idx="2">
                  <c:v>2至3年</c:v>
                </c:pt>
                <c:pt idx="3">
                  <c:v>3至5年</c:v>
                </c:pt>
                <c:pt idx="4">
                  <c:v>5至7年</c:v>
                </c:pt>
                <c:pt idx="5">
                  <c:v>7至9年</c:v>
                </c:pt>
                <c:pt idx="6">
                  <c:v>9至10年</c:v>
                </c:pt>
                <c:pt idx="7">
                  <c:v>10年以上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9</c:v>
                </c:pt>
                <c:pt idx="1">
                  <c:v>12</c:v>
                </c:pt>
                <c:pt idx="2">
                  <c:v>4</c:v>
                </c:pt>
                <c:pt idx="3">
                  <c:v>2</c:v>
                </c:pt>
                <c:pt idx="4">
                  <c:v>3</c:v>
                </c:pt>
                <c:pt idx="5">
                  <c:v>2</c:v>
                </c:pt>
                <c:pt idx="6">
                  <c:v>2</c:v>
                </c:pt>
                <c:pt idx="7">
                  <c:v>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员工</c:v>
                </c:pt>
              </c:strCache>
            </c:strRef>
          </c:tx>
          <c:spPr>
            <a:gradFill>
              <a:gsLst>
                <a:gs pos="0">
                  <a:srgbClr val="568129"/>
                </a:gs>
                <a:gs pos="100000">
                  <a:srgbClr val="7bb73b"/>
                </a:gs>
              </a:gsLst>
              <a:lin ang="2700000"/>
            </a:gra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8"/>
                <c:pt idx="0">
                  <c:v>1年以下</c:v>
                </c:pt>
                <c:pt idx="1">
                  <c:v>1-2年</c:v>
                </c:pt>
                <c:pt idx="2">
                  <c:v>2至3年</c:v>
                </c:pt>
                <c:pt idx="3">
                  <c:v>3至5年</c:v>
                </c:pt>
                <c:pt idx="4">
                  <c:v>5至7年</c:v>
                </c:pt>
                <c:pt idx="5">
                  <c:v>7至9年</c:v>
                </c:pt>
                <c:pt idx="6">
                  <c:v>9至10年</c:v>
                </c:pt>
                <c:pt idx="7">
                  <c:v>10年以上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8"/>
                <c:pt idx="0">
                  <c:v>110</c:v>
                </c:pt>
                <c:pt idx="1">
                  <c:v>55</c:v>
                </c:pt>
                <c:pt idx="2">
                  <c:v>28</c:v>
                </c:pt>
                <c:pt idx="3">
                  <c:v>11</c:v>
                </c:pt>
                <c:pt idx="4">
                  <c:v>1</c:v>
                </c:pt>
                <c:pt idx="5">
                  <c:v>7</c:v>
                </c:pt>
                <c:pt idx="6">
                  <c:v>4</c:v>
                </c:pt>
                <c:pt idx="7">
                  <c:v>1</c:v>
                </c:pt>
              </c:numCache>
            </c:numRef>
          </c:val>
        </c:ser>
        <c:gapWidth val="40"/>
        <c:shape val="box"/>
        <c:axId val="63916336"/>
        <c:axId val="80627675"/>
        <c:axId val="0"/>
      </c:bar3DChart>
      <c:catAx>
        <c:axId val="63916336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627675"/>
        <c:crosses val="autoZero"/>
        <c:auto val="1"/>
        <c:lblAlgn val="ctr"/>
        <c:lblOffset val="100"/>
        <c:noMultiLvlLbl val="0"/>
      </c:catAx>
      <c:valAx>
        <c:axId val="80627675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916336"/>
        <c:crosses val="autoZero"/>
        <c:crossBetween val="between"/>
      </c:valAx>
      <c:dTable>
        <c:showHorzBorder val="1"/>
        <c:showVertBorder val="1"/>
        <c:showOutline val="1"/>
      </c:dTable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50"/>
      <c:rotY val="130"/>
      <c:rAngAx val="0"/>
      <c:perspective val="10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人数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gradFill>
                <a:gsLst>
                  <a:gs pos="0">
                    <a:srgbClr val="9f1f1f"/>
                  </a:gs>
                  <a:gs pos="100000">
                    <a:srgbClr val="e22c2c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1"/>
            <c:explosion val="25"/>
            <c:spPr>
              <a:gradFill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2"/>
            <c:explosion val="25"/>
            <c:spPr>
              <a:gradFill>
                <a:gsLst>
                  <a:gs pos="0">
                    <a:srgbClr val="842c46"/>
                  </a:gs>
                  <a:gs pos="100000">
                    <a:srgbClr val="bc4064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a6a6a6"/>
              </a:solidFill>
              <a:ln w="0">
                <a:noFill/>
              </a:ln>
            </c:spPr>
          </c:dPt>
          <c:dPt>
            <c:idx val="4"/>
            <c:explosion val="25"/>
            <c:spPr>
              <a:gradFill>
                <a:gsLst>
                  <a:gs pos="0">
                    <a:srgbClr val="9f8229"/>
                  </a:gs>
                  <a:gs pos="100000">
                    <a:srgbClr val="e1ba3a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5"/>
            <c:explosion val="25"/>
            <c:spPr>
              <a:gradFill>
                <a:gsLst>
                  <a:gs pos="0">
                    <a:srgbClr val="2f822a"/>
                  </a:gs>
                  <a:gs pos="100000">
                    <a:srgbClr val="43b93d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6"/>
            <c:explosion val="25"/>
            <c:spPr>
              <a:solidFill>
                <a:srgbClr val="95b3d7"/>
              </a:solidFill>
              <a:ln w="0">
                <a:noFill/>
              </a:ln>
            </c:spPr>
          </c:dPt>
          <c:dPt>
            <c:idx val="7"/>
            <c:explosion val="25"/>
            <c:spPr>
              <a:gradFill>
                <a:gsLst>
                  <a:gs pos="0">
                    <a:srgbClr val="979700"/>
                  </a:gs>
                  <a:gs pos="100000">
                    <a:srgbClr val="d6d600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8"/>
            <c:explosion val="25"/>
            <c:spPr>
              <a:solidFill>
                <a:srgbClr val="a6a6a6"/>
              </a:solidFill>
              <a:ln w="0">
                <a:noFill/>
              </a:ln>
            </c:spPr>
          </c:dPt>
          <c:dPt>
            <c:idx val="9"/>
            <c:explosion val="25"/>
            <c:spPr>
              <a:solidFill>
                <a:srgbClr val="92d050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8-22</a:t>
                    </a:r>
                    <a:r>
                      <a:rPr b="0" sz="16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</a:t>
                    </a:r>
                  </a:p>
                  <a:p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44</a:t>
                    </a:r>
                    <a:r>
                      <a:rPr b="0" sz="16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16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numFmt formatCode="General" sourceLinked="1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595959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6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22-25</a:t>
                    </a:r>
                    <a:r>
                      <a:rPr b="0" sz="16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岁 </a:t>
                    </a:r>
                  </a:p>
                  <a:p>
                    <a:r>
                      <a:rPr b="0" lang="en-US" sz="16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63</a:t>
                    </a:r>
                    <a:r>
                      <a:rPr b="0" sz="16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6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595959"/>
                        </a:solidFill>
                        <a:latin typeface="微软雅黑"/>
                        <a:ea typeface="微软雅黑"/>
                      </a:rPr>
                      <a:t>22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2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26-28</a:t>
                    </a:r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岁 </a:t>
                    </a:r>
                  </a:p>
                  <a:p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58</a:t>
                    </a:r>
                    <a:r>
                      <a:rPr b="0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20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3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28-30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 </a:t>
                    </a:r>
                  </a:p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27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</a:p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0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4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1-32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24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9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5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3—35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24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8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6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36—40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26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9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7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41—45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12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4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8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45—50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6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2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9"/>
              <c:numFmt formatCode="General" sourceLinked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defRPr>
                  </a:pPr>
                </a:p>
              </c:txPr>
              <c:tx>
                <c:rich>
                  <a:bodyPr/>
                  <a:p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岁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50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以上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1</a:t>
                    </a:r>
                    <a:r>
                      <a:rPr b="0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人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,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0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10"/>
                <c:pt idx="0">
                  <c:v>18-22</c:v>
                </c:pt>
                <c:pt idx="1">
                  <c:v>22-25</c:v>
                </c:pt>
                <c:pt idx="2">
                  <c:v>26-28</c:v>
                </c:pt>
                <c:pt idx="3">
                  <c:v>28-30</c:v>
                </c:pt>
                <c:pt idx="4">
                  <c:v>31-32</c:v>
                </c:pt>
                <c:pt idx="5">
                  <c:v>33—35</c:v>
                </c:pt>
                <c:pt idx="6">
                  <c:v>36—40</c:v>
                </c:pt>
                <c:pt idx="7">
                  <c:v>41—45</c:v>
                </c:pt>
                <c:pt idx="8">
                  <c:v>45—50</c:v>
                </c:pt>
                <c:pt idx="9">
                  <c:v>50以上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44</c:v>
                </c:pt>
                <c:pt idx="1">
                  <c:v>63</c:v>
                </c:pt>
                <c:pt idx="2">
                  <c:v>58</c:v>
                </c:pt>
                <c:pt idx="3">
                  <c:v>27</c:v>
                </c:pt>
                <c:pt idx="4">
                  <c:v>24</c:v>
                </c:pt>
                <c:pt idx="5">
                  <c:v>24</c:v>
                </c:pt>
                <c:pt idx="6">
                  <c:v>26</c:v>
                </c:pt>
                <c:pt idx="7">
                  <c:v>12</c:v>
                </c:pt>
                <c:pt idx="8">
                  <c:v>6</c:v>
                </c:pt>
                <c:pt idx="9">
                  <c:v>1</c:v>
                </c:pt>
              </c:numCache>
            </c:numRef>
          </c:val>
        </c:ser>
      </c:pie3DChart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836614173228347"/>
          <c:y val="0.116729226466475"/>
          <c:w val="0.899251968503937"/>
          <c:h val="0.57393096342091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经理级及以上</c:v>
                </c:pt>
              </c:strCache>
            </c:strRef>
          </c:tx>
          <c:spPr>
            <a:solidFill>
              <a:srgbClr val="ffc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18-22岁</c:v>
                </c:pt>
                <c:pt idx="1">
                  <c:v>22-25岁</c:v>
                </c:pt>
                <c:pt idx="2">
                  <c:v>26-28岁</c:v>
                </c:pt>
                <c:pt idx="3">
                  <c:v>28-30岁</c:v>
                </c:pt>
                <c:pt idx="4">
                  <c:v>31-32岁</c:v>
                </c:pt>
                <c:pt idx="5">
                  <c:v>33-35岁</c:v>
                </c:pt>
                <c:pt idx="6">
                  <c:v>36-40岁</c:v>
                </c:pt>
                <c:pt idx="7">
                  <c:v>41-45岁</c:v>
                </c:pt>
                <c:pt idx="8">
                  <c:v>45-50岁</c:v>
                </c:pt>
                <c:pt idx="9">
                  <c:v>50岁以上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0</c:v>
                </c:pt>
                <c:pt idx="1">
                  <c:v>0</c:v>
                </c:pt>
                <c:pt idx="2">
                  <c:v>5</c:v>
                </c:pt>
                <c:pt idx="3">
                  <c:v>5</c:v>
                </c:pt>
                <c:pt idx="4">
                  <c:v>8</c:v>
                </c:pt>
                <c:pt idx="5">
                  <c:v>3</c:v>
                </c:pt>
                <c:pt idx="6">
                  <c:v>8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主管</c:v>
                </c:pt>
              </c:strCache>
            </c:strRef>
          </c:tx>
          <c:spPr>
            <a:solidFill>
              <a:srgbClr val="d6567b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18-22岁</c:v>
                </c:pt>
                <c:pt idx="1">
                  <c:v>22-25岁</c:v>
                </c:pt>
                <c:pt idx="2">
                  <c:v>26-28岁</c:v>
                </c:pt>
                <c:pt idx="3">
                  <c:v>28-30岁</c:v>
                </c:pt>
                <c:pt idx="4">
                  <c:v>31-32岁</c:v>
                </c:pt>
                <c:pt idx="5">
                  <c:v>33-35岁</c:v>
                </c:pt>
                <c:pt idx="6">
                  <c:v>36-40岁</c:v>
                </c:pt>
                <c:pt idx="7">
                  <c:v>41-45岁</c:v>
                </c:pt>
                <c:pt idx="8">
                  <c:v>45-50岁</c:v>
                </c:pt>
                <c:pt idx="9">
                  <c:v>50岁以上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0"/>
                <c:pt idx="0">
                  <c:v>2</c:v>
                </c:pt>
                <c:pt idx="1">
                  <c:v>4</c:v>
                </c:pt>
                <c:pt idx="2">
                  <c:v>11</c:v>
                </c:pt>
                <c:pt idx="3">
                  <c:v>3</c:v>
                </c:pt>
                <c:pt idx="4">
                  <c:v>2</c:v>
                </c:pt>
                <c:pt idx="5">
                  <c:v>4</c:v>
                </c:pt>
                <c:pt idx="6">
                  <c:v>6</c:v>
                </c:pt>
                <c:pt idx="7">
                  <c:v>3</c:v>
                </c:pt>
                <c:pt idx="8">
                  <c:v>1</c:v>
                </c:pt>
                <c:pt idx="9">
                  <c:v>0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员工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18-22岁</c:v>
                </c:pt>
                <c:pt idx="1">
                  <c:v>22-25岁</c:v>
                </c:pt>
                <c:pt idx="2">
                  <c:v>26-28岁</c:v>
                </c:pt>
                <c:pt idx="3">
                  <c:v>28-30岁</c:v>
                </c:pt>
                <c:pt idx="4">
                  <c:v>31-32岁</c:v>
                </c:pt>
                <c:pt idx="5">
                  <c:v>33-35岁</c:v>
                </c:pt>
                <c:pt idx="6">
                  <c:v>36-40岁</c:v>
                </c:pt>
                <c:pt idx="7">
                  <c:v>41-45岁</c:v>
                </c:pt>
                <c:pt idx="8">
                  <c:v>45-50岁</c:v>
                </c:pt>
                <c:pt idx="9">
                  <c:v>50岁以上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0"/>
                <c:pt idx="0">
                  <c:v>42</c:v>
                </c:pt>
                <c:pt idx="1">
                  <c:v>59</c:v>
                </c:pt>
                <c:pt idx="2">
                  <c:v>42</c:v>
                </c:pt>
                <c:pt idx="3">
                  <c:v>19</c:v>
                </c:pt>
                <c:pt idx="4">
                  <c:v>14</c:v>
                </c:pt>
                <c:pt idx="5">
                  <c:v>17</c:v>
                </c:pt>
                <c:pt idx="6">
                  <c:v>12</c:v>
                </c:pt>
                <c:pt idx="7">
                  <c:v>6</c:v>
                </c:pt>
                <c:pt idx="8">
                  <c:v>5</c:v>
                </c:pt>
                <c:pt idx="9">
                  <c:v>1</c:v>
                </c:pt>
              </c:numCache>
            </c:numRef>
          </c:val>
        </c:ser>
        <c:gapWidth val="26"/>
        <c:overlap val="0"/>
        <c:axId val="40863331"/>
        <c:axId val="93351134"/>
      </c:barChart>
      <c:catAx>
        <c:axId val="40863331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351134"/>
        <c:crosses val="autoZero"/>
        <c:auto val="1"/>
        <c:lblAlgn val="ctr"/>
        <c:lblOffset val="100"/>
        <c:noMultiLvlLbl val="0"/>
      </c:catAx>
      <c:valAx>
        <c:axId val="93351134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863331"/>
        <c:crosses val="autoZero"/>
        <c:crossBetween val="between"/>
      </c:valAx>
      <c:dTable>
        <c:showHorzBorder val="1"/>
        <c:showVertBorder val="1"/>
        <c:showOutline val="1"/>
      </c:dTable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EA3135-2B79-48D3-9B1B-3F1769194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DB036B-509C-4BE3-ABCE-6D3D3991D31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E2B769-A481-4E4F-A997-D87FBE20C3E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DECDC4-D3AC-4CB6-8CC0-4FE0B4BABA6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BA3BED-4474-45ED-814D-0F594406975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E03-5AAA-48D0-9D32-898DD260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2FE-FF78-4650-9FC0-EFC680BF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F9E4-B0EA-4680-A8AB-2E9D6BCA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DEA-1AB4-4BB9-A535-D143977B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4A6-2E13-4E0E-A3D7-62789FC6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978-513B-4747-A13D-E654BBE4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B13-E8FF-4DDD-BA7A-5F9DCABD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7744-8F2D-4ECE-A9DB-2848BEF7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E90-A6D1-455F-8A6F-0A01A07F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ECF-D4BA-4FA2-91C6-33B6C385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B78D-008B-47E8-B0A7-534F3A71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8CA-ED65-4597-8D30-F0325063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09FF4F-9118-4E73-A049-5B050BAAE8D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1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9"/>
          <p:cNvSpPr/>
          <p:nvPr/>
        </p:nvSpPr>
        <p:spPr>
          <a:xfrm>
            <a:off x="395640" y="1261080"/>
            <a:ext cx="532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深圳区域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在职人数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85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88.198.60.17/images/fresh-icons/mac-5.png"/>
          <p:cNvPicPr/>
          <p:nvPr/>
        </p:nvPicPr>
        <p:blipFill>
          <a:blip r:embed="rId1"/>
          <a:stretch/>
        </p:blipFill>
        <p:spPr>
          <a:xfrm>
            <a:off x="22320" y="5076720"/>
            <a:ext cx="1420560" cy="138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图表 2"/>
          <p:cNvGraphicFramePr/>
          <p:nvPr/>
        </p:nvGraphicFramePr>
        <p:xfrm>
          <a:off x="1187640" y="1917000"/>
          <a:ext cx="6984360" cy="3628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50" name="矩形 1"/>
          <p:cNvSpPr/>
          <p:nvPr/>
        </p:nvSpPr>
        <p:spPr>
          <a:xfrm>
            <a:off x="2279880" y="26064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人员结构状况图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图表 3"/>
          <p:cNvGraphicFramePr/>
          <p:nvPr/>
        </p:nvGraphicFramePr>
        <p:xfrm>
          <a:off x="539640" y="1772640"/>
          <a:ext cx="7992360" cy="4479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74" name="TextBox 5"/>
          <p:cNvSpPr/>
          <p:nvPr/>
        </p:nvSpPr>
        <p:spPr>
          <a:xfrm>
            <a:off x="362160" y="347400"/>
            <a:ext cx="154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案例分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257760" y="6093360"/>
            <a:ext cx="6762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三部门共５９人，其中女员工５４人，占总员工比例１９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539640" y="980640"/>
            <a:ext cx="5760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财务中心、客服中心、接单中心女员工年龄状况分布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图表 3"/>
          <p:cNvGraphicFramePr/>
          <p:nvPr/>
        </p:nvGraphicFramePr>
        <p:xfrm>
          <a:off x="107640" y="1628640"/>
          <a:ext cx="8928720" cy="453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78" name="矩形 4"/>
          <p:cNvSpPr/>
          <p:nvPr/>
        </p:nvSpPr>
        <p:spPr>
          <a:xfrm>
            <a:off x="539640" y="473040"/>
            <a:ext cx="6552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财务中心、客服中心、接单中心女员工年龄与婚姻状况分布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95640" y="1261080"/>
            <a:ext cx="532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深圳区域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在职人数婚姻状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88.198.60.17/images/fresh-icons/mac-5.png"/>
          <p:cNvPicPr/>
          <p:nvPr/>
        </p:nvPicPr>
        <p:blipFill>
          <a:blip r:embed="rId1"/>
          <a:stretch/>
        </p:blipFill>
        <p:spPr>
          <a:xfrm>
            <a:off x="22320" y="5076720"/>
            <a:ext cx="1420560" cy="138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图表 2"/>
          <p:cNvGraphicFramePr/>
          <p:nvPr/>
        </p:nvGraphicFramePr>
        <p:xfrm>
          <a:off x="1187640" y="2061000"/>
          <a:ext cx="6984360" cy="424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4"/>
          <p:cNvSpPr/>
          <p:nvPr/>
        </p:nvSpPr>
        <p:spPr>
          <a:xfrm>
            <a:off x="395640" y="548640"/>
            <a:ext cx="5832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11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员工来源与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10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相比，趋向多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96000" y="6008040"/>
            <a:ext cx="5184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同比，广东省减少了</a:t>
            </a:r>
            <a:r>
              <a:rPr b="0" i="1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5%</a:t>
            </a:r>
            <a:r>
              <a:rPr b="0" i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，湖南减少</a:t>
            </a:r>
            <a:r>
              <a:rPr b="0" i="1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2%</a:t>
            </a:r>
            <a:r>
              <a:rPr b="0" i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图表 7"/>
          <p:cNvGraphicFramePr/>
          <p:nvPr/>
        </p:nvGraphicFramePr>
        <p:xfrm>
          <a:off x="683640" y="1268640"/>
          <a:ext cx="7848360" cy="4739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280800" y="722160"/>
            <a:ext cx="576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深圳区域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人员学历状况分布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280800" y="5760000"/>
            <a:ext cx="839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度共</a:t>
            </a:r>
            <a:r>
              <a:rPr b="0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285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人，同比增加了</a:t>
            </a:r>
            <a:r>
              <a:rPr b="0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69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人，大专或以上学历比例占５４</a:t>
            </a:r>
            <a:r>
              <a:rPr b="0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%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；较去年提高了８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图表 4"/>
          <p:cNvGraphicFramePr/>
          <p:nvPr/>
        </p:nvGraphicFramePr>
        <p:xfrm>
          <a:off x="827640" y="1412640"/>
          <a:ext cx="7128360" cy="396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395640" y="620640"/>
            <a:ext cx="6720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深圳区域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各层级人员学历状况分布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图表 5"/>
          <p:cNvGraphicFramePr/>
          <p:nvPr/>
        </p:nvGraphicFramePr>
        <p:xfrm>
          <a:off x="179640" y="1628640"/>
          <a:ext cx="8568720" cy="475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6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6"/>
          <p:cNvSpPr/>
          <p:nvPr/>
        </p:nvSpPr>
        <p:spPr>
          <a:xfrm>
            <a:off x="323640" y="518760"/>
            <a:ext cx="568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深圳区域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年人员工龄状况分布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图表 3"/>
          <p:cNvGraphicFramePr/>
          <p:nvPr/>
        </p:nvGraphicFramePr>
        <p:xfrm>
          <a:off x="323640" y="1484640"/>
          <a:ext cx="8136720" cy="482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6"/>
          <p:cNvSpPr/>
          <p:nvPr/>
        </p:nvSpPr>
        <p:spPr>
          <a:xfrm>
            <a:off x="323640" y="518760"/>
            <a:ext cx="662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深圳区域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年各层级人员工龄状况分布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图表 7"/>
          <p:cNvGraphicFramePr/>
          <p:nvPr/>
        </p:nvGraphicFramePr>
        <p:xfrm>
          <a:off x="0" y="1484640"/>
          <a:ext cx="8780760" cy="460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图表 3"/>
          <p:cNvGraphicFramePr/>
          <p:nvPr/>
        </p:nvGraphicFramePr>
        <p:xfrm>
          <a:off x="323640" y="1556640"/>
          <a:ext cx="7704360" cy="439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69" name="TextBox 4"/>
          <p:cNvSpPr/>
          <p:nvPr/>
        </p:nvSpPr>
        <p:spPr>
          <a:xfrm>
            <a:off x="323640" y="620640"/>
            <a:ext cx="568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深圳区域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年员工年龄状况分布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1045800" y="5924160"/>
            <a:ext cx="3528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员工平均年龄</a:t>
            </a:r>
            <a:r>
              <a:rPr b="1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28.74</a:t>
            </a: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图表 3"/>
          <p:cNvGraphicFramePr/>
          <p:nvPr/>
        </p:nvGraphicFramePr>
        <p:xfrm>
          <a:off x="0" y="836640"/>
          <a:ext cx="9143640" cy="4890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72" name="TextBox 4"/>
          <p:cNvSpPr/>
          <p:nvPr/>
        </p:nvSpPr>
        <p:spPr>
          <a:xfrm>
            <a:off x="315360" y="404640"/>
            <a:ext cx="6207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深圳区域</a:t>
            </a:r>
            <a:r>
              <a:rPr b="0" lang="en-US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011</a:t>
            </a: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年各层级人员年龄状况分布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  <Words>573</Words>
  <Paragraphs>88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08:16:37Z</dcterms:created>
  <dc:creator>刘铁强</dc:creator>
  <dc:description/>
  <dc:language>en-US</dc:language>
  <cp:lastModifiedBy>王玉清</cp:lastModifiedBy>
  <dcterms:modified xsi:type="dcterms:W3CDTF">2016-02-24T03:41:38Z</dcterms:modified>
  <cp:revision>1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全屏显示(4:3)</vt:lpwstr>
  </property>
  <property fmtid="{D5CDD505-2E9C-101B-9397-08002B2CF9AE}" pid="4" name="Slides">
    <vt:r8>11</vt:r8>
  </property>
</Properties>
</file>