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32BA-A8D1-4B4F-A46E-D13D6BA53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F4B3-A2D0-45E0-9EE9-088BE1DD8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4E8C-A27E-470D-A363-D94134592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65C9-57B6-4271-98F1-39966DA5A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000" y="11556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3448D-7746-41DC-954D-D40C211F6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F28D-5F9C-4DED-8E39-488CD20E5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9260-156F-4EB6-AE61-B9BE9BF92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DB2A-A714-427F-A104-65D25E21A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11556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B73E-ACB9-4A98-BCA8-A581F6BC2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06F7-6F9F-4210-889F-31D1D6530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C737-DCEE-44F6-8DF3-1D4A9616C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A14E-3281-4164-8613-55C7DADF3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0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38000" y="63273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6F66276-AEB7-4B27-97D6-BDD5150B3334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7"/>
          <p:cNvSpPr/>
          <p:nvPr/>
        </p:nvSpPr>
        <p:spPr>
          <a:xfrm>
            <a:off x="7289640" y="33336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865080" y="4941720"/>
            <a:ext cx="2338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由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0" i="1" lang="zh-CN" sz="1400" spc="-1" strike="noStrike">
                <a:solidFill>
                  <a:srgbClr val="ffffff"/>
                </a:solidFill>
                <a:latin typeface="Arial"/>
              </a:rPr>
              <a:t>提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278160" y="393192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278160" y="2852280"/>
            <a:ext cx="5399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23800" y="27097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501336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2850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20B2-7448-4ABE-B9C9-8F01C07EC7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38:42Z</dcterms:modified>
  <cp:revision>2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