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C30-F061-4D6E-84D5-EE047A8C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49A-BF72-405C-AEA7-7ABC0D57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C64-AC4D-4396-9581-EDA2ADE4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B8B-9AF1-4B32-94CE-F8D24B5D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CEE-D4BE-472C-9A68-8C74066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02B-12D3-4D14-B2B9-372712E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981-5E6A-485C-91E6-B6FD5EA2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D53-2917-48BE-8EA8-BA73331B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1A4-732B-4723-ABC4-51FEE94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A43-AF47-4C20-8CAD-2961F0A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56D-EDDF-4054-A9C8-BC53692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B9C-D911-4DFB-BC2F-47F1853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395-7001-4681-98E7-1E88427463F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E5D-41E4-4D89-BB5C-100C99C162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4428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生日聚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AB4-E5C4-40F8-BC52-2E1B7812C05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占位符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-77904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372168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占位符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864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1468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1468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2864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464-92E1-4FE1-B286-D2EA2EF35B3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-65628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9"/>
          <p:cNvSpPr/>
          <p:nvPr/>
        </p:nvSpPr>
        <p:spPr>
          <a:xfrm>
            <a:off x="284400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894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2960" y="3567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2920" y="3567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42960" y="22143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2920" y="22143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3"/>
          <p:cNvSpPr/>
          <p:nvPr/>
        </p:nvSpPr>
        <p:spPr>
          <a:xfrm>
            <a:off x="1010880" y="407196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2A9-D5A9-4CC8-953B-6419BA9873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 http://www.eeppt.com</dc:creator>
  <dc:description/>
  <cp:keywords>幻灯片之家 http:/www.eeppt.com</cp:keywords>
  <dc:language>en-US</dc:language>
  <cp:lastModifiedBy/>
  <cp:lastPrinted>2411-12-30T00:00:00Z</cp:lastPrinted>
  <dcterms:modified xsi:type="dcterms:W3CDTF">2015-07-18T02:51:1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