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258-5DE3-4705-B95D-59DB88FE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15A-3D7B-40FD-80F2-917548C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D9B-2D6B-4D77-A151-280F7635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377-ACA3-4492-89FB-4BF0A3B5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91F-4654-476C-9BA5-9785ACB2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271-899C-46BC-AD7F-8F2229B5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CA2-5206-45AD-84E4-31D15DB0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D98-8300-44F7-A931-5E155566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755-0EEB-448F-AABC-E4D0B5F5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524-DC4D-4251-BF47-DB04B98C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EEE-8A89-458F-91C0-9C8AC2E5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067-98BD-4156-A466-897BD26C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627-C0C3-4494-BFF5-674298F55F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8360" y="4149720"/>
            <a:ext cx="738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时尚色彩商务运动品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85880" y="57880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7-25T02:33:05Z</dcterms:modified>
  <cp:revision>79</cp:revision>
  <dc:subject/>
  <dc:title>幻灯片 1</dc:title>
</cp:coreProperties>
</file>