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hdphoto1.wdp" ContentType="image/vnd.ms-photo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FA725EA-7C56-4D10-89CC-5AAE83810406}" type="doc">
      <dgm:prSet loTypeId="urn:microsoft.com/office/officeart/2005/8/layout/chevron1" loCatId="process" qsTypeId="urn:microsoft.com/office/officeart/2005/8/quickstyle/simple1" qsCatId="simple" csTypeId="urn:microsoft.com/office/officeart/2005/8/colors/accent1_2" csCatId="accent1" phldr="1"/>
      <dgm:spPr/>
    </dgm:pt>
    <dgm:pt modelId="{6E471411-8EB2-41E5-AC0A-7437BBEBBE20}">
      <dgm:prSet phldrT="[文本]" custT="1"/>
      <dgm:spPr>
        <a:solidFill>
          <a:srgbClr val="990000"/>
        </a:solidFill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简单尝试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378B6F1-FFFB-41F9-8D32-2C4B51FA7D73}" type="parTrans" cxnId="{9A6681D2-2147-43AC-8E90-58A839F8E185}">
      <dgm:prSet/>
      <dgm:spPr/>
      <dgm:t>
        <a:bodyPr/>
        <a:lstStyle/>
        <a:p>
          <a:endParaRPr lang="zh-CN" altLang="en-US"/>
        </a:p>
      </dgm:t>
    </dgm:pt>
    <dgm:pt modelId="{7463F929-B86D-41DF-A340-CB02ACB2F04E}" type="sibTrans" cxnId="{9A6681D2-2147-43AC-8E90-58A839F8E185}">
      <dgm:prSet/>
      <dgm:spPr/>
      <dgm:t>
        <a:bodyPr/>
        <a:lstStyle/>
        <a:p>
          <a:endParaRPr lang="zh-CN" altLang="en-US"/>
        </a:p>
      </dgm:t>
    </dgm:pt>
    <dgm:pt modelId="{83A4B115-B7E1-4363-8BB9-BC069AEBD6C6}">
      <dgm:prSet phldrT="[文本]" custT="1"/>
      <dgm:spPr>
        <a:solidFill>
          <a:srgbClr val="990000"/>
        </a:solidFill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发现差距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0D7987B8-DDA7-48EF-BA92-5CA6CC2D250C}" type="parTrans" cxnId="{75920322-1044-4DE8-B87C-89C560E509C1}">
      <dgm:prSet/>
      <dgm:spPr/>
      <dgm:t>
        <a:bodyPr/>
        <a:lstStyle/>
        <a:p>
          <a:endParaRPr lang="zh-CN" altLang="en-US"/>
        </a:p>
      </dgm:t>
    </dgm:pt>
    <dgm:pt modelId="{3437D4E9-2949-4ADA-866F-2C5C4BFE1E19}" type="sibTrans" cxnId="{75920322-1044-4DE8-B87C-89C560E509C1}">
      <dgm:prSet/>
      <dgm:spPr/>
      <dgm:t>
        <a:bodyPr/>
        <a:lstStyle/>
        <a:p>
          <a:endParaRPr lang="zh-CN" altLang="en-US"/>
        </a:p>
      </dgm:t>
    </dgm:pt>
    <dgm:pt modelId="{741B94B8-0BC8-4149-9C69-9CF50819FB9C}">
      <dgm:prSet phldrT="[文本]" custT="1"/>
      <dgm:spPr>
        <a:solidFill>
          <a:srgbClr val="990000"/>
        </a:solidFill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模仿作品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1654DC5-6788-4E6C-A94E-B4084A2DF21D}" type="parTrans" cxnId="{E71D9F6C-D473-4A9B-8E6F-3EA2E7ED0FA2}">
      <dgm:prSet/>
      <dgm:spPr/>
      <dgm:t>
        <a:bodyPr/>
        <a:lstStyle/>
        <a:p>
          <a:endParaRPr lang="zh-CN" altLang="en-US"/>
        </a:p>
      </dgm:t>
    </dgm:pt>
    <dgm:pt modelId="{F57D018A-9E49-4F5D-9419-43FDC5D12165}" type="sibTrans" cxnId="{E71D9F6C-D473-4A9B-8E6F-3EA2E7ED0FA2}">
      <dgm:prSet/>
      <dgm:spPr/>
      <dgm:t>
        <a:bodyPr/>
        <a:lstStyle/>
        <a:p>
          <a:endParaRPr lang="zh-CN" altLang="en-US"/>
        </a:p>
      </dgm:t>
    </dgm:pt>
    <dgm:pt modelId="{C1969F67-AF2B-44B7-B5D3-E0CAD456F235}">
      <dgm:prSet custT="1"/>
      <dgm:spPr>
        <a:solidFill>
          <a:srgbClr val="990000"/>
        </a:solidFill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求教高手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35E26DD-BC5A-4B8F-9207-C11A130331AF}" type="parTrans" cxnId="{8DC8D3B5-D107-4FB1-BD2E-87182277102C}">
      <dgm:prSet/>
      <dgm:spPr/>
      <dgm:t>
        <a:bodyPr/>
        <a:lstStyle/>
        <a:p>
          <a:endParaRPr lang="zh-CN" altLang="en-US"/>
        </a:p>
      </dgm:t>
    </dgm:pt>
    <dgm:pt modelId="{B1A8B6E5-9480-46F1-B661-F466E655ECF5}" type="sibTrans" cxnId="{8DC8D3B5-D107-4FB1-BD2E-87182277102C}">
      <dgm:prSet/>
      <dgm:spPr/>
      <dgm:t>
        <a:bodyPr/>
        <a:lstStyle/>
        <a:p>
          <a:endParaRPr lang="zh-CN" altLang="en-US"/>
        </a:p>
      </dgm:t>
    </dgm:pt>
    <dgm:pt modelId="{EFD6DFD3-757C-471D-98BB-8B051D89B6AC}" type="pres">
      <dgm:prSet presAssocID="{8FA725EA-7C56-4D10-89CC-5AAE83810406}" presName="Name0" presStyleCnt="0">
        <dgm:presLayoutVars>
          <dgm:dir/>
          <dgm:animLvl val="lvl"/>
          <dgm:resizeHandles val="exact"/>
        </dgm:presLayoutVars>
      </dgm:prSet>
      <dgm:spPr/>
    </dgm:pt>
    <dgm:pt modelId="{415404CA-0392-45F7-A02B-551BF4518A24}" type="pres">
      <dgm:prSet presAssocID="{6E471411-8EB2-41E5-AC0A-7437BBEBBE20}" presName="parTxOnly" presStyleLbl="node1" presStyleIdx="0" presStyleCnt="4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3884578-4AD5-4A46-B7DF-D337E21CFBFC}" type="pres">
      <dgm:prSet presAssocID="{7463F929-B86D-41DF-A340-CB02ACB2F04E}" presName="parTxOnlySpace" presStyleCnt="0"/>
      <dgm:spPr/>
    </dgm:pt>
    <dgm:pt modelId="{11E6B5BD-4D71-4A2E-B798-BF9CAD54B459}" type="pres">
      <dgm:prSet presAssocID="{83A4B115-B7E1-4363-8BB9-BC069AEBD6C6}" presName="parTxOnly" presStyleLbl="node1" presStyleIdx="1" presStyleCnt="4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3762BB0-B4FA-4C9D-ADB3-3BCBDD6077C1}" type="pres">
      <dgm:prSet presAssocID="{3437D4E9-2949-4ADA-866F-2C5C4BFE1E19}" presName="parTxOnlySpace" presStyleCnt="0"/>
      <dgm:spPr/>
    </dgm:pt>
    <dgm:pt modelId="{B5F48B62-80D6-41AE-950A-5CB0FE2011D0}" type="pres">
      <dgm:prSet presAssocID="{741B94B8-0BC8-4149-9C69-9CF50819FB9C}" presName="parTxOnly" presStyleLbl="node1" presStyleIdx="2" presStyleCnt="4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DC6054D-CCB7-4E36-A843-28F1F795D242}" type="pres">
      <dgm:prSet presAssocID="{F57D018A-9E49-4F5D-9419-43FDC5D12165}" presName="parTxOnlySpace" presStyleCnt="0"/>
      <dgm:spPr/>
    </dgm:pt>
    <dgm:pt modelId="{8903A7A7-BEDF-4647-BA18-7D3A99CBACD7}" type="pres">
      <dgm:prSet presAssocID="{C1969F67-AF2B-44B7-B5D3-E0CAD456F235}" presName="parTxOnly" presStyleLbl="node1" presStyleIdx="3" presStyleCnt="4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DB728036-3A91-4900-A2D8-03F2E4FBF45F}" type="presOf" srcId="{6E471411-8EB2-41E5-AC0A-7437BBEBBE20}" destId="{415404CA-0392-45F7-A02B-551BF4518A24}" srcOrd="0" destOrd="0" presId="urn:microsoft.com/office/officeart/2005/8/layout/chevron1"/>
    <dgm:cxn modelId="{9A6681D2-2147-43AC-8E90-58A839F8E185}" srcId="{8FA725EA-7C56-4D10-89CC-5AAE83810406}" destId="{6E471411-8EB2-41E5-AC0A-7437BBEBBE20}" srcOrd="0" destOrd="0" parTransId="{C378B6F1-FFFB-41F9-8D32-2C4B51FA7D73}" sibTransId="{7463F929-B86D-41DF-A340-CB02ACB2F04E}"/>
    <dgm:cxn modelId="{75920322-1044-4DE8-B87C-89C560E509C1}" srcId="{8FA725EA-7C56-4D10-89CC-5AAE83810406}" destId="{83A4B115-B7E1-4363-8BB9-BC069AEBD6C6}" srcOrd="1" destOrd="0" parTransId="{0D7987B8-DDA7-48EF-BA92-5CA6CC2D250C}" sibTransId="{3437D4E9-2949-4ADA-866F-2C5C4BFE1E19}"/>
    <dgm:cxn modelId="{7E5066AE-3B88-4F43-B53F-B48EFE4B862F}" type="presOf" srcId="{83A4B115-B7E1-4363-8BB9-BC069AEBD6C6}" destId="{11E6B5BD-4D71-4A2E-B798-BF9CAD54B459}" srcOrd="0" destOrd="0" presId="urn:microsoft.com/office/officeart/2005/8/layout/chevron1"/>
    <dgm:cxn modelId="{8DC8D3B5-D107-4FB1-BD2E-87182277102C}" srcId="{8FA725EA-7C56-4D10-89CC-5AAE83810406}" destId="{C1969F67-AF2B-44B7-B5D3-E0CAD456F235}" srcOrd="3" destOrd="0" parTransId="{535E26DD-BC5A-4B8F-9207-C11A130331AF}" sibTransId="{B1A8B6E5-9480-46F1-B661-F466E655ECF5}"/>
    <dgm:cxn modelId="{E71D9F6C-D473-4A9B-8E6F-3EA2E7ED0FA2}" srcId="{8FA725EA-7C56-4D10-89CC-5AAE83810406}" destId="{741B94B8-0BC8-4149-9C69-9CF50819FB9C}" srcOrd="2" destOrd="0" parTransId="{61654DC5-6788-4E6C-A94E-B4084A2DF21D}" sibTransId="{F57D018A-9E49-4F5D-9419-43FDC5D12165}"/>
    <dgm:cxn modelId="{059A41FB-489C-42F7-9A09-65A21E2D402B}" type="presOf" srcId="{C1969F67-AF2B-44B7-B5D3-E0CAD456F235}" destId="{8903A7A7-BEDF-4647-BA18-7D3A99CBACD7}" srcOrd="0" destOrd="0" presId="urn:microsoft.com/office/officeart/2005/8/layout/chevron1"/>
    <dgm:cxn modelId="{2EDACCD1-EB6C-4CE7-A0F9-C55C20D99E6A}" type="presOf" srcId="{8FA725EA-7C56-4D10-89CC-5AAE83810406}" destId="{EFD6DFD3-757C-471D-98BB-8B051D89B6AC}" srcOrd="0" destOrd="0" presId="urn:microsoft.com/office/officeart/2005/8/layout/chevron1"/>
    <dgm:cxn modelId="{1B92C93E-2982-47FE-9F8A-988E7270BABC}" type="presOf" srcId="{741B94B8-0BC8-4149-9C69-9CF50819FB9C}" destId="{B5F48B62-80D6-41AE-950A-5CB0FE2011D0}" srcOrd="0" destOrd="0" presId="urn:microsoft.com/office/officeart/2005/8/layout/chevron1"/>
    <dgm:cxn modelId="{02769AC3-681D-4D07-B3AD-976A2A3A89F7}" type="presParOf" srcId="{EFD6DFD3-757C-471D-98BB-8B051D89B6AC}" destId="{415404CA-0392-45F7-A02B-551BF4518A24}" srcOrd="0" destOrd="0" presId="urn:microsoft.com/office/officeart/2005/8/layout/chevron1"/>
    <dgm:cxn modelId="{880E2806-9FC2-4721-A9C9-7A4DA692ED79}" type="presParOf" srcId="{EFD6DFD3-757C-471D-98BB-8B051D89B6AC}" destId="{63884578-4AD5-4A46-B7DF-D337E21CFBFC}" srcOrd="1" destOrd="0" presId="urn:microsoft.com/office/officeart/2005/8/layout/chevron1"/>
    <dgm:cxn modelId="{502B803F-EC44-44ED-B6FA-9BBD9B6C94C7}" type="presParOf" srcId="{EFD6DFD3-757C-471D-98BB-8B051D89B6AC}" destId="{11E6B5BD-4D71-4A2E-B798-BF9CAD54B459}" srcOrd="2" destOrd="0" presId="urn:microsoft.com/office/officeart/2005/8/layout/chevron1"/>
    <dgm:cxn modelId="{7A0202B3-C9E2-4B5E-81C2-F2D5397C56FE}" type="presParOf" srcId="{EFD6DFD3-757C-471D-98BB-8B051D89B6AC}" destId="{D3762BB0-B4FA-4C9D-ADB3-3BCBDD6077C1}" srcOrd="3" destOrd="0" presId="urn:microsoft.com/office/officeart/2005/8/layout/chevron1"/>
    <dgm:cxn modelId="{7DED80BF-F670-4AB1-A304-BB4166C1F2BB}" type="presParOf" srcId="{EFD6DFD3-757C-471D-98BB-8B051D89B6AC}" destId="{B5F48B62-80D6-41AE-950A-5CB0FE2011D0}" srcOrd="4" destOrd="0" presId="urn:microsoft.com/office/officeart/2005/8/layout/chevron1"/>
    <dgm:cxn modelId="{94224868-B436-42FA-B6F6-4C15305120BB}" type="presParOf" srcId="{EFD6DFD3-757C-471D-98BB-8B051D89B6AC}" destId="{7DC6054D-CCB7-4E36-A843-28F1F795D242}" srcOrd="5" destOrd="0" presId="urn:microsoft.com/office/officeart/2005/8/layout/chevron1"/>
    <dgm:cxn modelId="{44CA11BB-C261-420D-B190-DCC03264DEEA}" type="presParOf" srcId="{EFD6DFD3-757C-471D-98BB-8B051D89B6AC}" destId="{8903A7A7-BEDF-4647-BA18-7D3A99CBACD7}" srcOrd="6" destOrd="0" presId="urn:microsoft.com/office/officeart/2005/8/layout/chevron1"/>
  </dgm:cxnLst>
  <dgm:bg/>
  <dgm:whole/>
  <dgm:extLst>
    <a:ext uri="http://schemas.microsoft.com/office/drawing/2008/diagram">
      <dsp:dataModelExt xmlns:dsp="http://schemas.microsoft.com/office/drawing/2008/diagram" relId="rId8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FA725EA-7C56-4D10-89CC-5AAE83810406}" type="doc">
      <dgm:prSet loTypeId="urn:microsoft.com/office/officeart/2005/8/layout/chevron1" loCatId="process" qsTypeId="urn:microsoft.com/office/officeart/2005/8/quickstyle/simple1" qsCatId="simple" csTypeId="urn:microsoft.com/office/officeart/2005/8/colors/accent1_2" csCatId="accent1" phldr="1"/>
      <dgm:spPr/>
    </dgm:pt>
    <dgm:pt modelId="{6E471411-8EB2-41E5-AC0A-7437BBEBBE20}">
      <dgm:prSet phldrT="[文本]" custT="1"/>
      <dgm:spPr>
        <a:solidFill>
          <a:srgbClr val="990000"/>
        </a:solidFill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反馈改进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378B6F1-FFFB-41F9-8D32-2C4B51FA7D73}" type="parTrans" cxnId="{9A6681D2-2147-43AC-8E90-58A839F8E185}">
      <dgm:prSet/>
      <dgm:spPr/>
      <dgm:t>
        <a:bodyPr/>
        <a:lstStyle/>
        <a:p>
          <a:endParaRPr lang="zh-CN" altLang="en-US"/>
        </a:p>
      </dgm:t>
    </dgm:pt>
    <dgm:pt modelId="{7463F929-B86D-41DF-A340-CB02ACB2F04E}" type="sibTrans" cxnId="{9A6681D2-2147-43AC-8E90-58A839F8E185}">
      <dgm:prSet/>
      <dgm:spPr/>
      <dgm:t>
        <a:bodyPr/>
        <a:lstStyle/>
        <a:p>
          <a:endParaRPr lang="zh-CN" altLang="en-US"/>
        </a:p>
      </dgm:t>
    </dgm:pt>
    <dgm:pt modelId="{83A4B115-B7E1-4363-8BB9-BC069AEBD6C6}">
      <dgm:prSet phldrT="[文本]" custT="1"/>
      <dgm:spPr>
        <a:solidFill>
          <a:srgbClr val="990000"/>
        </a:solidFill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分享心得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0D7987B8-DDA7-48EF-BA92-5CA6CC2D250C}" type="parTrans" cxnId="{75920322-1044-4DE8-B87C-89C560E509C1}">
      <dgm:prSet/>
      <dgm:spPr/>
      <dgm:t>
        <a:bodyPr/>
        <a:lstStyle/>
        <a:p>
          <a:endParaRPr lang="zh-CN" altLang="en-US"/>
        </a:p>
      </dgm:t>
    </dgm:pt>
    <dgm:pt modelId="{3437D4E9-2949-4ADA-866F-2C5C4BFE1E19}" type="sibTrans" cxnId="{75920322-1044-4DE8-B87C-89C560E509C1}">
      <dgm:prSet/>
      <dgm:spPr/>
      <dgm:t>
        <a:bodyPr/>
        <a:lstStyle/>
        <a:p>
          <a:endParaRPr lang="zh-CN" altLang="en-US"/>
        </a:p>
      </dgm:t>
    </dgm:pt>
    <dgm:pt modelId="{741B94B8-0BC8-4149-9C69-9CF50819FB9C}">
      <dgm:prSet phldrT="[文本]" custT="1"/>
      <dgm:spPr>
        <a:solidFill>
          <a:srgbClr val="990000"/>
        </a:solidFill>
        <a:ln>
          <a:solidFill>
            <a:srgbClr val="990000"/>
          </a:solidFill>
        </a:ln>
      </dgm:spPr>
      <dgm:t>
        <a:bodyPr/>
        <a:lstStyle/>
        <a:p>
          <a:r>
            <a:rPr lang="zh-CN" altLang="en-US" sz="20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形成风格</a:t>
          </a:r>
          <a:endParaRPr lang="zh-CN" altLang="en-US" sz="20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1654DC5-6788-4E6C-A94E-B4084A2DF21D}" type="parTrans" cxnId="{E71D9F6C-D473-4A9B-8E6F-3EA2E7ED0FA2}">
      <dgm:prSet/>
      <dgm:spPr/>
      <dgm:t>
        <a:bodyPr/>
        <a:lstStyle/>
        <a:p>
          <a:endParaRPr lang="zh-CN" altLang="en-US"/>
        </a:p>
      </dgm:t>
    </dgm:pt>
    <dgm:pt modelId="{F57D018A-9E49-4F5D-9419-43FDC5D12165}" type="sibTrans" cxnId="{E71D9F6C-D473-4A9B-8E6F-3EA2E7ED0FA2}">
      <dgm:prSet/>
      <dgm:spPr/>
      <dgm:t>
        <a:bodyPr/>
        <a:lstStyle/>
        <a:p>
          <a:endParaRPr lang="zh-CN" altLang="en-US"/>
        </a:p>
      </dgm:t>
    </dgm:pt>
    <dgm:pt modelId="{C1969F67-AF2B-44B7-B5D3-E0CAD456F235}">
      <dgm:prSet/>
      <dgm:spPr>
        <a:solidFill>
          <a:srgbClr val="990000"/>
        </a:solidFill>
        <a:ln>
          <a:solidFill>
            <a:srgbClr val="990000"/>
          </a:solidFill>
        </a:ln>
      </dgm:spPr>
      <dgm:t>
        <a:bodyPr/>
        <a:lstStyle/>
        <a:p>
          <a:r>
            <a:rPr lang="zh-CN" altLang="en-US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长期实践</a:t>
          </a:r>
          <a:endParaRPr lang="zh-CN" altLang="en-US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35E26DD-BC5A-4B8F-9207-C11A130331AF}" type="parTrans" cxnId="{8DC8D3B5-D107-4FB1-BD2E-87182277102C}">
      <dgm:prSet/>
      <dgm:spPr/>
      <dgm:t>
        <a:bodyPr/>
        <a:lstStyle/>
        <a:p>
          <a:endParaRPr lang="zh-CN" altLang="en-US"/>
        </a:p>
      </dgm:t>
    </dgm:pt>
    <dgm:pt modelId="{B1A8B6E5-9480-46F1-B661-F466E655ECF5}" type="sibTrans" cxnId="{8DC8D3B5-D107-4FB1-BD2E-87182277102C}">
      <dgm:prSet/>
      <dgm:spPr/>
      <dgm:t>
        <a:bodyPr/>
        <a:lstStyle/>
        <a:p>
          <a:endParaRPr lang="zh-CN" altLang="en-US"/>
        </a:p>
      </dgm:t>
    </dgm:pt>
    <dgm:pt modelId="{EFD6DFD3-757C-471D-98BB-8B051D89B6AC}" type="pres">
      <dgm:prSet presAssocID="{8FA725EA-7C56-4D10-89CC-5AAE83810406}" presName="Name0" presStyleCnt="0">
        <dgm:presLayoutVars>
          <dgm:dir/>
          <dgm:animLvl val="lvl"/>
          <dgm:resizeHandles val="exact"/>
        </dgm:presLayoutVars>
      </dgm:prSet>
      <dgm:spPr/>
    </dgm:pt>
    <dgm:pt modelId="{415404CA-0392-45F7-A02B-551BF4518A24}" type="pres">
      <dgm:prSet presAssocID="{6E471411-8EB2-41E5-AC0A-7437BBEBBE20}" presName="parTxOnly" presStyleLbl="node1" presStyleIdx="0" presStyleCnt="4" custFlipHor="1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3884578-4AD5-4A46-B7DF-D337E21CFBFC}" type="pres">
      <dgm:prSet presAssocID="{7463F929-B86D-41DF-A340-CB02ACB2F04E}" presName="parTxOnlySpace" presStyleCnt="0"/>
      <dgm:spPr/>
    </dgm:pt>
    <dgm:pt modelId="{11E6B5BD-4D71-4A2E-B798-BF9CAD54B459}" type="pres">
      <dgm:prSet presAssocID="{83A4B115-B7E1-4363-8BB9-BC069AEBD6C6}" presName="parTxOnly" presStyleLbl="node1" presStyleIdx="1" presStyleCnt="4" custFlipHor="1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3762BB0-B4FA-4C9D-ADB3-3BCBDD6077C1}" type="pres">
      <dgm:prSet presAssocID="{3437D4E9-2949-4ADA-866F-2C5C4BFE1E19}" presName="parTxOnlySpace" presStyleCnt="0"/>
      <dgm:spPr/>
    </dgm:pt>
    <dgm:pt modelId="{B5F48B62-80D6-41AE-950A-5CB0FE2011D0}" type="pres">
      <dgm:prSet presAssocID="{741B94B8-0BC8-4149-9C69-9CF50819FB9C}" presName="parTxOnly" presStyleLbl="node1" presStyleIdx="2" presStyleCnt="4" custFlipHor="1" custScaleY="86724" custLinFactNeighborY="-1839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DC6054D-CCB7-4E36-A843-28F1F795D242}" type="pres">
      <dgm:prSet presAssocID="{F57D018A-9E49-4F5D-9419-43FDC5D12165}" presName="parTxOnlySpace" presStyleCnt="0"/>
      <dgm:spPr/>
    </dgm:pt>
    <dgm:pt modelId="{8903A7A7-BEDF-4647-BA18-7D3A99CBACD7}" type="pres">
      <dgm:prSet presAssocID="{C1969F67-AF2B-44B7-B5D3-E0CAD456F235}" presName="parTxOnly" presStyleLbl="node1" presStyleIdx="3" presStyleCnt="4" custFlipHor="1" custScaleY="8672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9A6681D2-2147-43AC-8E90-58A839F8E185}" srcId="{8FA725EA-7C56-4D10-89CC-5AAE83810406}" destId="{6E471411-8EB2-41E5-AC0A-7437BBEBBE20}" srcOrd="0" destOrd="0" parTransId="{C378B6F1-FFFB-41F9-8D32-2C4B51FA7D73}" sibTransId="{7463F929-B86D-41DF-A340-CB02ACB2F04E}"/>
    <dgm:cxn modelId="{75920322-1044-4DE8-B87C-89C560E509C1}" srcId="{8FA725EA-7C56-4D10-89CC-5AAE83810406}" destId="{83A4B115-B7E1-4363-8BB9-BC069AEBD6C6}" srcOrd="1" destOrd="0" parTransId="{0D7987B8-DDA7-48EF-BA92-5CA6CC2D250C}" sibTransId="{3437D4E9-2949-4ADA-866F-2C5C4BFE1E19}"/>
    <dgm:cxn modelId="{4A487391-69A4-4CEF-A1EA-E50CEC26EBBB}" type="presOf" srcId="{741B94B8-0BC8-4149-9C69-9CF50819FB9C}" destId="{B5F48B62-80D6-41AE-950A-5CB0FE2011D0}" srcOrd="0" destOrd="0" presId="urn:microsoft.com/office/officeart/2005/8/layout/chevron1"/>
    <dgm:cxn modelId="{740D0520-EA53-4831-B2DF-76B494C1D485}" type="presOf" srcId="{6E471411-8EB2-41E5-AC0A-7437BBEBBE20}" destId="{415404CA-0392-45F7-A02B-551BF4518A24}" srcOrd="0" destOrd="0" presId="urn:microsoft.com/office/officeart/2005/8/layout/chevron1"/>
    <dgm:cxn modelId="{8DC8D3B5-D107-4FB1-BD2E-87182277102C}" srcId="{8FA725EA-7C56-4D10-89CC-5AAE83810406}" destId="{C1969F67-AF2B-44B7-B5D3-E0CAD456F235}" srcOrd="3" destOrd="0" parTransId="{535E26DD-BC5A-4B8F-9207-C11A130331AF}" sibTransId="{B1A8B6E5-9480-46F1-B661-F466E655ECF5}"/>
    <dgm:cxn modelId="{E71D9F6C-D473-4A9B-8E6F-3EA2E7ED0FA2}" srcId="{8FA725EA-7C56-4D10-89CC-5AAE83810406}" destId="{741B94B8-0BC8-4149-9C69-9CF50819FB9C}" srcOrd="2" destOrd="0" parTransId="{61654DC5-6788-4E6C-A94E-B4084A2DF21D}" sibTransId="{F57D018A-9E49-4F5D-9419-43FDC5D12165}"/>
    <dgm:cxn modelId="{236528B9-97E8-48CA-9A0E-FEB2AE37D530}" type="presOf" srcId="{C1969F67-AF2B-44B7-B5D3-E0CAD456F235}" destId="{8903A7A7-BEDF-4647-BA18-7D3A99CBACD7}" srcOrd="0" destOrd="0" presId="urn:microsoft.com/office/officeart/2005/8/layout/chevron1"/>
    <dgm:cxn modelId="{93A8E335-77F9-4AFB-AF08-97D73E1DB985}" type="presOf" srcId="{8FA725EA-7C56-4D10-89CC-5AAE83810406}" destId="{EFD6DFD3-757C-471D-98BB-8B051D89B6AC}" srcOrd="0" destOrd="0" presId="urn:microsoft.com/office/officeart/2005/8/layout/chevron1"/>
    <dgm:cxn modelId="{E84094B6-0D62-4AC2-A060-FC07DF00432B}" type="presOf" srcId="{83A4B115-B7E1-4363-8BB9-BC069AEBD6C6}" destId="{11E6B5BD-4D71-4A2E-B798-BF9CAD54B459}" srcOrd="0" destOrd="0" presId="urn:microsoft.com/office/officeart/2005/8/layout/chevron1"/>
    <dgm:cxn modelId="{AD102EF4-6C64-48C2-B767-10460457BB8B}" type="presParOf" srcId="{EFD6DFD3-757C-471D-98BB-8B051D89B6AC}" destId="{415404CA-0392-45F7-A02B-551BF4518A24}" srcOrd="0" destOrd="0" presId="urn:microsoft.com/office/officeart/2005/8/layout/chevron1"/>
    <dgm:cxn modelId="{7B60DE46-4C13-4935-96ED-841AEC760784}" type="presParOf" srcId="{EFD6DFD3-757C-471D-98BB-8B051D89B6AC}" destId="{63884578-4AD5-4A46-B7DF-D337E21CFBFC}" srcOrd="1" destOrd="0" presId="urn:microsoft.com/office/officeart/2005/8/layout/chevron1"/>
    <dgm:cxn modelId="{DFCE44E2-FBC8-464B-A067-873F376FD765}" type="presParOf" srcId="{EFD6DFD3-757C-471D-98BB-8B051D89B6AC}" destId="{11E6B5BD-4D71-4A2E-B798-BF9CAD54B459}" srcOrd="2" destOrd="0" presId="urn:microsoft.com/office/officeart/2005/8/layout/chevron1"/>
    <dgm:cxn modelId="{8E894C5A-7FA5-4309-8090-1D44CC1121CE}" type="presParOf" srcId="{EFD6DFD3-757C-471D-98BB-8B051D89B6AC}" destId="{D3762BB0-B4FA-4C9D-ADB3-3BCBDD6077C1}" srcOrd="3" destOrd="0" presId="urn:microsoft.com/office/officeart/2005/8/layout/chevron1"/>
    <dgm:cxn modelId="{5F95F022-FAA1-4726-91D3-1E10E1C10139}" type="presParOf" srcId="{EFD6DFD3-757C-471D-98BB-8B051D89B6AC}" destId="{B5F48B62-80D6-41AE-950A-5CB0FE2011D0}" srcOrd="4" destOrd="0" presId="urn:microsoft.com/office/officeart/2005/8/layout/chevron1"/>
    <dgm:cxn modelId="{DD2872C4-4D6A-4DFB-9DC4-30AF92EDA546}" type="presParOf" srcId="{EFD6DFD3-757C-471D-98BB-8B051D89B6AC}" destId="{7DC6054D-CCB7-4E36-A843-28F1F795D242}" srcOrd="5" destOrd="0" presId="urn:microsoft.com/office/officeart/2005/8/layout/chevron1"/>
    <dgm:cxn modelId="{AB500CA5-588F-40B1-9B46-EF4B7209ED8C}" type="presParOf" srcId="{EFD6DFD3-757C-471D-98BB-8B051D89B6AC}" destId="{8903A7A7-BEDF-4647-BA18-7D3A99CBACD7}" srcOrd="6" destOrd="0" presId="urn:microsoft.com/office/officeart/2005/8/layout/chevron1"/>
  </dgm:cxnLst>
  <dgm:bg>
    <a:noFill/>
  </dgm:bg>
  <dgm:whole/>
  <dgm:extLst>
    <a:ext uri="http://schemas.microsoft.com/office/drawing/2008/diagram">
      <dsp:dataModelExt xmlns:dsp="http://schemas.microsoft.com/office/drawing/2008/diagram" relId="rId13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1">
  <dgm:title val=""/>
  <dgm:desc val=""/>
  <dgm:catLst>
    <dgm:cat type="process" pri="9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des" func="maxDepth" op="gte" val="2">
        <dgm:constrLst>
          <dgm:constr type="h" for="ch" forName="composite" refType="h"/>
          <dgm:constr type="w" for="ch" forName="composite" refType="w"/>
          <dgm:constr type="w" for="des" forName="parTx"/>
          <dgm:constr type="h" for="des" forName="parTx" op="equ"/>
          <dgm:constr type="w" for="des" forName="desTx"/>
          <dgm:constr type="h" for="des" forName="desTx" op="equ"/>
          <dgm:constr type="primFontSz" for="des" forName="parTx" val="65"/>
          <dgm:constr type="secFontSz" for="des" forName="desTx" refType="primFontSz" refFor="des" refForName="parTx" op="equ"/>
          <dgm:constr type="h" for="des" forName="parTx" refType="primFontSz" refFor="des" refForName="parTx" fact="1.5"/>
          <dgm:constr type="h" for="des" forName="desTx" refType="primFontSz" refFor="des" refForName="parTx" fact="0.5"/>
          <dgm:constr type="w" for="ch" forName="space" op="equ" val="-6"/>
        </dgm:constrLst>
        <dgm:ruleLst>
          <dgm:rule type="w" for="ch" forName="composite" val="0" fact="NaN" max="NaN"/>
          <dgm:rule type="primFontSz" for="des" forName="parTx" val="5" fact="NaN" max="NaN"/>
        </dgm:ruleLst>
        <dgm:forEach name="Name6" axis="ch" ptType="node"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hoose name="Name7">
              <dgm:if name="Name8" func="var" arg="dir" op="equ" val="norm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if>
              <dgm:else name="Name9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 refType="w" fact="0.2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else>
            </dgm:choose>
            <dgm:ruleLst>
              <dgm:rule type="h" val="INF" fact="NaN" max="NaN"/>
            </dgm:ruleLst>
            <dgm:layoutNode name="parTx">
              <dgm:varLst>
                <dgm:chMax val="0"/>
                <dgm:chPref val="0"/>
                <dgm:bulletEnabled val="1"/>
              </dgm:varLst>
              <dgm:alg type="tx"/>
              <dgm:choose name="Name10">
                <dgm:if name="Name11" func="var" arg="dir" op="equ" val="norm">
                  <dgm:shape xmlns:r="http://schemas.openxmlformats.org/officeDocument/2006/relationships" type="chevron" r:blip="">
                    <dgm:adjLst/>
                  </dgm:shape>
                </dgm:if>
                <dgm:else name="Name12">
                  <dgm:shape xmlns:r="http://schemas.openxmlformats.org/officeDocument/2006/relationships" rot="180" type="chevron" r:blip="">
                    <dgm:adjLst/>
                  </dgm:shape>
                </dgm:else>
              </dgm:choose>
              <dgm:presOf axis="self" ptType="node"/>
              <dgm:choose name="Name13">
                <dgm:if name="Name14" func="var" arg="dir" op="equ" val="norm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315"/>
                    <dgm:constr type="rMarg" refType="primFontSz" fact="0.105"/>
                  </dgm:constrLst>
                </dgm:if>
                <dgm:else name="Name15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105"/>
                    <dgm:constr type="rMarg" refType="primFontSz" fact="0.315"/>
                  </dgm:constrLst>
                </dgm:else>
              </dgm:choose>
              <dgm:ruleLst>
                <dgm:rule type="h" val="INF" fact="NaN" max="NaN"/>
              </dgm:ruleLst>
            </dgm:layoutNode>
            <dgm:layoutNode name="desTx" styleLbl="revTx">
              <dgm:varLst>
                <dgm:bulletEnabled val="1"/>
              </dgm:varLst>
              <dgm:alg type="tx">
                <dgm:param type="stBulletLvl" val="1"/>
              </dgm:alg>
              <dgm:choose name="Name16">
                <dgm:if name="Name17" axis="ch" ptType="node" func="cnt" op="gte" val="1">
                  <dgm:shape xmlns:r="http://schemas.openxmlformats.org/officeDocument/2006/relationships" type="rect" r:blip="">
                    <dgm:adjLst/>
                  </dgm:shape>
                </dgm:if>
                <dgm:else name="Name18">
                  <dgm:shape xmlns:r="http://schemas.openxmlformats.org/officeDocument/2006/relationships" type="rect" r:blip="" hideGeom="1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h"/>
                <dgm:constr type="tMarg"/>
                <dgm:constr type="bMarg"/>
                <dgm:constr type="rMarg"/>
                <dgm:constr type="lMarg"/>
              </dgm:constrLst>
              <dgm:ruleLst>
                <dgm:rule type="h" val="INF" fact="NaN" max="NaN"/>
              </dgm:ruleLst>
            </dgm:layoutNode>
          </dgm:layoutNode>
          <dgm:forEach name="Name19" axis="followSib" ptType="sibTrans" cnt="1">
            <dgm:layoutNode name="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if>
      <dgm:else name="Name20">
        <dgm:constrLst>
          <dgm:constr type="w" for="ch" forName="parTxOnly" refType="w"/>
          <dgm:constr type="h" for="des" forName="parTxOnly" op="equ"/>
          <dgm:constr type="primFontSz" for="des" forName="parTxOnly" op="equ" val="65"/>
          <dgm:constr type="w" for="ch" forName="parTxOnlySpace" refType="w" refFor="ch" refForName="parTxOnly" fact="-0.1"/>
        </dgm:constrLst>
        <dgm:ruleLst/>
        <dgm:forEach name="Name21" axis="ch" ptType="node">
          <dgm:layoutNode name="parTxOnly">
            <dgm:varLst>
              <dgm:chMax val="0"/>
              <dgm:chPref val="0"/>
              <dgm:bulletEnabled val="1"/>
            </dgm:varLst>
            <dgm:alg type="tx"/>
            <dgm:choose name="Name22">
              <dgm:if name="Name23" func="var" arg="dir" op="equ" val="norm">
                <dgm:shape xmlns:r="http://schemas.openxmlformats.org/officeDocument/2006/relationships" type="chevron" r:blip="">
                  <dgm:adjLst/>
                </dgm:shape>
              </dgm:if>
              <dgm:else name="Name24">
                <dgm:shape xmlns:r="http://schemas.openxmlformats.org/officeDocument/2006/relationships" rot="180" type="chevron" r:blip="">
                  <dgm:adjLst/>
                </dgm:shape>
              </dgm:else>
            </dgm:choose>
            <dgm:presOf axis="self" ptType="node"/>
            <dgm:choose name="Name25">
              <dgm:if name="Name26" func="var" arg="dir" op="equ" val="norm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315"/>
                  <dgm:constr type="rMarg" refType="primFontSz" fact="0.105"/>
                </dgm:constrLst>
              </dgm:if>
              <dgm:else name="Name27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105"/>
                  <dgm:constr type="rMarg" refType="primFontSz" fact="0.315"/>
                </dgm:constrLst>
              </dgm:else>
            </dgm:choose>
            <dgm:ruleLst>
              <dgm:rule type="primFontSz" val="5" fact="NaN" max="NaN"/>
            </dgm:ruleLst>
          </dgm:layoutNode>
          <dgm:forEach name="Name28" axis="followSib" ptType="sibTrans" cnt="1">
            <dgm:layoutNode name="parTxOnly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else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1">
  <dgm:title val=""/>
  <dgm:desc val=""/>
  <dgm:catLst>
    <dgm:cat type="process" pri="9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des" func="maxDepth" op="gte" val="2">
        <dgm:constrLst>
          <dgm:constr type="h" for="ch" forName="composite" refType="h"/>
          <dgm:constr type="w" for="ch" forName="composite" refType="w"/>
          <dgm:constr type="w" for="des" forName="parTx"/>
          <dgm:constr type="h" for="des" forName="parTx" op="equ"/>
          <dgm:constr type="w" for="des" forName="desTx"/>
          <dgm:constr type="h" for="des" forName="desTx" op="equ"/>
          <dgm:constr type="primFontSz" for="des" forName="parTx" val="65"/>
          <dgm:constr type="secFontSz" for="des" forName="desTx" refType="primFontSz" refFor="des" refForName="parTx" op="equ"/>
          <dgm:constr type="h" for="des" forName="parTx" refType="primFontSz" refFor="des" refForName="parTx" fact="1.5"/>
          <dgm:constr type="h" for="des" forName="desTx" refType="primFontSz" refFor="des" refForName="parTx" fact="0.5"/>
          <dgm:constr type="w" for="ch" forName="space" op="equ" val="-6"/>
        </dgm:constrLst>
        <dgm:ruleLst>
          <dgm:rule type="w" for="ch" forName="composite" val="0" fact="NaN" max="NaN"/>
          <dgm:rule type="primFontSz" for="des" forName="parTx" val="5" fact="NaN" max="NaN"/>
        </dgm:ruleLst>
        <dgm:forEach name="Name6" axis="ch" ptType="node"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hoose name="Name7">
              <dgm:if name="Name8" func="var" arg="dir" op="equ" val="norm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if>
              <dgm:else name="Name9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 refType="w" fact="0.2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else>
            </dgm:choose>
            <dgm:ruleLst>
              <dgm:rule type="h" val="INF" fact="NaN" max="NaN"/>
            </dgm:ruleLst>
            <dgm:layoutNode name="parTx">
              <dgm:varLst>
                <dgm:chMax val="0"/>
                <dgm:chPref val="0"/>
                <dgm:bulletEnabled val="1"/>
              </dgm:varLst>
              <dgm:alg type="tx"/>
              <dgm:choose name="Name10">
                <dgm:if name="Name11" func="var" arg="dir" op="equ" val="norm">
                  <dgm:shape xmlns:r="http://schemas.openxmlformats.org/officeDocument/2006/relationships" type="chevron" r:blip="">
                    <dgm:adjLst/>
                  </dgm:shape>
                </dgm:if>
                <dgm:else name="Name12">
                  <dgm:shape xmlns:r="http://schemas.openxmlformats.org/officeDocument/2006/relationships" rot="180" type="chevron" r:blip="">
                    <dgm:adjLst/>
                  </dgm:shape>
                </dgm:else>
              </dgm:choose>
              <dgm:presOf axis="self" ptType="node"/>
              <dgm:choose name="Name13">
                <dgm:if name="Name14" func="var" arg="dir" op="equ" val="norm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315"/>
                    <dgm:constr type="rMarg" refType="primFontSz" fact="0.105"/>
                  </dgm:constrLst>
                </dgm:if>
                <dgm:else name="Name15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105"/>
                    <dgm:constr type="rMarg" refType="primFontSz" fact="0.315"/>
                  </dgm:constrLst>
                </dgm:else>
              </dgm:choose>
              <dgm:ruleLst>
                <dgm:rule type="h" val="INF" fact="NaN" max="NaN"/>
              </dgm:ruleLst>
            </dgm:layoutNode>
            <dgm:layoutNode name="desTx" styleLbl="revTx">
              <dgm:varLst>
                <dgm:bulletEnabled val="1"/>
              </dgm:varLst>
              <dgm:alg type="tx">
                <dgm:param type="stBulletLvl" val="1"/>
              </dgm:alg>
              <dgm:choose name="Name16">
                <dgm:if name="Name17" axis="ch" ptType="node" func="cnt" op="gte" val="1">
                  <dgm:shape xmlns:r="http://schemas.openxmlformats.org/officeDocument/2006/relationships" type="rect" r:blip="">
                    <dgm:adjLst/>
                  </dgm:shape>
                </dgm:if>
                <dgm:else name="Name18">
                  <dgm:shape xmlns:r="http://schemas.openxmlformats.org/officeDocument/2006/relationships" type="rect" r:blip="" hideGeom="1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h"/>
                <dgm:constr type="tMarg"/>
                <dgm:constr type="bMarg"/>
                <dgm:constr type="rMarg"/>
                <dgm:constr type="lMarg"/>
              </dgm:constrLst>
              <dgm:ruleLst>
                <dgm:rule type="h" val="INF" fact="NaN" max="NaN"/>
              </dgm:ruleLst>
            </dgm:layoutNode>
          </dgm:layoutNode>
          <dgm:forEach name="Name19" axis="followSib" ptType="sibTrans" cnt="1">
            <dgm:layoutNode name="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if>
      <dgm:else name="Name20">
        <dgm:constrLst>
          <dgm:constr type="w" for="ch" forName="parTxOnly" refType="w"/>
          <dgm:constr type="h" for="des" forName="parTxOnly" op="equ"/>
          <dgm:constr type="primFontSz" for="des" forName="parTxOnly" op="equ" val="65"/>
          <dgm:constr type="w" for="ch" forName="parTxOnlySpace" refType="w" refFor="ch" refForName="parTxOnly" fact="-0.1"/>
        </dgm:constrLst>
        <dgm:ruleLst/>
        <dgm:forEach name="Name21" axis="ch" ptType="node">
          <dgm:layoutNode name="parTxOnly">
            <dgm:varLst>
              <dgm:chMax val="0"/>
              <dgm:chPref val="0"/>
              <dgm:bulletEnabled val="1"/>
            </dgm:varLst>
            <dgm:alg type="tx"/>
            <dgm:choose name="Name22">
              <dgm:if name="Name23" func="var" arg="dir" op="equ" val="norm">
                <dgm:shape xmlns:r="http://schemas.openxmlformats.org/officeDocument/2006/relationships" type="chevron" r:blip="">
                  <dgm:adjLst/>
                </dgm:shape>
              </dgm:if>
              <dgm:else name="Name24">
                <dgm:shape xmlns:r="http://schemas.openxmlformats.org/officeDocument/2006/relationships" rot="180" type="chevron" r:blip="">
                  <dgm:adjLst/>
                </dgm:shape>
              </dgm:else>
            </dgm:choose>
            <dgm:presOf axis="self" ptType="node"/>
            <dgm:choose name="Name25">
              <dgm:if name="Name26" func="var" arg="dir" op="equ" val="norm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315"/>
                  <dgm:constr type="rMarg" refType="primFontSz" fact="0.105"/>
                </dgm:constrLst>
              </dgm:if>
              <dgm:else name="Name27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105"/>
                  <dgm:constr type="rMarg" refType="primFontSz" fact="0.315"/>
                </dgm:constrLst>
              </dgm:else>
            </dgm:choose>
            <dgm:ruleLst>
              <dgm:rule type="primFontSz" val="5" fact="NaN" max="NaN"/>
            </dgm:ruleLst>
          </dgm:layoutNode>
          <dgm:forEach name="Name28" axis="followSib" ptType="sibTrans" cnt="1">
            <dgm:layoutNode name="parTxOnly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A95-0E98-4DF6-A1EC-2A03050A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BD8-8B27-4C6B-B224-EE0FCE7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A29-CA14-40FA-89C9-C020D02E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FBC-BB37-457E-93B8-BAC057F8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F4F7-9EBB-4A91-81C3-9828B37B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BFF-3DF4-49C6-8543-7BF39D8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0E89-F775-47FC-B886-F7DE6C46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32DB-1F6F-4C5F-AAEF-0E681DB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94BE-01F8-45D6-B645-E1CAC2E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AB96-5D3D-4777-A9FC-965E9F1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A367-2211-408B-BA42-C7E7F83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9C0-C8E0-4871-A8F5-7F8A04FA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7CE-CE56-4CF1-AC8D-ADA09ED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EAF3-0787-48BE-AAFE-BFD9434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DE3D-2F0F-4E5B-AC99-00E7461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68AF-23A5-47EF-8BB1-E6DD4592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5D3E-A6DE-436A-A0DA-8BAFA549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DC0-CEC0-4FC8-8C2A-3B68569F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35A-3523-4165-84AC-E0169DFA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121-5EBF-4470-9D0E-E4EEBA72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1C1-2CB6-4100-82AD-98D81216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92B-EF58-4E24-AF79-F9E03071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007-C1D3-409C-B6E9-AD04C83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99C-2831-4416-8D9C-EF28E5C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17220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69ED86-110A-45E3-89FF-70B3EF0A506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95F38D-07CE-4E64-8976-1DDD054A8F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1.wdp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diagramData" Target="../diagrams/data2.xml"/><Relationship Id="rId8" Type="http://schemas.openxmlformats.org/officeDocument/2006/relationships/diagramLayout" Target="../diagrams/layout2.xml"/><Relationship Id="rId9" Type="http://schemas.openxmlformats.org/officeDocument/2006/relationships/diagramQuickStyle" Target="../diagrams/quickStyle2.xml"/><Relationship Id="rId10" Type="http://schemas.openxmlformats.org/officeDocument/2006/relationships/diagramColors" Target="../diagrams/colors2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梯形 2"/>
          <p:cNvSpPr/>
          <p:nvPr/>
        </p:nvSpPr>
        <p:spPr>
          <a:xfrm>
            <a:off x="-285480" y="273960"/>
            <a:ext cx="4602960" cy="646200"/>
          </a:xfrm>
          <a:custGeom>
            <a:avLst/>
            <a:gdLst>
              <a:gd name="textAreaLeft" fmla="*/ 0 w 4602960"/>
              <a:gd name="textAreaRight" fmla="*/ 4603320 w 460296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84" name="直接连接符 4"/>
          <p:cNvCxnSpPr/>
          <p:nvPr/>
        </p:nvCxnSpPr>
        <p:spPr>
          <a:xfrm>
            <a:off x="2423160" y="925560"/>
            <a:ext cx="360" cy="537264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85" name="椭圆 16"/>
          <p:cNvSpPr/>
          <p:nvPr/>
        </p:nvSpPr>
        <p:spPr>
          <a:xfrm>
            <a:off x="1177920" y="1410840"/>
            <a:ext cx="2482560" cy="2482560"/>
          </a:xfrm>
          <a:prstGeom prst="ellipse">
            <a:avLst/>
          </a:prstGeom>
          <a:noFill/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标题 1"/>
          <p:cNvSpPr/>
          <p:nvPr/>
        </p:nvSpPr>
        <p:spPr>
          <a:xfrm>
            <a:off x="3981600" y="2262600"/>
            <a:ext cx="58766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zh-CN" sz="5400" spc="-1" strike="noStrike">
                <a:solidFill>
                  <a:srgbClr val="6b6c70"/>
                </a:solidFill>
                <a:latin typeface="微软雅黑"/>
                <a:ea typeface="微软雅黑"/>
              </a:rPr>
              <a:t>思维的“六脉神剑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0"/>
          <p:cNvGrpSpPr/>
          <p:nvPr/>
        </p:nvGrpSpPr>
        <p:grpSpPr>
          <a:xfrm>
            <a:off x="1450080" y="1336320"/>
            <a:ext cx="1937880" cy="2440440"/>
            <a:chOff x="1450080" y="1336320"/>
            <a:chExt cx="1937880" cy="2440440"/>
          </a:xfrm>
        </p:grpSpPr>
        <p:sp>
          <p:nvSpPr>
            <p:cNvPr id="88" name="椭圆 21"/>
            <p:cNvSpPr/>
            <p:nvPr/>
          </p:nvSpPr>
          <p:spPr>
            <a:xfrm rot="20860800">
              <a:off x="1812600" y="1679400"/>
              <a:ext cx="1110600" cy="10429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平行四边形 22"/>
            <p:cNvSpPr/>
            <p:nvPr/>
          </p:nvSpPr>
          <p:spPr>
            <a:xfrm rot="719400">
              <a:off x="1477080" y="1526760"/>
              <a:ext cx="1883520" cy="459360"/>
            </a:xfrm>
            <a:prstGeom prst="parallelogram">
              <a:avLst>
                <a:gd name="adj" fmla="val 153582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矩形 23"/>
            <p:cNvSpPr/>
            <p:nvPr/>
          </p:nvSpPr>
          <p:spPr>
            <a:xfrm>
              <a:off x="3125160" y="1708920"/>
              <a:ext cx="48600" cy="401760"/>
            </a:xfrm>
            <a:prstGeom prst="rect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梯形 24"/>
            <p:cNvSpPr/>
            <p:nvPr/>
          </p:nvSpPr>
          <p:spPr>
            <a:xfrm>
              <a:off x="3039480" y="2134080"/>
              <a:ext cx="232200" cy="275400"/>
            </a:xfrm>
            <a:prstGeom prst="trapezoid">
              <a:avLst>
                <a:gd name="adj" fmla="val 25000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矩形 4"/>
            <p:cNvSpPr/>
            <p:nvPr/>
          </p:nvSpPr>
          <p:spPr>
            <a:xfrm>
              <a:off x="1896120" y="2409120"/>
              <a:ext cx="1030680" cy="136764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965916" h="1639195">
                  <a:moveTo>
                    <a:pt x="170226" y="0"/>
                  </a:moveTo>
                  <a:lnTo>
                    <a:pt x="677217" y="37032"/>
                  </a:lnTo>
                  <a:lnTo>
                    <a:pt x="965916" y="1639195"/>
                  </a:lnTo>
                  <a:lnTo>
                    <a:pt x="0" y="1639195"/>
                  </a:lnTo>
                  <a:lnTo>
                    <a:pt x="170226" y="0"/>
                  </a:lnTo>
                  <a:close/>
                </a:path>
              </a:pathLst>
            </a:cu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3" name="文本框 28"/>
          <p:cNvSpPr/>
          <p:nvPr/>
        </p:nvSpPr>
        <p:spPr>
          <a:xfrm>
            <a:off x="5460120" y="3685680"/>
            <a:ext cx="4398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b6c70"/>
                </a:solidFill>
                <a:latin typeface="微软雅黑"/>
                <a:ea typeface="微软雅黑"/>
              </a:rPr>
              <a:t>-------------</a:t>
            </a:r>
            <a:r>
              <a:rPr b="0" lang="zh-CN" sz="2400" spc="-1" strike="noStrike">
                <a:solidFill>
                  <a:srgbClr val="6b6c70"/>
                </a:solidFill>
                <a:latin typeface="微软雅黑"/>
                <a:ea typeface="微软雅黑"/>
              </a:rPr>
              <a:t>不要等到毕业以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形标注 29"/>
          <p:cNvSpPr/>
          <p:nvPr/>
        </p:nvSpPr>
        <p:spPr>
          <a:xfrm>
            <a:off x="9038520" y="2009880"/>
            <a:ext cx="626760" cy="455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文本框 30"/>
          <p:cNvSpPr/>
          <p:nvPr/>
        </p:nvSpPr>
        <p:spPr>
          <a:xfrm>
            <a:off x="9160200" y="2042280"/>
            <a:ext cx="482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8618040" y="4319280"/>
            <a:ext cx="131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b6c70"/>
                </a:solidFill>
                <a:latin typeface="微软雅黑"/>
                <a:ea typeface="微软雅黑"/>
              </a:rPr>
              <a:t>BY TA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梯形 2"/>
          <p:cNvSpPr/>
          <p:nvPr/>
        </p:nvSpPr>
        <p:spPr>
          <a:xfrm>
            <a:off x="-8640" y="457200"/>
            <a:ext cx="4602960" cy="646200"/>
          </a:xfrm>
          <a:custGeom>
            <a:avLst/>
            <a:gdLst>
              <a:gd name="textAreaLeft" fmla="*/ 0 w 4602960"/>
              <a:gd name="textAreaRight" fmla="*/ 4603320 w 460296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8" name="直接连接符 7"/>
          <p:cNvCxnSpPr/>
          <p:nvPr/>
        </p:nvCxnSpPr>
        <p:spPr>
          <a:xfrm>
            <a:off x="2419200" y="6297840"/>
            <a:ext cx="728496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99" name="直接连接符 11"/>
          <p:cNvCxnSpPr/>
          <p:nvPr/>
        </p:nvCxnSpPr>
        <p:spPr>
          <a:xfrm>
            <a:off x="9703800" y="6297840"/>
            <a:ext cx="360" cy="56052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5346000" y="-317520"/>
            <a:ext cx="8114040" cy="8040960"/>
          </a:xfrm>
          <a:prstGeom prst="rect">
            <a:avLst/>
          </a:prstGeom>
          <a:ln w="0">
            <a:noFill/>
          </a:ln>
        </p:spPr>
      </p:pic>
      <p:sp>
        <p:nvSpPr>
          <p:cNvPr id="101" name="矩形 5"/>
          <p:cNvSpPr/>
          <p:nvPr/>
        </p:nvSpPr>
        <p:spPr>
          <a:xfrm>
            <a:off x="2989800" y="123840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思维的六脉神剑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3" name="直接连接符 26"/>
          <p:cNvCxnSpPr/>
          <p:nvPr/>
        </p:nvCxnSpPr>
        <p:spPr>
          <a:xfrm>
            <a:off x="9715320" y="-11160"/>
            <a:ext cx="360" cy="633204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274" name="直接连接符 27"/>
          <p:cNvCxnSpPr/>
          <p:nvPr/>
        </p:nvCxnSpPr>
        <p:spPr>
          <a:xfrm>
            <a:off x="2514600" y="6309360"/>
            <a:ext cx="360" cy="53748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75" name="梯形 2"/>
          <p:cNvSpPr/>
          <p:nvPr/>
        </p:nvSpPr>
        <p:spPr>
          <a:xfrm flipH="1">
            <a:off x="7329600" y="445680"/>
            <a:ext cx="4889160" cy="639720"/>
          </a:xfrm>
          <a:custGeom>
            <a:avLst/>
            <a:gdLst>
              <a:gd name="textAreaLeft" fmla="*/ -360 w 4889160"/>
              <a:gd name="textAreaRight" fmla="*/ 4889160 w 4889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76" name="直接连接符 29"/>
          <p:cNvCxnSpPr/>
          <p:nvPr/>
        </p:nvCxnSpPr>
        <p:spPr>
          <a:xfrm flipH="1">
            <a:off x="2514600" y="6309360"/>
            <a:ext cx="720108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77" name="剪去单角的矩形 13"/>
          <p:cNvSpPr/>
          <p:nvPr/>
        </p:nvSpPr>
        <p:spPr>
          <a:xfrm flipH="1">
            <a:off x="1777320" y="1762560"/>
            <a:ext cx="8648280" cy="383760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7772400" y="438120"/>
            <a:ext cx="4276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少泽剑：读书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0"/>
          <p:cNvSpPr/>
          <p:nvPr/>
        </p:nvSpPr>
        <p:spPr>
          <a:xfrm flipH="1">
            <a:off x="2682720" y="3215520"/>
            <a:ext cx="3998520" cy="935280"/>
          </a:xfrm>
          <a:prstGeom prst="rect">
            <a:avLst/>
          </a:prstGeom>
          <a:solidFill>
            <a:schemeClr val="bg1">
              <a:alpha val="20000"/>
            </a:schemeClr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矩形 21"/>
          <p:cNvSpPr/>
          <p:nvPr/>
        </p:nvSpPr>
        <p:spPr>
          <a:xfrm flipH="1">
            <a:off x="5434920" y="4283640"/>
            <a:ext cx="4076280" cy="986400"/>
          </a:xfrm>
          <a:prstGeom prst="rect">
            <a:avLst/>
          </a:prstGeom>
          <a:solidFill>
            <a:schemeClr val="bg1">
              <a:alpha val="20000"/>
            </a:schemeClr>
          </a:solidFill>
          <a:ln>
            <a:noFil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3106800" y="3228120"/>
            <a:ext cx="355824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养成阅读习惯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6"/>
          <p:cNvGrpSpPr/>
          <p:nvPr/>
        </p:nvGrpSpPr>
        <p:grpSpPr>
          <a:xfrm>
            <a:off x="2693880" y="4271040"/>
            <a:ext cx="7461360" cy="1241640"/>
            <a:chOff x="2693880" y="4271040"/>
            <a:chExt cx="7461360" cy="1241640"/>
          </a:xfrm>
        </p:grpSpPr>
        <p:sp>
          <p:nvSpPr>
            <p:cNvPr id="283" name="任意多边形 22"/>
            <p:cNvSpPr/>
            <p:nvPr/>
          </p:nvSpPr>
          <p:spPr>
            <a:xfrm rot="5400000">
              <a:off x="3782160" y="3182400"/>
              <a:ext cx="999360" cy="3176280"/>
            </a:xfrm>
            <a:custGeom>
              <a:avLst/>
              <a:gdLst>
                <a:gd name="textAreaLeft" fmla="*/ 0 w 999360"/>
                <a:gd name="textAreaRight" fmla="*/ 999720 w 99936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143000" h="3176541">
                  <a:moveTo>
                    <a:pt x="0" y="3176541"/>
                  </a:moveTo>
                  <a:lnTo>
                    <a:pt x="0" y="406400"/>
                  </a:lnTo>
                  <a:lnTo>
                    <a:pt x="238828" y="406400"/>
                  </a:lnTo>
                  <a:lnTo>
                    <a:pt x="540820" y="0"/>
                  </a:lnTo>
                  <a:lnTo>
                    <a:pt x="842812" y="406400"/>
                  </a:lnTo>
                  <a:lnTo>
                    <a:pt x="1143000" y="406400"/>
                  </a:lnTo>
                  <a:lnTo>
                    <a:pt x="1143000" y="3176541"/>
                  </a:lnTo>
                  <a:close/>
                </a:path>
              </a:pathLst>
            </a:custGeom>
            <a:solidFill>
              <a:srgbClr val="990000"/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内容占位符 2"/>
            <p:cNvSpPr/>
            <p:nvPr/>
          </p:nvSpPr>
          <p:spPr>
            <a:xfrm>
              <a:off x="6252120" y="4290120"/>
              <a:ext cx="390312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</a:tabLst>
              </a:pPr>
              <a:r>
                <a:rPr b="1" lang="zh-CN" sz="3300" spc="-1" strike="noStrike">
                  <a:solidFill>
                    <a:srgbClr val="6b6c70"/>
                  </a:solidFill>
                  <a:latin typeface="微软雅黑"/>
                  <a:ea typeface="微软雅黑"/>
                </a:rPr>
                <a:t>做好读书笔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任意多边形 19"/>
          <p:cNvSpPr/>
          <p:nvPr/>
        </p:nvSpPr>
        <p:spPr>
          <a:xfrm flipH="1" rot="16200000">
            <a:off x="7417800" y="2109960"/>
            <a:ext cx="935280" cy="3176280"/>
          </a:xfrm>
          <a:custGeom>
            <a:avLst/>
            <a:gdLst>
              <a:gd name="textAreaLeft" fmla="*/ 360 w 935280"/>
              <a:gd name="textAreaRight" fmla="*/ 936000 w 935280"/>
              <a:gd name="textAreaTop" fmla="*/ 0 h 3176280"/>
              <a:gd name="textAreaBottom" fmla="*/ 3176640 h 3176280"/>
            </a:gdLst>
            <a:ahLst/>
            <a:rect l="textAreaLeft" t="textAreaTop" r="textAreaRight" b="textAreaBottom"/>
            <a:pathLst>
              <a:path w="1143000" h="3176541">
                <a:moveTo>
                  <a:pt x="0" y="3176541"/>
                </a:moveTo>
                <a:lnTo>
                  <a:pt x="0" y="406400"/>
                </a:lnTo>
                <a:lnTo>
                  <a:pt x="238828" y="406400"/>
                </a:lnTo>
                <a:lnTo>
                  <a:pt x="540820" y="0"/>
                </a:lnTo>
                <a:lnTo>
                  <a:pt x="842812" y="406400"/>
                </a:lnTo>
                <a:lnTo>
                  <a:pt x="1143000" y="406400"/>
                </a:lnTo>
                <a:lnTo>
                  <a:pt x="1143000" y="3176541"/>
                </a:lnTo>
                <a:close/>
              </a:path>
            </a:pathLst>
          </a:custGeom>
          <a:solidFill>
            <a:srgbClr val="99000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86" name="组合 1"/>
          <p:cNvGrpSpPr/>
          <p:nvPr/>
        </p:nvGrpSpPr>
        <p:grpSpPr>
          <a:xfrm>
            <a:off x="2679840" y="1920600"/>
            <a:ext cx="6831720" cy="1308600"/>
            <a:chOff x="2679840" y="1920600"/>
            <a:chExt cx="6831720" cy="1308600"/>
          </a:xfrm>
        </p:grpSpPr>
        <p:sp>
          <p:nvSpPr>
            <p:cNvPr id="287" name="矩形 4"/>
            <p:cNvSpPr/>
            <p:nvPr/>
          </p:nvSpPr>
          <p:spPr>
            <a:xfrm flipH="1">
              <a:off x="5512680" y="2188080"/>
              <a:ext cx="3998520" cy="926280"/>
            </a:xfrm>
            <a:prstGeom prst="rect">
              <a:avLst/>
            </a:prstGeom>
            <a:solidFill>
              <a:schemeClr val="bg1">
                <a:alpha val="20000"/>
              </a:schemeClr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内容占位符 2"/>
            <p:cNvSpPr/>
            <p:nvPr/>
          </p:nvSpPr>
          <p:spPr>
            <a:xfrm>
              <a:off x="6269400" y="2202480"/>
              <a:ext cx="23101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</a:tabLst>
              </a:pPr>
              <a:r>
                <a:rPr b="1" lang="zh-CN" sz="3300" spc="-1" strike="noStrike">
                  <a:solidFill>
                    <a:srgbClr val="6b6c70"/>
                  </a:solidFill>
                  <a:latin typeface="微软雅黑"/>
                  <a:ea typeface="微软雅黑"/>
                </a:rPr>
                <a:t>选一本好书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18"/>
            <p:cNvSpPr/>
            <p:nvPr/>
          </p:nvSpPr>
          <p:spPr>
            <a:xfrm rot="5400000">
              <a:off x="3804840" y="1050120"/>
              <a:ext cx="926280" cy="317628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143000" h="3176541">
                  <a:moveTo>
                    <a:pt x="0" y="3176541"/>
                  </a:moveTo>
                  <a:lnTo>
                    <a:pt x="0" y="406400"/>
                  </a:lnTo>
                  <a:lnTo>
                    <a:pt x="238828" y="406400"/>
                  </a:lnTo>
                  <a:lnTo>
                    <a:pt x="540820" y="0"/>
                  </a:lnTo>
                  <a:lnTo>
                    <a:pt x="842812" y="406400"/>
                  </a:lnTo>
                  <a:lnTo>
                    <a:pt x="1143000" y="406400"/>
                  </a:lnTo>
                  <a:lnTo>
                    <a:pt x="1143000" y="3176541"/>
                  </a:lnTo>
                  <a:close/>
                </a:path>
              </a:pathLst>
            </a:custGeom>
            <a:solidFill>
              <a:srgbClr val="990000"/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文本框 23"/>
            <p:cNvSpPr/>
            <p:nvPr/>
          </p:nvSpPr>
          <p:spPr>
            <a:xfrm>
              <a:off x="3489480" y="1920600"/>
              <a:ext cx="1866600" cy="1308600"/>
            </a:xfrm>
            <a:prstGeom prst="rect">
              <a:avLst/>
            </a:prstGeom>
            <a:noFill/>
            <a:ln w="0"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ffffff"/>
                  </a:solidFill>
                  <a:latin typeface="DFPZongYiW9-GB5"/>
                  <a:ea typeface="DFPZongYiW9-GB5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24"/>
          <p:cNvSpPr/>
          <p:nvPr/>
        </p:nvSpPr>
        <p:spPr>
          <a:xfrm>
            <a:off x="7448760" y="2975040"/>
            <a:ext cx="1231560" cy="130860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DFPZongYiW9-GB5"/>
                <a:ea typeface="DFPZongYiW9-GB5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3490560" y="4076280"/>
            <a:ext cx="1030320" cy="130860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DFPZongYiW9-GB5"/>
                <a:ea typeface="DFPZongYiW9-GB5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2" descr=""/>
          <p:cNvPicPr/>
          <p:nvPr/>
        </p:nvPicPr>
        <p:blipFill>
          <a:blip r:embed="rId1"/>
          <a:stretch/>
        </p:blipFill>
        <p:spPr>
          <a:xfrm>
            <a:off x="-1923480" y="2645280"/>
            <a:ext cx="6681600" cy="63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椭圆 16"/>
          <p:cNvSpPr/>
          <p:nvPr/>
        </p:nvSpPr>
        <p:spPr>
          <a:xfrm>
            <a:off x="1176480" y="1281960"/>
            <a:ext cx="2482560" cy="2482560"/>
          </a:xfrm>
          <a:prstGeom prst="ellipse">
            <a:avLst/>
          </a:prstGeom>
          <a:noFill/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标题 1"/>
          <p:cNvSpPr/>
          <p:nvPr/>
        </p:nvSpPr>
        <p:spPr>
          <a:xfrm>
            <a:off x="3926520" y="2804760"/>
            <a:ext cx="57780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en-US" sz="6600" spc="-1" strike="noStrike">
                <a:solidFill>
                  <a:srgbClr val="6b6c70"/>
                </a:solidFill>
                <a:latin typeface="微软雅黑"/>
                <a:ea typeface="微软雅黑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20"/>
          <p:cNvGrpSpPr/>
          <p:nvPr/>
        </p:nvGrpSpPr>
        <p:grpSpPr>
          <a:xfrm>
            <a:off x="1486800" y="1231560"/>
            <a:ext cx="1937880" cy="2440800"/>
            <a:chOff x="1486800" y="1231560"/>
            <a:chExt cx="1937880" cy="2440800"/>
          </a:xfrm>
        </p:grpSpPr>
        <p:sp>
          <p:nvSpPr>
            <p:cNvPr id="297" name="椭圆 21"/>
            <p:cNvSpPr/>
            <p:nvPr/>
          </p:nvSpPr>
          <p:spPr>
            <a:xfrm rot="20860800">
              <a:off x="1849320" y="1575000"/>
              <a:ext cx="1110600" cy="10429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平行四边形 22"/>
            <p:cNvSpPr/>
            <p:nvPr/>
          </p:nvSpPr>
          <p:spPr>
            <a:xfrm rot="719400">
              <a:off x="1513800" y="1422000"/>
              <a:ext cx="1883520" cy="459360"/>
            </a:xfrm>
            <a:prstGeom prst="parallelogram">
              <a:avLst>
                <a:gd name="adj" fmla="val 153582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矩形 23"/>
            <p:cNvSpPr/>
            <p:nvPr/>
          </p:nvSpPr>
          <p:spPr>
            <a:xfrm>
              <a:off x="3161520" y="1604160"/>
              <a:ext cx="48600" cy="401760"/>
            </a:xfrm>
            <a:prstGeom prst="rect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梯形 24"/>
            <p:cNvSpPr/>
            <p:nvPr/>
          </p:nvSpPr>
          <p:spPr>
            <a:xfrm>
              <a:off x="3075840" y="2029680"/>
              <a:ext cx="232200" cy="275400"/>
            </a:xfrm>
            <a:prstGeom prst="trapezoid">
              <a:avLst>
                <a:gd name="adj" fmla="val 25000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矩形 4"/>
            <p:cNvSpPr/>
            <p:nvPr/>
          </p:nvSpPr>
          <p:spPr>
            <a:xfrm>
              <a:off x="1932840" y="2304720"/>
              <a:ext cx="1030680" cy="136764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965916" h="1639195">
                  <a:moveTo>
                    <a:pt x="170226" y="0"/>
                  </a:moveTo>
                  <a:lnTo>
                    <a:pt x="677217" y="37032"/>
                  </a:lnTo>
                  <a:lnTo>
                    <a:pt x="965916" y="1639195"/>
                  </a:lnTo>
                  <a:lnTo>
                    <a:pt x="0" y="1639195"/>
                  </a:lnTo>
                  <a:lnTo>
                    <a:pt x="170226" y="0"/>
                  </a:lnTo>
                  <a:close/>
                </a:path>
              </a:pathLst>
            </a:cu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2" name="椭圆形标注 29"/>
          <p:cNvSpPr/>
          <p:nvPr/>
        </p:nvSpPr>
        <p:spPr>
          <a:xfrm>
            <a:off x="8954640" y="2392560"/>
            <a:ext cx="626760" cy="550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椭圆 2"/>
          <p:cNvSpPr/>
          <p:nvPr/>
        </p:nvSpPr>
        <p:spPr>
          <a:xfrm>
            <a:off x="9132120" y="2607120"/>
            <a:ext cx="62640" cy="759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椭圆 17"/>
          <p:cNvSpPr/>
          <p:nvPr/>
        </p:nvSpPr>
        <p:spPr>
          <a:xfrm>
            <a:off x="9328680" y="2605320"/>
            <a:ext cx="62640" cy="759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弧形 4"/>
          <p:cNvSpPr/>
          <p:nvPr/>
        </p:nvSpPr>
        <p:spPr>
          <a:xfrm rot="7774200">
            <a:off x="9010800" y="2337480"/>
            <a:ext cx="532080" cy="501120"/>
          </a:xfrm>
          <a:prstGeom prst="arc">
            <a:avLst>
              <a:gd name="adj1" fmla="val 16168818"/>
              <a:gd name="adj2" fmla="val 0"/>
            </a:avLst>
          </a:prstGeom>
          <a:noFill/>
          <a:ln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直接连接符 18"/>
          <p:cNvCxnSpPr/>
          <p:nvPr/>
        </p:nvCxnSpPr>
        <p:spPr>
          <a:xfrm>
            <a:off x="2491560" y="-1260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307" name="直接连接符 26"/>
          <p:cNvCxnSpPr/>
          <p:nvPr/>
        </p:nvCxnSpPr>
        <p:spPr>
          <a:xfrm flipH="1">
            <a:off x="2491560" y="6309360"/>
            <a:ext cx="720144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308" name="梯形 2"/>
          <p:cNvSpPr/>
          <p:nvPr/>
        </p:nvSpPr>
        <p:spPr>
          <a:xfrm>
            <a:off x="2505960" y="4785480"/>
            <a:ext cx="7186320" cy="1523520"/>
          </a:xfrm>
          <a:custGeom>
            <a:avLst/>
            <a:gdLst>
              <a:gd name="textAreaLeft" fmla="*/ 0 w 7186320"/>
              <a:gd name="textAreaRight" fmla="*/ 7186680 w 7186320"/>
              <a:gd name="textAreaTop" fmla="*/ 0 h 1523520"/>
              <a:gd name="textAreaBottom" fmla="*/ 1523880 h 152352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文本框 28"/>
          <p:cNvSpPr/>
          <p:nvPr/>
        </p:nvSpPr>
        <p:spPr>
          <a:xfrm>
            <a:off x="4001040" y="5012640"/>
            <a:ext cx="4398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----------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等到毕业以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"/>
          <p:cNvSpPr/>
          <p:nvPr/>
        </p:nvSpPr>
        <p:spPr>
          <a:xfrm>
            <a:off x="7158600" y="5646240"/>
            <a:ext cx="131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TA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" name="直接连接符 4"/>
          <p:cNvCxnSpPr>
            <a:endCxn id="104" idx="1"/>
          </p:cNvCxnSpPr>
          <p:nvPr/>
        </p:nvCxnSpPr>
        <p:spPr>
          <a:xfrm>
            <a:off x="9703800" y="0"/>
            <a:ext cx="6120" cy="6771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05" name="剪去单角的矩形 7"/>
          <p:cNvSpPr/>
          <p:nvPr/>
        </p:nvSpPr>
        <p:spPr>
          <a:xfrm flipV="1">
            <a:off x="1783080" y="1266120"/>
            <a:ext cx="8629200" cy="429732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1783080" y="1267200"/>
            <a:ext cx="8629920" cy="771120"/>
          </a:xfrm>
          <a:prstGeom prst="rect">
            <a:avLst/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内容占位符 2"/>
          <p:cNvSpPr/>
          <p:nvPr/>
        </p:nvSpPr>
        <p:spPr>
          <a:xfrm>
            <a:off x="4348800" y="2226600"/>
            <a:ext cx="34941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思维</a:t>
            </a:r>
            <a:r>
              <a:rPr b="1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混乱</a:t>
            </a:r>
            <a:r>
              <a:rPr b="0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一团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思维</a:t>
            </a:r>
            <a:r>
              <a:rPr b="1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依赖</a:t>
            </a:r>
            <a:r>
              <a:rPr b="0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重症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思维</a:t>
            </a:r>
            <a:r>
              <a:rPr b="1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局限</a:t>
            </a:r>
            <a:r>
              <a:rPr b="0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目光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连接符 8"/>
          <p:cNvCxnSpPr/>
          <p:nvPr/>
        </p:nvCxnSpPr>
        <p:spPr>
          <a:xfrm flipH="1">
            <a:off x="2503080" y="6332040"/>
            <a:ext cx="645840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109" name="直接连接符 11"/>
          <p:cNvCxnSpPr/>
          <p:nvPr/>
        </p:nvCxnSpPr>
        <p:spPr>
          <a:xfrm>
            <a:off x="2503080" y="6320520"/>
            <a:ext cx="360" cy="53784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04" name="梯形 2"/>
          <p:cNvSpPr/>
          <p:nvPr/>
        </p:nvSpPr>
        <p:spPr>
          <a:xfrm flipH="1">
            <a:off x="5106240" y="662040"/>
            <a:ext cx="5304240" cy="635400"/>
          </a:xfrm>
          <a:custGeom>
            <a:avLst/>
            <a:gdLst>
              <a:gd name="textAreaLeft" fmla="*/ 360 w 5304240"/>
              <a:gd name="textAreaRight" fmla="*/ 5304960 w 5304240"/>
              <a:gd name="textAreaTop" fmla="*/ 0 h 635400"/>
              <a:gd name="textAreaBottom" fmla="*/ 635760 h 635400"/>
            </a:gdLst>
            <a:ahLst/>
            <a:rect l="textAreaLeft" t="textAreaTop" r="textAreaRight" b="textAreaBottom"/>
            <a:pathLst>
              <a:path w="5304545" h="478912">
                <a:moveTo>
                  <a:pt x="0" y="478912"/>
                </a:moveTo>
                <a:lnTo>
                  <a:pt x="701114" y="11430"/>
                </a:lnTo>
                <a:lnTo>
                  <a:pt x="4913066" y="0"/>
                </a:lnTo>
                <a:lnTo>
                  <a:pt x="5304545" y="468630"/>
                </a:lnTo>
                <a:lnTo>
                  <a:pt x="0" y="478912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5830200" y="1044360"/>
            <a:ext cx="3344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维的那些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直接连接符 10"/>
          <p:cNvCxnSpPr/>
          <p:nvPr/>
        </p:nvCxnSpPr>
        <p:spPr>
          <a:xfrm flipH="1">
            <a:off x="8945640" y="5547240"/>
            <a:ext cx="743400" cy="8082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2" name="直接连接符 2"/>
          <p:cNvCxnSpPr/>
          <p:nvPr/>
        </p:nvCxnSpPr>
        <p:spPr>
          <a:xfrm>
            <a:off x="2491560" y="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13" name="剪去单角的矩形 3"/>
          <p:cNvSpPr/>
          <p:nvPr/>
        </p:nvSpPr>
        <p:spPr>
          <a:xfrm flipV="1">
            <a:off x="1792440" y="1279800"/>
            <a:ext cx="8606520" cy="433368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537640" y="2589120"/>
            <a:ext cx="7116480" cy="1552680"/>
          </a:xfrm>
          <a:prstGeom prst="rect">
            <a:avLst/>
          </a:prstGeom>
          <a:noFill/>
          <a:ln w="0">
            <a:noFill/>
          </a:ln>
          <a:effectLst>
            <a:innerShdw blurRad="114300">
              <a:srgbClr val="000000"/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6b6c70"/>
                </a:solidFill>
                <a:latin typeface="微软雅黑"/>
                <a:ea typeface="微软雅黑"/>
              </a:rPr>
              <a:t>这是</a:t>
            </a:r>
            <a:r>
              <a:rPr b="1" lang="zh-CN" sz="9600" spc="-1" strike="noStrike">
                <a:solidFill>
                  <a:srgbClr val="990000"/>
                </a:solidFill>
                <a:latin typeface="微软雅黑"/>
                <a:ea typeface="微软雅黑"/>
              </a:rPr>
              <a:t>病</a:t>
            </a:r>
            <a:r>
              <a:rPr b="0" lang="zh-CN" sz="8800" spc="-1" strike="noStrike">
                <a:solidFill>
                  <a:srgbClr val="6b6c70"/>
                </a:solidFill>
                <a:latin typeface="微软雅黑"/>
                <a:ea typeface="微软雅黑"/>
              </a:rPr>
              <a:t>，得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接连接符 6"/>
          <p:cNvCxnSpPr/>
          <p:nvPr/>
        </p:nvCxnSpPr>
        <p:spPr>
          <a:xfrm flipH="1">
            <a:off x="2491560" y="6332040"/>
            <a:ext cx="720144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116" name="直接连接符 8"/>
          <p:cNvCxnSpPr/>
          <p:nvPr/>
        </p:nvCxnSpPr>
        <p:spPr>
          <a:xfrm>
            <a:off x="9692640" y="6320520"/>
            <a:ext cx="360" cy="56052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17" name="梯形 2"/>
          <p:cNvSpPr/>
          <p:nvPr/>
        </p:nvSpPr>
        <p:spPr>
          <a:xfrm flipH="1">
            <a:off x="1735200" y="648360"/>
            <a:ext cx="5304240" cy="635400"/>
          </a:xfrm>
          <a:custGeom>
            <a:avLst/>
            <a:gdLst>
              <a:gd name="textAreaLeft" fmla="*/ 360 w 5304240"/>
              <a:gd name="textAreaRight" fmla="*/ 5304960 w 5304240"/>
              <a:gd name="textAreaTop" fmla="*/ 0 h 635400"/>
              <a:gd name="textAreaBottom" fmla="*/ 635760 h 635400"/>
            </a:gdLst>
            <a:ahLst/>
            <a:rect l="textAreaLeft" t="textAreaTop" r="textAreaRight" b="textAreaBottom"/>
            <a:pathLst>
              <a:path w="5304545" h="478912">
                <a:moveTo>
                  <a:pt x="0" y="478912"/>
                </a:moveTo>
                <a:lnTo>
                  <a:pt x="701114" y="11430"/>
                </a:lnTo>
                <a:lnTo>
                  <a:pt x="4913066" y="0"/>
                </a:lnTo>
                <a:lnTo>
                  <a:pt x="5304545" y="468630"/>
                </a:lnTo>
                <a:lnTo>
                  <a:pt x="0" y="478912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8" name="直接连接符 4"/>
          <p:cNvCxnSpPr/>
          <p:nvPr/>
        </p:nvCxnSpPr>
        <p:spPr>
          <a:xfrm>
            <a:off x="9703800" y="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19" name="剪去单角的矩形 3"/>
          <p:cNvSpPr/>
          <p:nvPr/>
        </p:nvSpPr>
        <p:spPr>
          <a:xfrm flipH="1">
            <a:off x="1783080" y="1280160"/>
            <a:ext cx="8629200" cy="4333680"/>
          </a:xfrm>
          <a:prstGeom prst="snip1Rect">
            <a:avLst>
              <a:gd name="adj" fmla="val 16667"/>
            </a:avLst>
          </a:prstGeom>
          <a:solidFill>
            <a:srgbClr val="990000"/>
          </a:solidFill>
          <a:ln>
            <a:solidFill>
              <a:srgbClr val="ffffff">
                <a:lumMod val="75000"/>
              </a:srgbClr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文本框 6"/>
          <p:cNvSpPr/>
          <p:nvPr/>
        </p:nvSpPr>
        <p:spPr>
          <a:xfrm>
            <a:off x="2441880" y="2266200"/>
            <a:ext cx="7116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需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思维框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直接连接符 5"/>
          <p:cNvCxnSpPr/>
          <p:nvPr/>
        </p:nvCxnSpPr>
        <p:spPr>
          <a:xfrm>
            <a:off x="2503080" y="6320520"/>
            <a:ext cx="360" cy="53784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122" name="直接连接符 8"/>
          <p:cNvCxnSpPr/>
          <p:nvPr/>
        </p:nvCxnSpPr>
        <p:spPr>
          <a:xfrm flipH="1">
            <a:off x="2503080" y="6320520"/>
            <a:ext cx="720108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直接连接符 39"/>
          <p:cNvCxnSpPr/>
          <p:nvPr/>
        </p:nvCxnSpPr>
        <p:spPr>
          <a:xfrm>
            <a:off x="2507040" y="3600"/>
            <a:ext cx="360" cy="63327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124" name="直接连接符 40"/>
          <p:cNvCxnSpPr/>
          <p:nvPr/>
        </p:nvCxnSpPr>
        <p:spPr>
          <a:xfrm flipH="1">
            <a:off x="2518200" y="6324480"/>
            <a:ext cx="720144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25" name="剪去单角的矩形 34"/>
          <p:cNvSpPr/>
          <p:nvPr/>
        </p:nvSpPr>
        <p:spPr>
          <a:xfrm flipH="1">
            <a:off x="1760400" y="1451520"/>
            <a:ext cx="8663760" cy="414864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6"/>
          <p:cNvGrpSpPr/>
          <p:nvPr/>
        </p:nvGrpSpPr>
        <p:grpSpPr>
          <a:xfrm>
            <a:off x="2370600" y="2211840"/>
            <a:ext cx="1623960" cy="3096000"/>
            <a:chOff x="2370600" y="2211840"/>
            <a:chExt cx="1623960" cy="3096000"/>
          </a:xfrm>
        </p:grpSpPr>
        <p:sp>
          <p:nvSpPr>
            <p:cNvPr id="127" name="椭圆 7"/>
            <p:cNvSpPr/>
            <p:nvPr/>
          </p:nvSpPr>
          <p:spPr>
            <a:xfrm flipH="1" rot="739200">
              <a:off x="2676960" y="2499120"/>
              <a:ext cx="930960" cy="87408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矩形 4"/>
            <p:cNvSpPr/>
            <p:nvPr/>
          </p:nvSpPr>
          <p:spPr>
            <a:xfrm flipH="1">
              <a:off x="2629080" y="3107520"/>
              <a:ext cx="864000" cy="1631880"/>
            </a:xfrm>
            <a:custGeom>
              <a:avLst/>
              <a:gdLst>
                <a:gd name="textAreaLeft" fmla="*/ 360 w 864000"/>
                <a:gd name="textAreaRight" fmla="*/ 864720 w 864000"/>
                <a:gd name="textAreaTop" fmla="*/ 0 h 1631880"/>
                <a:gd name="textAreaBottom" fmla="*/ 1632240 h 1631880"/>
              </a:gdLst>
              <a:ahLst/>
              <a:rect l="textAreaLeft" t="textAreaTop" r="textAreaRight" b="textAreaBottom"/>
              <a:pathLst>
                <a:path w="965916" h="1639195">
                  <a:moveTo>
                    <a:pt x="170226" y="0"/>
                  </a:moveTo>
                  <a:lnTo>
                    <a:pt x="677217" y="37032"/>
                  </a:lnTo>
                  <a:lnTo>
                    <a:pt x="965916" y="1639195"/>
                  </a:lnTo>
                  <a:lnTo>
                    <a:pt x="0" y="1639195"/>
                  </a:lnTo>
                  <a:lnTo>
                    <a:pt x="170226" y="0"/>
                  </a:lnTo>
                  <a:close/>
                </a:path>
              </a:pathLst>
            </a:cu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梯形 29"/>
            <p:cNvSpPr/>
            <p:nvPr/>
          </p:nvSpPr>
          <p:spPr>
            <a:xfrm flipH="1" flipV="1">
              <a:off x="2877120" y="4045680"/>
              <a:ext cx="502200" cy="1261800"/>
            </a:xfrm>
            <a:custGeom>
              <a:avLst/>
              <a:gdLst>
                <a:gd name="textAreaLeft" fmla="*/ -360 w 502200"/>
                <a:gd name="textAreaRight" fmla="*/ 502200 w 502200"/>
                <a:gd name="textAreaTop" fmla="*/ -360 h 1261800"/>
                <a:gd name="textAreaBottom" fmla="*/ 1261800 h 1261800"/>
              </a:gdLst>
              <a:ahLst/>
              <a:rect l="textAreaLeft" t="textAreaTop" r="textAreaRight" b="textAreaBottom"/>
              <a:pathLst>
                <a:path w="631065" h="1687137">
                  <a:moveTo>
                    <a:pt x="0" y="1687137"/>
                  </a:moveTo>
                  <a:lnTo>
                    <a:pt x="199623" y="0"/>
                  </a:lnTo>
                  <a:lnTo>
                    <a:pt x="598868" y="0"/>
                  </a:lnTo>
                  <a:lnTo>
                    <a:pt x="631065" y="1674259"/>
                  </a:lnTo>
                  <a:lnTo>
                    <a:pt x="0" y="1687137"/>
                  </a:lnTo>
                  <a:close/>
                </a:path>
              </a:pathLst>
            </a:cu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平行四边形 10"/>
            <p:cNvSpPr/>
            <p:nvPr/>
          </p:nvSpPr>
          <p:spPr>
            <a:xfrm flipH="1" rot="20880600">
              <a:off x="2392920" y="2371320"/>
              <a:ext cx="1578600" cy="384840"/>
            </a:xfrm>
            <a:prstGeom prst="parallelogram">
              <a:avLst>
                <a:gd name="adj" fmla="val 153582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圆角矩形 11"/>
            <p:cNvSpPr/>
            <p:nvPr/>
          </p:nvSpPr>
          <p:spPr>
            <a:xfrm flipH="1" rot="3992400">
              <a:off x="2883240" y="3726360"/>
              <a:ext cx="1068840" cy="289080"/>
            </a:xfrm>
            <a:prstGeom prst="roundRect">
              <a:avLst>
                <a:gd name="adj" fmla="val 50000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矩形 12"/>
            <p:cNvSpPr/>
            <p:nvPr/>
          </p:nvSpPr>
          <p:spPr>
            <a:xfrm flipH="1">
              <a:off x="2466720" y="2523960"/>
              <a:ext cx="40680" cy="336960"/>
            </a:xfrm>
            <a:prstGeom prst="rect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椭圆 13"/>
            <p:cNvSpPr/>
            <p:nvPr/>
          </p:nvSpPr>
          <p:spPr>
            <a:xfrm flipH="1">
              <a:off x="2394720" y="2764800"/>
              <a:ext cx="173880" cy="16344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梯形 14"/>
            <p:cNvSpPr/>
            <p:nvPr/>
          </p:nvSpPr>
          <p:spPr>
            <a:xfrm flipH="1">
              <a:off x="2385360" y="2880720"/>
              <a:ext cx="194400" cy="230760"/>
            </a:xfrm>
            <a:prstGeom prst="trapezoid">
              <a:avLst>
                <a:gd name="adj" fmla="val 25000"/>
              </a:avLst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矩形 15"/>
            <p:cNvSpPr/>
            <p:nvPr/>
          </p:nvSpPr>
          <p:spPr>
            <a:xfrm flipH="1">
              <a:off x="3083040" y="5125320"/>
              <a:ext cx="225360" cy="182520"/>
            </a:xfrm>
            <a:prstGeom prst="rect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6" name="梯形 2"/>
          <p:cNvSpPr/>
          <p:nvPr/>
        </p:nvSpPr>
        <p:spPr>
          <a:xfrm>
            <a:off x="0" y="422280"/>
            <a:ext cx="4629960" cy="632880"/>
          </a:xfrm>
          <a:custGeom>
            <a:avLst/>
            <a:gdLst>
              <a:gd name="textAreaLeft" fmla="*/ 0 w 4629960"/>
              <a:gd name="textAreaRight" fmla="*/ 4630320 w 4629960"/>
              <a:gd name="textAreaTop" fmla="*/ 0 h 632880"/>
              <a:gd name="textAreaBottom" fmla="*/ 633240 h 63288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45720" y="431640"/>
            <a:ext cx="420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少商剑：写论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接连接符 42"/>
          <p:cNvCxnSpPr/>
          <p:nvPr/>
        </p:nvCxnSpPr>
        <p:spPr>
          <a:xfrm>
            <a:off x="9715320" y="6320520"/>
            <a:ext cx="360" cy="56052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grpSp>
        <p:nvGrpSpPr>
          <p:cNvPr id="139" name="组合 3"/>
          <p:cNvGrpSpPr/>
          <p:nvPr/>
        </p:nvGrpSpPr>
        <p:grpSpPr>
          <a:xfrm>
            <a:off x="8943840" y="4071960"/>
            <a:ext cx="1228320" cy="1228320"/>
            <a:chOff x="8943840" y="4071960"/>
            <a:chExt cx="1228320" cy="1228320"/>
          </a:xfrm>
        </p:grpSpPr>
        <p:sp>
          <p:nvSpPr>
            <p:cNvPr id="140" name="椭圆 1"/>
            <p:cNvSpPr/>
            <p:nvPr/>
          </p:nvSpPr>
          <p:spPr>
            <a:xfrm>
              <a:off x="8943840" y="4071960"/>
              <a:ext cx="1228320" cy="12283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文本框 33"/>
            <p:cNvSpPr/>
            <p:nvPr/>
          </p:nvSpPr>
          <p:spPr>
            <a:xfrm>
              <a:off x="9073080" y="4229640"/>
              <a:ext cx="8992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评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6"/>
          <p:cNvGrpSpPr/>
          <p:nvPr/>
        </p:nvGrpSpPr>
        <p:grpSpPr>
          <a:xfrm>
            <a:off x="3938760" y="4081320"/>
            <a:ext cx="1228320" cy="1228320"/>
            <a:chOff x="3938760" y="4081320"/>
            <a:chExt cx="1228320" cy="1228320"/>
          </a:xfrm>
        </p:grpSpPr>
        <p:sp>
          <p:nvSpPr>
            <p:cNvPr id="143" name="椭圆 41"/>
            <p:cNvSpPr/>
            <p:nvPr/>
          </p:nvSpPr>
          <p:spPr>
            <a:xfrm>
              <a:off x="3938760" y="4081320"/>
              <a:ext cx="1228320" cy="12283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文本框 4"/>
            <p:cNvSpPr/>
            <p:nvPr/>
          </p:nvSpPr>
          <p:spPr>
            <a:xfrm>
              <a:off x="4111200" y="4199040"/>
              <a:ext cx="93204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7"/>
          <p:cNvGrpSpPr/>
          <p:nvPr/>
        </p:nvGrpSpPr>
        <p:grpSpPr>
          <a:xfrm>
            <a:off x="4672080" y="2543040"/>
            <a:ext cx="1228320" cy="1228320"/>
            <a:chOff x="4672080" y="2543040"/>
            <a:chExt cx="1228320" cy="1228320"/>
          </a:xfrm>
        </p:grpSpPr>
        <p:sp>
          <p:nvSpPr>
            <p:cNvPr id="146" name="椭圆 43"/>
            <p:cNvSpPr/>
            <p:nvPr/>
          </p:nvSpPr>
          <p:spPr>
            <a:xfrm>
              <a:off x="4672080" y="2543040"/>
              <a:ext cx="1228320" cy="12283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文本框 30"/>
            <p:cNvSpPr/>
            <p:nvPr/>
          </p:nvSpPr>
          <p:spPr>
            <a:xfrm>
              <a:off x="4862160" y="2674800"/>
              <a:ext cx="100944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找准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24"/>
          <p:cNvGrpSpPr/>
          <p:nvPr/>
        </p:nvGrpSpPr>
        <p:grpSpPr>
          <a:xfrm>
            <a:off x="6300720" y="1971720"/>
            <a:ext cx="1228320" cy="1228320"/>
            <a:chOff x="6300720" y="1971720"/>
            <a:chExt cx="1228320" cy="1228320"/>
          </a:xfrm>
        </p:grpSpPr>
        <p:sp>
          <p:nvSpPr>
            <p:cNvPr id="149" name="椭圆 44"/>
            <p:cNvSpPr/>
            <p:nvPr/>
          </p:nvSpPr>
          <p:spPr>
            <a:xfrm>
              <a:off x="6300720" y="1971720"/>
              <a:ext cx="1228320" cy="12283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文本框 31"/>
            <p:cNvSpPr/>
            <p:nvPr/>
          </p:nvSpPr>
          <p:spPr>
            <a:xfrm>
              <a:off x="6488640" y="2118960"/>
              <a:ext cx="940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出对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46"/>
          <p:cNvGrpSpPr/>
          <p:nvPr/>
        </p:nvGrpSpPr>
        <p:grpSpPr>
          <a:xfrm>
            <a:off x="8072280" y="2571840"/>
            <a:ext cx="1228320" cy="1228320"/>
            <a:chOff x="8072280" y="2571840"/>
            <a:chExt cx="1228320" cy="1228320"/>
          </a:xfrm>
        </p:grpSpPr>
        <p:sp>
          <p:nvSpPr>
            <p:cNvPr id="152" name="椭圆 45"/>
            <p:cNvSpPr/>
            <p:nvPr/>
          </p:nvSpPr>
          <p:spPr>
            <a:xfrm>
              <a:off x="8072280" y="2571840"/>
              <a:ext cx="1228320" cy="1228320"/>
            </a:xfrm>
            <a:prstGeom prst="ellipse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文本框 32"/>
            <p:cNvSpPr/>
            <p:nvPr/>
          </p:nvSpPr>
          <p:spPr>
            <a:xfrm>
              <a:off x="8220960" y="2707560"/>
              <a:ext cx="10656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建立行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任意多边形 51"/>
          <p:cNvSpPr/>
          <p:nvPr/>
        </p:nvSpPr>
        <p:spPr>
          <a:xfrm>
            <a:off x="5284440" y="3508200"/>
            <a:ext cx="3485880" cy="2092320"/>
          </a:xfrm>
          <a:custGeom>
            <a:avLst/>
            <a:gdLst>
              <a:gd name="textAreaLeft" fmla="*/ 0 w 3485880"/>
              <a:gd name="textAreaRight" fmla="*/ 3486240 w 3485880"/>
              <a:gd name="textAreaTop" fmla="*/ 0 h 2092320"/>
              <a:gd name="textAreaBottom" fmla="*/ 2092680 h 2092320"/>
            </a:gdLst>
            <a:ahLst/>
            <a:rect l="textAreaLeft" t="textAreaTop" r="textAreaRight" b="textAreaBottom"/>
            <a:pathLst>
              <a:path w="3486150" h="2092555">
                <a:moveTo>
                  <a:pt x="1743075" y="0"/>
                </a:moveTo>
                <a:cubicBezTo>
                  <a:pt x="2705749" y="0"/>
                  <a:pt x="3486150" y="780401"/>
                  <a:pt x="3486150" y="1743075"/>
                </a:cubicBezTo>
                <a:cubicBezTo>
                  <a:pt x="3486150" y="1803242"/>
                  <a:pt x="3483102" y="1862697"/>
                  <a:pt x="3477151" y="1921294"/>
                </a:cubicBezTo>
                <a:lnTo>
                  <a:pt x="3451013" y="2092555"/>
                </a:lnTo>
                <a:lnTo>
                  <a:pt x="35137" y="2092555"/>
                </a:lnTo>
                <a:lnTo>
                  <a:pt x="8999" y="1921294"/>
                </a:lnTo>
                <a:cubicBezTo>
                  <a:pt x="3049" y="1862697"/>
                  <a:pt x="0" y="1803242"/>
                  <a:pt x="0" y="1743075"/>
                </a:cubicBezTo>
                <a:cubicBezTo>
                  <a:pt x="0" y="780401"/>
                  <a:pt x="780401" y="0"/>
                  <a:pt x="1743075" y="0"/>
                </a:cubicBezTo>
                <a:close/>
              </a:path>
            </a:pathLst>
          </a:cu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5" name="曲线连接符 54"/>
          <p:cNvCxnSpPr/>
          <p:nvPr/>
        </p:nvCxnSpPr>
        <p:spPr>
          <a:xfrm flipV="1">
            <a:off x="4619160" y="3700080"/>
            <a:ext cx="310320" cy="343440"/>
          </a:xfrm>
          <a:prstGeom prst="curvedConnector2">
            <a:avLst/>
          </a:prstGeom>
          <a:ln>
            <a:solidFill>
              <a:srgbClr val="990000"/>
            </a:solidFill>
            <a:tailEnd len="med" type="triangle" w="med"/>
          </a:ln>
        </p:spPr>
      </p:cxnSp>
      <p:cxnSp>
        <p:nvCxnSpPr>
          <p:cNvPr id="156" name="曲线连接符 61"/>
          <p:cNvCxnSpPr/>
          <p:nvPr/>
        </p:nvCxnSpPr>
        <p:spPr>
          <a:xfrm flipV="1">
            <a:off x="5819760" y="2625840"/>
            <a:ext cx="481320" cy="158400"/>
          </a:xfrm>
          <a:prstGeom prst="curvedConnector2">
            <a:avLst/>
          </a:prstGeom>
          <a:ln>
            <a:solidFill>
              <a:srgbClr val="990000"/>
            </a:solidFill>
            <a:tailEnd len="med" type="triangle" w="med"/>
          </a:ln>
        </p:spPr>
      </p:cxnSp>
      <p:cxnSp>
        <p:nvCxnSpPr>
          <p:cNvPr id="157" name="曲线连接符 66"/>
          <p:cNvCxnSpPr/>
          <p:nvPr/>
        </p:nvCxnSpPr>
        <p:spPr>
          <a:xfrm>
            <a:off x="7592760" y="2707560"/>
            <a:ext cx="531360" cy="209160"/>
          </a:xfrm>
          <a:prstGeom prst="curvedConnector2">
            <a:avLst/>
          </a:prstGeom>
          <a:ln>
            <a:solidFill>
              <a:srgbClr val="990000"/>
            </a:solidFill>
            <a:tailEnd len="med" type="triangle" w="med"/>
          </a:ln>
        </p:spPr>
      </p:cxnSp>
      <p:cxnSp>
        <p:nvCxnSpPr>
          <p:cNvPr id="158" name="曲线连接符 69"/>
          <p:cNvCxnSpPr/>
          <p:nvPr/>
        </p:nvCxnSpPr>
        <p:spPr>
          <a:xfrm>
            <a:off x="9107640" y="3690000"/>
            <a:ext cx="212760" cy="381960"/>
          </a:xfrm>
          <a:prstGeom prst="curvedConnector2">
            <a:avLst/>
          </a:prstGeom>
          <a:ln>
            <a:solidFill>
              <a:srgbClr val="990000"/>
            </a:solidFill>
            <a:tailEnd len="med" type="triangle" w="med"/>
          </a:ln>
        </p:spPr>
      </p:cxnSp>
      <p:pic>
        <p:nvPicPr>
          <p:cNvPr id="159" name="图片 18" descr=""/>
          <p:cNvPicPr/>
          <p:nvPr/>
        </p:nvPicPr>
        <p:blipFill>
          <a:blip r:embed="rId1"/>
          <a:stretch/>
        </p:blipFill>
        <p:spPr>
          <a:xfrm>
            <a:off x="7324200" y="-1195200"/>
            <a:ext cx="6687360" cy="63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0" name="直接连接符 57"/>
          <p:cNvCxnSpPr/>
          <p:nvPr/>
        </p:nvCxnSpPr>
        <p:spPr>
          <a:xfrm>
            <a:off x="9715320" y="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161" name="直接连接符 58"/>
          <p:cNvCxnSpPr/>
          <p:nvPr/>
        </p:nvCxnSpPr>
        <p:spPr>
          <a:xfrm>
            <a:off x="2514600" y="6320520"/>
            <a:ext cx="360" cy="53784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62" name="梯形 2"/>
          <p:cNvSpPr/>
          <p:nvPr/>
        </p:nvSpPr>
        <p:spPr>
          <a:xfrm flipH="1">
            <a:off x="7616520" y="457200"/>
            <a:ext cx="4602960" cy="639720"/>
          </a:xfrm>
          <a:custGeom>
            <a:avLst/>
            <a:gdLst>
              <a:gd name="textAreaLeft" fmla="*/ 360 w 4602960"/>
              <a:gd name="textAreaRight" fmla="*/ 4603680 w 46029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3" name="直接连接符 60"/>
          <p:cNvCxnSpPr/>
          <p:nvPr/>
        </p:nvCxnSpPr>
        <p:spPr>
          <a:xfrm flipH="1">
            <a:off x="2514600" y="6332040"/>
            <a:ext cx="720108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164" name="剪去单角的矩形 5"/>
          <p:cNvSpPr/>
          <p:nvPr/>
        </p:nvSpPr>
        <p:spPr>
          <a:xfrm flipV="1">
            <a:off x="1783080" y="1802880"/>
            <a:ext cx="8618040" cy="380952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文本框 7"/>
          <p:cNvSpPr/>
          <p:nvPr/>
        </p:nvSpPr>
        <p:spPr>
          <a:xfrm>
            <a:off x="3447000" y="1936440"/>
            <a:ext cx="5218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990000"/>
                </a:solidFill>
                <a:latin typeface="微软雅黑"/>
                <a:ea typeface="微软雅黑"/>
              </a:rPr>
              <a:t>和自己</a:t>
            </a:r>
            <a:r>
              <a:rPr b="1" lang="zh-CN" sz="5400" spc="-1" strike="noStrike">
                <a:solidFill>
                  <a:srgbClr val="767171"/>
                </a:solidFill>
                <a:latin typeface="微软雅黑"/>
                <a:ea typeface="微软雅黑"/>
              </a:rPr>
              <a:t>兴趣</a:t>
            </a:r>
            <a:r>
              <a:rPr b="1" lang="zh-CN" sz="4800" spc="-1" strike="noStrike">
                <a:solidFill>
                  <a:srgbClr val="990000"/>
                </a:solidFill>
                <a:latin typeface="微软雅黑"/>
                <a:ea typeface="微软雅黑"/>
              </a:rPr>
              <a:t>相结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4"/>
          <p:cNvSpPr/>
          <p:nvPr/>
        </p:nvSpPr>
        <p:spPr>
          <a:xfrm>
            <a:off x="5671800" y="3641040"/>
            <a:ext cx="84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1"/>
          <p:cNvSpPr/>
          <p:nvPr/>
        </p:nvSpPr>
        <p:spPr>
          <a:xfrm>
            <a:off x="2344320" y="3814200"/>
            <a:ext cx="1611360" cy="1599840"/>
          </a:xfrm>
          <a:prstGeom prst="roundRect">
            <a:avLst>
              <a:gd name="adj" fmla="val 29649"/>
            </a:avLst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圆角矩形 12"/>
          <p:cNvSpPr/>
          <p:nvPr/>
        </p:nvSpPr>
        <p:spPr>
          <a:xfrm>
            <a:off x="2439360" y="3920400"/>
            <a:ext cx="1416240" cy="1387800"/>
          </a:xfrm>
          <a:prstGeom prst="roundRect">
            <a:avLst>
              <a:gd name="adj" fmla="val 29649"/>
            </a:avLst>
          </a:prstGeom>
          <a:solidFill>
            <a:schemeClr val="bg1"/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流程图: 可选过程 19"/>
          <p:cNvSpPr/>
          <p:nvPr/>
        </p:nvSpPr>
        <p:spPr>
          <a:xfrm>
            <a:off x="2344320" y="2951280"/>
            <a:ext cx="1611360" cy="572400"/>
          </a:xfrm>
          <a:prstGeom prst="flowChartAlternateProcess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文本框 35"/>
          <p:cNvSpPr/>
          <p:nvPr/>
        </p:nvSpPr>
        <p:spPr>
          <a:xfrm>
            <a:off x="2777400" y="3008520"/>
            <a:ext cx="84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6"/>
          <p:cNvSpPr/>
          <p:nvPr/>
        </p:nvSpPr>
        <p:spPr>
          <a:xfrm>
            <a:off x="8251200" y="3807000"/>
            <a:ext cx="1611360" cy="1599840"/>
          </a:xfrm>
          <a:prstGeom prst="roundRect">
            <a:avLst>
              <a:gd name="adj" fmla="val 29649"/>
            </a:avLst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圆角矩形 17"/>
          <p:cNvSpPr/>
          <p:nvPr/>
        </p:nvSpPr>
        <p:spPr>
          <a:xfrm>
            <a:off x="8348760" y="3926880"/>
            <a:ext cx="1416240" cy="1387800"/>
          </a:xfrm>
          <a:prstGeom prst="roundRect">
            <a:avLst>
              <a:gd name="adj" fmla="val 29649"/>
            </a:avLst>
          </a:prstGeom>
          <a:solidFill>
            <a:schemeClr val="bg1"/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任意多边形 28"/>
          <p:cNvSpPr/>
          <p:nvPr/>
        </p:nvSpPr>
        <p:spPr>
          <a:xfrm rot="2503800">
            <a:off x="2548440" y="4252320"/>
            <a:ext cx="921960" cy="932760"/>
          </a:xfrm>
          <a:custGeom>
            <a:avLst/>
            <a:gdLst>
              <a:gd name="textAreaLeft" fmla="*/ 0 w 921960"/>
              <a:gd name="textAreaRight" fmla="*/ 922320 w 921960"/>
              <a:gd name="textAreaTop" fmla="*/ 0 h 932760"/>
              <a:gd name="textAreaBottom" fmla="*/ 933120 h 932760"/>
            </a:gdLst>
            <a:ahLst/>
            <a:rect l="textAreaLeft" t="textAreaTop" r="textAreaRight" b="textAreaBottom"/>
            <a:pathLst>
              <a:path w="982064" h="993838">
                <a:moveTo>
                  <a:pt x="116059" y="120770"/>
                </a:moveTo>
                <a:cubicBezTo>
                  <a:pt x="138793" y="98412"/>
                  <a:pt x="163788" y="86049"/>
                  <a:pt x="190025" y="86049"/>
                </a:cubicBezTo>
                <a:cubicBezTo>
                  <a:pt x="242499" y="86049"/>
                  <a:pt x="290005" y="135503"/>
                  <a:pt x="324393" y="215459"/>
                </a:cubicBezTo>
                <a:lnTo>
                  <a:pt x="333718" y="241738"/>
                </a:lnTo>
                <a:lnTo>
                  <a:pt x="337064" y="231952"/>
                </a:lnTo>
                <a:cubicBezTo>
                  <a:pt x="396568" y="82015"/>
                  <a:pt x="485876" y="-13871"/>
                  <a:pt x="565026" y="1639"/>
                </a:cubicBezTo>
                <a:cubicBezTo>
                  <a:pt x="604601" y="9394"/>
                  <a:pt x="636016" y="43897"/>
                  <a:pt x="657352" y="96624"/>
                </a:cubicBezTo>
                <a:lnTo>
                  <a:pt x="663859" y="117880"/>
                </a:lnTo>
                <a:lnTo>
                  <a:pt x="697536" y="109845"/>
                </a:lnTo>
                <a:cubicBezTo>
                  <a:pt x="794455" y="94511"/>
                  <a:pt x="882922" y="106028"/>
                  <a:pt x="934883" y="164281"/>
                </a:cubicBezTo>
                <a:cubicBezTo>
                  <a:pt x="1073447" y="319623"/>
                  <a:pt x="874909" y="700800"/>
                  <a:pt x="749150" y="833073"/>
                </a:cubicBezTo>
                <a:cubicBezTo>
                  <a:pt x="639111" y="948812"/>
                  <a:pt x="346974" y="1023291"/>
                  <a:pt x="222429" y="982617"/>
                </a:cubicBezTo>
                <a:lnTo>
                  <a:pt x="197466" y="967971"/>
                </a:lnTo>
                <a:lnTo>
                  <a:pt x="190025" y="969715"/>
                </a:lnTo>
                <a:cubicBezTo>
                  <a:pt x="85077" y="969715"/>
                  <a:pt x="0" y="771900"/>
                  <a:pt x="0" y="527882"/>
                </a:cubicBezTo>
                <a:cubicBezTo>
                  <a:pt x="0" y="344869"/>
                  <a:pt x="47856" y="187844"/>
                  <a:pt x="116059" y="120770"/>
                </a:cubicBezTo>
                <a:close/>
              </a:path>
            </a:pathLst>
          </a:cu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椭圆 15"/>
          <p:cNvSpPr/>
          <p:nvPr/>
        </p:nvSpPr>
        <p:spPr>
          <a:xfrm>
            <a:off x="2588040" y="4525560"/>
            <a:ext cx="789480" cy="461520"/>
          </a:xfrm>
          <a:custGeom>
            <a:avLst/>
            <a:gdLst>
              <a:gd name="textAreaLeft" fmla="*/ 0 w 789480"/>
              <a:gd name="textAreaRight" fmla="*/ 789840 w 78948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841022" h="635564">
                <a:moveTo>
                  <a:pt x="0" y="317792"/>
                </a:moveTo>
                <a:cubicBezTo>
                  <a:pt x="0" y="142343"/>
                  <a:pt x="254215" y="4468"/>
                  <a:pt x="394385" y="114"/>
                </a:cubicBezTo>
                <a:cubicBezTo>
                  <a:pt x="534555" y="-4240"/>
                  <a:pt x="841022" y="116217"/>
                  <a:pt x="841022" y="291666"/>
                </a:cubicBezTo>
                <a:cubicBezTo>
                  <a:pt x="841022" y="467115"/>
                  <a:pt x="534555" y="631116"/>
                  <a:pt x="394385" y="635470"/>
                </a:cubicBezTo>
                <a:cubicBezTo>
                  <a:pt x="254215" y="639824"/>
                  <a:pt x="0" y="493241"/>
                  <a:pt x="0" y="317792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椭圆 23"/>
          <p:cNvSpPr/>
          <p:nvPr/>
        </p:nvSpPr>
        <p:spPr>
          <a:xfrm>
            <a:off x="2743920" y="4591080"/>
            <a:ext cx="355320" cy="3553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椭圆 31"/>
          <p:cNvSpPr/>
          <p:nvPr/>
        </p:nvSpPr>
        <p:spPr>
          <a:xfrm>
            <a:off x="2825640" y="4758840"/>
            <a:ext cx="109800" cy="1098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椭圆 32"/>
          <p:cNvSpPr/>
          <p:nvPr/>
        </p:nvSpPr>
        <p:spPr>
          <a:xfrm flipH="1">
            <a:off x="2936160" y="4705560"/>
            <a:ext cx="44640" cy="44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8" name="组合 42"/>
          <p:cNvGrpSpPr/>
          <p:nvPr/>
        </p:nvGrpSpPr>
        <p:grpSpPr>
          <a:xfrm>
            <a:off x="3042720" y="4024800"/>
            <a:ext cx="779400" cy="818280"/>
            <a:chOff x="3042720" y="4024800"/>
            <a:chExt cx="779400" cy="818280"/>
          </a:xfrm>
        </p:grpSpPr>
        <p:grpSp>
          <p:nvGrpSpPr>
            <p:cNvPr id="179" name="组合 33"/>
            <p:cNvGrpSpPr/>
            <p:nvPr/>
          </p:nvGrpSpPr>
          <p:grpSpPr>
            <a:xfrm>
              <a:off x="3241440" y="4248360"/>
              <a:ext cx="380520" cy="399240"/>
              <a:chOff x="3241440" y="4248360"/>
              <a:chExt cx="380520" cy="399240"/>
            </a:xfrm>
          </p:grpSpPr>
          <p:sp>
            <p:nvSpPr>
              <p:cNvPr id="180" name="空心弧 26"/>
              <p:cNvSpPr/>
              <p:nvPr/>
            </p:nvSpPr>
            <p:spPr>
              <a:xfrm rot="3998400">
                <a:off x="3274200" y="4308480"/>
                <a:ext cx="314640" cy="278280"/>
              </a:xfrm>
              <a:prstGeom prst="blockArc">
                <a:avLst>
                  <a:gd name="adj1" fmla="val 10909826"/>
                  <a:gd name="adj2" fmla="val 20253936"/>
                  <a:gd name="adj3" fmla="val 27216"/>
                </a:avLst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椭圆 29"/>
              <p:cNvSpPr/>
              <p:nvPr/>
            </p:nvSpPr>
            <p:spPr>
              <a:xfrm>
                <a:off x="3351960" y="4301640"/>
                <a:ext cx="72000" cy="72000"/>
              </a:xfrm>
              <a:prstGeom prst="ellipse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" name="椭圆 38"/>
              <p:cNvSpPr/>
              <p:nvPr/>
            </p:nvSpPr>
            <p:spPr>
              <a:xfrm>
                <a:off x="3478320" y="4494600"/>
                <a:ext cx="72000" cy="72000"/>
              </a:xfrm>
              <a:prstGeom prst="ellipse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41"/>
            <p:cNvGrpSpPr/>
            <p:nvPr/>
          </p:nvGrpSpPr>
          <p:grpSpPr>
            <a:xfrm>
              <a:off x="3042720" y="4024800"/>
              <a:ext cx="779400" cy="818280"/>
              <a:chOff x="3042720" y="4024800"/>
              <a:chExt cx="779400" cy="818280"/>
            </a:xfrm>
          </p:grpSpPr>
          <p:sp>
            <p:nvSpPr>
              <p:cNvPr id="184" name="空心弧 37"/>
              <p:cNvSpPr/>
              <p:nvPr/>
            </p:nvSpPr>
            <p:spPr>
              <a:xfrm rot="3998400">
                <a:off x="3110040" y="4148280"/>
                <a:ext cx="644760" cy="570600"/>
              </a:xfrm>
              <a:prstGeom prst="blockArc">
                <a:avLst>
                  <a:gd name="adj1" fmla="val 10909826"/>
                  <a:gd name="adj2" fmla="val 19830281"/>
                  <a:gd name="adj3" fmla="val 15592"/>
                </a:avLst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39"/>
              <p:cNvSpPr/>
              <p:nvPr/>
            </p:nvSpPr>
            <p:spPr>
              <a:xfrm>
                <a:off x="3286080" y="4132080"/>
                <a:ext cx="88200" cy="88200"/>
              </a:xfrm>
              <a:prstGeom prst="ellipse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" name="椭圆 40"/>
              <p:cNvSpPr/>
              <p:nvPr/>
            </p:nvSpPr>
            <p:spPr>
              <a:xfrm>
                <a:off x="3606480" y="4543200"/>
                <a:ext cx="88200" cy="88200"/>
              </a:xfrm>
              <a:prstGeom prst="ellipse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87" name="圆角矩形 45"/>
          <p:cNvSpPr/>
          <p:nvPr/>
        </p:nvSpPr>
        <p:spPr>
          <a:xfrm>
            <a:off x="5243760" y="3808080"/>
            <a:ext cx="1611360" cy="1599840"/>
          </a:xfrm>
          <a:prstGeom prst="roundRect">
            <a:avLst>
              <a:gd name="adj" fmla="val 29649"/>
            </a:avLst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8" name="直接连接符 77"/>
          <p:cNvCxnSpPr/>
          <p:nvPr/>
        </p:nvCxnSpPr>
        <p:spPr>
          <a:xfrm flipV="1">
            <a:off x="5355720" y="4862880"/>
            <a:ext cx="1396080" cy="2160"/>
          </a:xfrm>
          <a:prstGeom prst="straightConnector1">
            <a:avLst/>
          </a:prstGeom>
          <a:ln>
            <a:solidFill>
              <a:srgbClr val="9ecb7f"/>
            </a:solidFill>
          </a:ln>
        </p:spPr>
      </p:cxnSp>
      <p:grpSp>
        <p:nvGrpSpPr>
          <p:cNvPr id="189" name="组合 103"/>
          <p:cNvGrpSpPr/>
          <p:nvPr/>
        </p:nvGrpSpPr>
        <p:grpSpPr>
          <a:xfrm>
            <a:off x="5328360" y="3922560"/>
            <a:ext cx="1416240" cy="1387800"/>
            <a:chOff x="5328360" y="3922560"/>
            <a:chExt cx="1416240" cy="1387800"/>
          </a:xfrm>
        </p:grpSpPr>
        <p:sp>
          <p:nvSpPr>
            <p:cNvPr id="190" name="圆角矩形 86"/>
            <p:cNvSpPr/>
            <p:nvPr/>
          </p:nvSpPr>
          <p:spPr>
            <a:xfrm>
              <a:off x="5328360" y="3922560"/>
              <a:ext cx="1416240" cy="1387800"/>
            </a:xfrm>
            <a:prstGeom prst="roundRect">
              <a:avLst>
                <a:gd name="adj" fmla="val 29649"/>
              </a:avLst>
            </a:prstGeom>
            <a:solidFill>
              <a:schemeClr val="bg1"/>
            </a:soli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1" name="直接连接符 87"/>
            <p:cNvCxnSpPr/>
            <p:nvPr/>
          </p:nvCxnSpPr>
          <p:spPr>
            <a:xfrm flipV="1">
              <a:off x="5330160" y="4843800"/>
              <a:ext cx="1396080" cy="2160"/>
            </a:xfrm>
            <a:prstGeom prst="straightConnector1">
              <a:avLst/>
            </a:prstGeom>
            <a:ln>
              <a:solidFill>
                <a:srgbClr val="990000"/>
              </a:solidFill>
            </a:ln>
          </p:spPr>
        </p:cxnSp>
        <p:cxnSp>
          <p:nvCxnSpPr>
            <p:cNvPr id="192" name="直接连接符 89"/>
            <p:cNvCxnSpPr/>
            <p:nvPr/>
          </p:nvCxnSpPr>
          <p:spPr>
            <a:xfrm flipV="1">
              <a:off x="5339520" y="4615200"/>
              <a:ext cx="1396440" cy="2160"/>
            </a:xfrm>
            <a:prstGeom prst="straightConnector1">
              <a:avLst/>
            </a:prstGeom>
            <a:ln>
              <a:solidFill>
                <a:srgbClr val="990000"/>
              </a:solidFill>
            </a:ln>
          </p:spPr>
        </p:cxnSp>
        <p:cxnSp>
          <p:nvCxnSpPr>
            <p:cNvPr id="193" name="直接连接符 101"/>
            <p:cNvCxnSpPr/>
            <p:nvPr/>
          </p:nvCxnSpPr>
          <p:spPr>
            <a:xfrm flipV="1">
              <a:off x="5328360" y="4156920"/>
              <a:ext cx="1396080" cy="1800"/>
            </a:xfrm>
            <a:prstGeom prst="straightConnector1">
              <a:avLst/>
            </a:prstGeom>
            <a:ln>
              <a:solidFill>
                <a:srgbClr val="990000"/>
              </a:solidFill>
            </a:ln>
          </p:spPr>
        </p:cxnSp>
        <p:cxnSp>
          <p:nvCxnSpPr>
            <p:cNvPr id="194" name="直接连接符 90"/>
            <p:cNvCxnSpPr/>
            <p:nvPr/>
          </p:nvCxnSpPr>
          <p:spPr>
            <a:xfrm flipV="1">
              <a:off x="5339520" y="4396320"/>
              <a:ext cx="1396440" cy="1800"/>
            </a:xfrm>
            <a:prstGeom prst="straightConnector1">
              <a:avLst/>
            </a:prstGeom>
            <a:ln>
              <a:solidFill>
                <a:srgbClr val="990000"/>
              </a:solidFill>
            </a:ln>
          </p:spPr>
        </p:cxnSp>
        <p:grpSp>
          <p:nvGrpSpPr>
            <p:cNvPr id="195" name="组合 91"/>
            <p:cNvGrpSpPr/>
            <p:nvPr/>
          </p:nvGrpSpPr>
          <p:grpSpPr>
            <a:xfrm>
              <a:off x="5476680" y="4134960"/>
              <a:ext cx="1082880" cy="1049760"/>
              <a:chOff x="5476680" y="4134960"/>
              <a:chExt cx="1082880" cy="1049760"/>
            </a:xfrm>
          </p:grpSpPr>
          <p:grpSp>
            <p:nvGrpSpPr>
              <p:cNvPr id="196" name="组合 92"/>
              <p:cNvGrpSpPr/>
              <p:nvPr/>
            </p:nvGrpSpPr>
            <p:grpSpPr>
              <a:xfrm>
                <a:off x="5476680" y="4134960"/>
                <a:ext cx="1082880" cy="1049760"/>
                <a:chOff x="5476680" y="4134960"/>
                <a:chExt cx="1082880" cy="1049760"/>
              </a:xfrm>
            </p:grpSpPr>
            <p:grpSp>
              <p:nvGrpSpPr>
                <p:cNvPr id="197" name="组合 94"/>
                <p:cNvGrpSpPr/>
                <p:nvPr/>
              </p:nvGrpSpPr>
              <p:grpSpPr>
                <a:xfrm>
                  <a:off x="5476680" y="4134960"/>
                  <a:ext cx="1082880" cy="1049760"/>
                  <a:chOff x="5476680" y="4134960"/>
                  <a:chExt cx="1082880" cy="1049760"/>
                </a:xfrm>
              </p:grpSpPr>
              <p:sp>
                <p:nvSpPr>
                  <p:cNvPr id="198" name="圆角矩形 96"/>
                  <p:cNvSpPr/>
                  <p:nvPr/>
                </p:nvSpPr>
                <p:spPr>
                  <a:xfrm rot="2778000">
                    <a:off x="6007320" y="4113000"/>
                    <a:ext cx="281160" cy="8524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圆角矩形 97"/>
                  <p:cNvSpPr/>
                  <p:nvPr/>
                </p:nvSpPr>
                <p:spPr>
                  <a:xfrm rot="2778000">
                    <a:off x="6260040" y="4208040"/>
                    <a:ext cx="278280" cy="1774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90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等腰三角形 98"/>
                  <p:cNvSpPr/>
                  <p:nvPr/>
                </p:nvSpPr>
                <p:spPr>
                  <a:xfrm rot="13670400">
                    <a:off x="5577120" y="4740480"/>
                    <a:ext cx="293760" cy="401040"/>
                  </a:xfrm>
                  <a:prstGeom prst="triangle">
                    <a:avLst>
                      <a:gd name="adj" fmla="val 53153"/>
                    </a:avLst>
                  </a:prstGeom>
                  <a:solidFill>
                    <a:srgbClr val="990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矩形 99"/>
                  <p:cNvSpPr/>
                  <p:nvPr/>
                </p:nvSpPr>
                <p:spPr>
                  <a:xfrm rot="18921000">
                    <a:off x="6318000" y="4198680"/>
                    <a:ext cx="81000" cy="277920"/>
                  </a:xfrm>
                  <a:prstGeom prst="rect">
                    <a:avLst/>
                  </a:prstGeom>
                  <a:solidFill>
                    <a:schemeClr val="bg1">
                      <a:lumMod val="50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202" name="直接连接符 100"/>
                  <p:cNvCxnSpPr/>
                  <p:nvPr/>
                </p:nvCxnSpPr>
                <p:spPr>
                  <a:xfrm flipH="1">
                    <a:off x="5897160" y="4393080"/>
                    <a:ext cx="463680" cy="433440"/>
                  </a:xfrm>
                  <a:prstGeom prst="straightConnector1">
                    <a:avLst/>
                  </a:prstGeom>
                  <a:ln>
                    <a:solidFill>
                      <a:srgbClr val="990000"/>
                    </a:solidFill>
                  </a:ln>
                </p:spPr>
              </p:cxnSp>
            </p:grpSp>
            <p:sp>
              <p:nvSpPr>
                <p:cNvPr id="203" name="等腰三角形 95"/>
                <p:cNvSpPr/>
                <p:nvPr/>
              </p:nvSpPr>
              <p:spPr>
                <a:xfrm rot="13670400">
                  <a:off x="5573520" y="4986360"/>
                  <a:ext cx="68040" cy="100440"/>
                </a:xfrm>
                <a:prstGeom prst="triangle">
                  <a:avLst>
                    <a:gd name="adj" fmla="val 53153"/>
                  </a:avLst>
                </a:prstGeom>
                <a:solidFill>
                  <a:schemeClr val="bg1">
                    <a:lumMod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204" name="直接连接符 93"/>
              <p:cNvCxnSpPr/>
              <p:nvPr/>
            </p:nvCxnSpPr>
            <p:spPr>
              <a:xfrm flipH="1">
                <a:off x="5829480" y="4324680"/>
                <a:ext cx="463680" cy="433080"/>
              </a:xfrm>
              <a:prstGeom prst="straightConnector1">
                <a:avLst/>
              </a:prstGeom>
              <a:ln>
                <a:solidFill>
                  <a:srgbClr val="990000"/>
                </a:solidFill>
              </a:ln>
            </p:spPr>
          </p:cxnSp>
        </p:grpSp>
      </p:grpSp>
      <p:cxnSp>
        <p:nvCxnSpPr>
          <p:cNvPr id="205" name="直接连接符 52"/>
          <p:cNvCxnSpPr/>
          <p:nvPr/>
        </p:nvCxnSpPr>
        <p:spPr>
          <a:xfrm flipV="1">
            <a:off x="5313600" y="5067360"/>
            <a:ext cx="1396080" cy="21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06" name="流程图: 可选过程 53"/>
          <p:cNvSpPr/>
          <p:nvPr/>
        </p:nvSpPr>
        <p:spPr>
          <a:xfrm>
            <a:off x="5250600" y="2942280"/>
            <a:ext cx="1611360" cy="572400"/>
          </a:xfrm>
          <a:prstGeom prst="flowChartAlternateProcess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文本框 55"/>
          <p:cNvSpPr/>
          <p:nvPr/>
        </p:nvSpPr>
        <p:spPr>
          <a:xfrm>
            <a:off x="5704920" y="3000960"/>
            <a:ext cx="84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流程图: 可选过程 56"/>
          <p:cNvSpPr/>
          <p:nvPr/>
        </p:nvSpPr>
        <p:spPr>
          <a:xfrm>
            <a:off x="8250840" y="2942280"/>
            <a:ext cx="1611360" cy="572400"/>
          </a:xfrm>
          <a:prstGeom prst="flowChartAlternateProcess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文本框 36"/>
          <p:cNvSpPr/>
          <p:nvPr/>
        </p:nvSpPr>
        <p:spPr>
          <a:xfrm>
            <a:off x="8694000" y="3001680"/>
            <a:ext cx="847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7955280" y="470880"/>
            <a:ext cx="4236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商阳剑：写长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2" descr=""/>
          <p:cNvPicPr/>
          <p:nvPr/>
        </p:nvPicPr>
        <p:blipFill>
          <a:blip r:embed="rId1"/>
          <a:stretch/>
        </p:blipFill>
        <p:spPr>
          <a:xfrm>
            <a:off x="8420040" y="4050000"/>
            <a:ext cx="1161720" cy="11617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" descr=""/>
          <p:cNvPicPr/>
          <p:nvPr/>
        </p:nvPicPr>
        <p:blipFill>
          <a:blip r:embed="rId2"/>
          <a:stretch/>
        </p:blipFill>
        <p:spPr>
          <a:xfrm>
            <a:off x="-2182680" y="2368080"/>
            <a:ext cx="6681600" cy="63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3" name="直接连接符 18"/>
          <p:cNvCxnSpPr/>
          <p:nvPr/>
        </p:nvCxnSpPr>
        <p:spPr>
          <a:xfrm>
            <a:off x="2495880" y="-144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214" name="直接连接符 19"/>
          <p:cNvCxnSpPr/>
          <p:nvPr/>
        </p:nvCxnSpPr>
        <p:spPr>
          <a:xfrm flipH="1">
            <a:off x="2507400" y="6321600"/>
            <a:ext cx="720108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215" name="直接连接符 21"/>
          <p:cNvCxnSpPr/>
          <p:nvPr/>
        </p:nvCxnSpPr>
        <p:spPr>
          <a:xfrm>
            <a:off x="9704520" y="6318000"/>
            <a:ext cx="360" cy="5601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16" name="剪去单角的矩形 4"/>
          <p:cNvSpPr/>
          <p:nvPr/>
        </p:nvSpPr>
        <p:spPr>
          <a:xfrm flipH="1" flipV="1">
            <a:off x="1751400" y="1919880"/>
            <a:ext cx="8623080" cy="376956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17" name="直接连接符 6"/>
          <p:cNvCxnSpPr>
            <a:endCxn id="218" idx="0"/>
          </p:cNvCxnSpPr>
          <p:nvPr/>
        </p:nvCxnSpPr>
        <p:spPr>
          <a:xfrm>
            <a:off x="1752480" y="4779360"/>
            <a:ext cx="213552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18" name="弧形 7"/>
          <p:cNvSpPr/>
          <p:nvPr/>
        </p:nvSpPr>
        <p:spPr>
          <a:xfrm>
            <a:off x="3885480" y="3974040"/>
            <a:ext cx="1497960" cy="1497960"/>
          </a:xfrm>
          <a:prstGeom prst="arc">
            <a:avLst>
              <a:gd name="adj1" fmla="val 10541885"/>
              <a:gd name="adj2" fmla="val 289825"/>
            </a:avLst>
          </a:prstGeom>
          <a:noFill/>
          <a:ln>
            <a:solidFill>
              <a:srgbClr val="99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弧形 11"/>
          <p:cNvSpPr/>
          <p:nvPr/>
        </p:nvSpPr>
        <p:spPr>
          <a:xfrm>
            <a:off x="6750000" y="3993120"/>
            <a:ext cx="1497960" cy="1497960"/>
          </a:xfrm>
          <a:prstGeom prst="arc">
            <a:avLst>
              <a:gd name="adj1" fmla="val 10541885"/>
              <a:gd name="adj2" fmla="val 289825"/>
            </a:avLst>
          </a:prstGeom>
          <a:noFill/>
          <a:ln>
            <a:solidFill>
              <a:srgbClr val="99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0" name="直接连接符 14"/>
          <p:cNvCxnSpPr/>
          <p:nvPr/>
        </p:nvCxnSpPr>
        <p:spPr>
          <a:xfrm>
            <a:off x="8247960" y="4782240"/>
            <a:ext cx="212796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21" name="椭圆 20"/>
          <p:cNvSpPr/>
          <p:nvPr/>
        </p:nvSpPr>
        <p:spPr>
          <a:xfrm>
            <a:off x="6793560" y="4064400"/>
            <a:ext cx="1417320" cy="1417320"/>
          </a:xfrm>
          <a:prstGeom prst="ellipse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2" name="图片 2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colorTemp="4700" sat="400000"/>
                    </a14:imgEffect>
                  </a14:imgLayer>
                </a14:imgProps>
              </a:ext>
            </a:extLst>
          </a:blip>
          <a:srcRect l="80055" t="5532" r="3580" b="70601"/>
          <a:stretch/>
        </p:blipFill>
        <p:spPr>
          <a:xfrm>
            <a:off x="6962760" y="4074840"/>
            <a:ext cx="1063080" cy="1148760"/>
          </a:xfrm>
          <a:prstGeom prst="rect">
            <a:avLst/>
          </a:prstGeom>
          <a:ln w="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71924185"/>
              </p:ext>
            </p:extLst>
          </p:nvPr>
        </p:nvGraphicFramePr>
        <p:xfrm>
          <a:off x="2799720" y="1574640"/>
          <a:ext cx="6393600" cy="2095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569684237"/>
              </p:ext>
            </p:extLst>
          </p:nvPr>
        </p:nvGraphicFramePr>
        <p:xfrm>
          <a:off x="2733840" y="2628720"/>
          <a:ext cx="6393600" cy="1777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" r:lo="rId8" r:qs="rId9" r:cs="rId10"/>
          </a:graphicData>
        </a:graphic>
      </p:graphicFrame>
      <p:sp>
        <p:nvSpPr>
          <p:cNvPr id="223" name="椭圆 27"/>
          <p:cNvSpPr/>
          <p:nvPr/>
        </p:nvSpPr>
        <p:spPr>
          <a:xfrm>
            <a:off x="3942360" y="4056480"/>
            <a:ext cx="1417320" cy="1417320"/>
          </a:xfrm>
          <a:prstGeom prst="ellipse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4" name="图片 28" descr=""/>
          <p:cNvPicPr/>
          <p:nvPr/>
        </p:nvPicPr>
        <p:blipFill>
          <a:blip r:embed="rId1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colorTemp="4700" sat="400000"/>
                    </a14:imgEffect>
                  </a14:imgLayer>
                </a14:imgProps>
              </a:ext>
            </a:extLst>
          </a:blip>
          <a:srcRect l="41673" t="37513" r="41279" b="36038"/>
          <a:stretch/>
        </p:blipFill>
        <p:spPr>
          <a:xfrm>
            <a:off x="4097880" y="4189680"/>
            <a:ext cx="1056960" cy="1155600"/>
          </a:xfrm>
          <a:prstGeom prst="rect">
            <a:avLst/>
          </a:prstGeom>
          <a:ln w="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</p:pic>
      <p:cxnSp>
        <p:nvCxnSpPr>
          <p:cNvPr id="225" name="直接箭头连接符 29"/>
          <p:cNvCxnSpPr>
            <a:stCxn id="218" idx="2"/>
            <a:endCxn id="219" idx="0"/>
          </p:cNvCxnSpPr>
          <p:nvPr/>
        </p:nvCxnSpPr>
        <p:spPr>
          <a:xfrm>
            <a:off x="5380920" y="4786200"/>
            <a:ext cx="1371240" cy="12240"/>
          </a:xfrm>
          <a:prstGeom prst="straightConnector1">
            <a:avLst/>
          </a:prstGeom>
          <a:ln w="28575">
            <a:solidFill>
              <a:srgbClr val="990000"/>
            </a:solidFill>
            <a:tailEnd len="med" type="triangle" w="med"/>
          </a:ln>
        </p:spPr>
      </p:cxnSp>
      <p:sp useBgFill="1">
        <p:nvSpPr>
          <p:cNvPr id="226" name="文本框 30"/>
          <p:cNvSpPr/>
          <p:nvPr/>
        </p:nvSpPr>
        <p:spPr>
          <a:xfrm>
            <a:off x="5784840" y="4223160"/>
            <a:ext cx="531000" cy="106452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6b6c70"/>
                </a:solidFill>
                <a:latin typeface="微软雅黑"/>
                <a:ea typeface="微软雅黑"/>
              </a:rPr>
              <a:t>模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梯形 2"/>
          <p:cNvSpPr/>
          <p:nvPr/>
        </p:nvSpPr>
        <p:spPr>
          <a:xfrm>
            <a:off x="27000" y="422280"/>
            <a:ext cx="4602960" cy="632880"/>
          </a:xfrm>
          <a:custGeom>
            <a:avLst/>
            <a:gdLst>
              <a:gd name="textAreaLeft" fmla="*/ 0 w 4602960"/>
              <a:gd name="textAreaRight" fmla="*/ 4603320 w 4602960"/>
              <a:gd name="textAreaTop" fmla="*/ 0 h 632880"/>
              <a:gd name="textAreaBottom" fmla="*/ 633240 h 63288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文本框 3"/>
          <p:cNvSpPr/>
          <p:nvPr/>
        </p:nvSpPr>
        <p:spPr>
          <a:xfrm>
            <a:off x="76320" y="454680"/>
            <a:ext cx="42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中冲剑：模仿着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" descr=""/>
          <p:cNvPicPr/>
          <p:nvPr/>
        </p:nvPicPr>
        <p:blipFill>
          <a:blip r:embed="rId12"/>
          <a:stretch/>
        </p:blipFill>
        <p:spPr>
          <a:xfrm>
            <a:off x="7445880" y="-1301760"/>
            <a:ext cx="6687360" cy="63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0" name="直接连接符 23"/>
          <p:cNvCxnSpPr/>
          <p:nvPr/>
        </p:nvCxnSpPr>
        <p:spPr>
          <a:xfrm>
            <a:off x="9715320" y="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cxnSp>
        <p:nvCxnSpPr>
          <p:cNvPr id="231" name="直接连接符 24"/>
          <p:cNvCxnSpPr/>
          <p:nvPr/>
        </p:nvCxnSpPr>
        <p:spPr>
          <a:xfrm>
            <a:off x="2514600" y="6320520"/>
            <a:ext cx="360" cy="53784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32" name="梯形 2"/>
          <p:cNvSpPr/>
          <p:nvPr/>
        </p:nvSpPr>
        <p:spPr>
          <a:xfrm flipH="1">
            <a:off x="7616520" y="457200"/>
            <a:ext cx="4602960" cy="639720"/>
          </a:xfrm>
          <a:custGeom>
            <a:avLst/>
            <a:gdLst>
              <a:gd name="textAreaLeft" fmla="*/ 360 w 4602960"/>
              <a:gd name="textAreaRight" fmla="*/ 4603680 w 46029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3" name="直接连接符 26"/>
          <p:cNvCxnSpPr/>
          <p:nvPr/>
        </p:nvCxnSpPr>
        <p:spPr>
          <a:xfrm flipH="1">
            <a:off x="2514600" y="6320520"/>
            <a:ext cx="720108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34" name="文本框 3"/>
          <p:cNvSpPr/>
          <p:nvPr/>
        </p:nvSpPr>
        <p:spPr>
          <a:xfrm>
            <a:off x="7924680" y="446760"/>
            <a:ext cx="419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关冲剑：具体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剪去单角的矩形 4"/>
          <p:cNvSpPr/>
          <p:nvPr/>
        </p:nvSpPr>
        <p:spPr>
          <a:xfrm flipH="1">
            <a:off x="1762920" y="1994040"/>
            <a:ext cx="8648280" cy="361908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6" name="组合 15"/>
          <p:cNvGrpSpPr/>
          <p:nvPr/>
        </p:nvGrpSpPr>
        <p:grpSpPr>
          <a:xfrm>
            <a:off x="6823080" y="2620800"/>
            <a:ext cx="1534320" cy="2747520"/>
            <a:chOff x="6823080" y="2620800"/>
            <a:chExt cx="1534320" cy="2747520"/>
          </a:xfrm>
        </p:grpSpPr>
        <p:grpSp>
          <p:nvGrpSpPr>
            <p:cNvPr id="237" name="组合 13"/>
            <p:cNvGrpSpPr/>
            <p:nvPr/>
          </p:nvGrpSpPr>
          <p:grpSpPr>
            <a:xfrm>
              <a:off x="6823080" y="2620800"/>
              <a:ext cx="1534320" cy="2747520"/>
              <a:chOff x="6823080" y="2620800"/>
              <a:chExt cx="1534320" cy="2747520"/>
            </a:xfrm>
          </p:grpSpPr>
          <p:sp>
            <p:nvSpPr>
              <p:cNvPr id="238" name="椭圆 5"/>
              <p:cNvSpPr/>
              <p:nvPr/>
            </p:nvSpPr>
            <p:spPr>
              <a:xfrm rot="20860800">
                <a:off x="7187400" y="2885400"/>
                <a:ext cx="882360" cy="772560"/>
              </a:xfrm>
              <a:prstGeom prst="ellipse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矩形 4"/>
              <p:cNvSpPr/>
              <p:nvPr/>
            </p:nvSpPr>
            <p:spPr>
              <a:xfrm>
                <a:off x="7296480" y="3423240"/>
                <a:ext cx="819000" cy="144252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442520"/>
                  <a:gd name="textAreaBottom" fmla="*/ 1442880 h 1442520"/>
                </a:gdLst>
                <a:ahLst/>
                <a:rect l="textAreaLeft" t="textAreaTop" r="textAreaRight" b="textAreaBottom"/>
                <a:pathLst>
                  <a:path w="965916" h="1639195">
                    <a:moveTo>
                      <a:pt x="170226" y="0"/>
                    </a:moveTo>
                    <a:lnTo>
                      <a:pt x="677217" y="37032"/>
                    </a:lnTo>
                    <a:lnTo>
                      <a:pt x="965916" y="1639195"/>
                    </a:lnTo>
                    <a:lnTo>
                      <a:pt x="0" y="1639195"/>
                    </a:lnTo>
                    <a:lnTo>
                      <a:pt x="170226" y="0"/>
                    </a:lnTo>
                    <a:close/>
                  </a:path>
                </a:pathLst>
              </a:cu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" name="梯形 29"/>
              <p:cNvSpPr/>
              <p:nvPr/>
            </p:nvSpPr>
            <p:spPr>
              <a:xfrm flipV="1">
                <a:off x="7403400" y="4253040"/>
                <a:ext cx="476280" cy="11152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360 h 1115280"/>
                  <a:gd name="textAreaBottom" fmla="*/ 1116000 h 1115280"/>
                </a:gdLst>
                <a:ahLst/>
                <a:rect l="textAreaLeft" t="textAreaTop" r="textAreaRight" b="textAreaBottom"/>
                <a:pathLst>
                  <a:path w="631065" h="1687137">
                    <a:moveTo>
                      <a:pt x="0" y="1687137"/>
                    </a:moveTo>
                    <a:lnTo>
                      <a:pt x="199623" y="0"/>
                    </a:lnTo>
                    <a:lnTo>
                      <a:pt x="598868" y="0"/>
                    </a:lnTo>
                    <a:lnTo>
                      <a:pt x="631065" y="1674259"/>
                    </a:lnTo>
                    <a:lnTo>
                      <a:pt x="0" y="1687137"/>
                    </a:lnTo>
                    <a:close/>
                  </a:path>
                </a:pathLst>
              </a:cu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" name="平行四边形 8"/>
              <p:cNvSpPr/>
              <p:nvPr/>
            </p:nvSpPr>
            <p:spPr>
              <a:xfrm rot="719400">
                <a:off x="6841800" y="2772360"/>
                <a:ext cx="1496520" cy="340200"/>
              </a:xfrm>
              <a:prstGeom prst="parallelogram">
                <a:avLst>
                  <a:gd name="adj" fmla="val 153582"/>
                </a:avLst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圆角矩形 9"/>
              <p:cNvSpPr/>
              <p:nvPr/>
            </p:nvSpPr>
            <p:spPr>
              <a:xfrm rot="17607600">
                <a:off x="6894360" y="3961080"/>
                <a:ext cx="944640" cy="273960"/>
              </a:xfrm>
              <a:prstGeom prst="roundRect">
                <a:avLst>
                  <a:gd name="adj" fmla="val 50000"/>
                </a:avLst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" name="矩形 10"/>
              <p:cNvSpPr/>
              <p:nvPr/>
            </p:nvSpPr>
            <p:spPr>
              <a:xfrm>
                <a:off x="8230320" y="2907360"/>
                <a:ext cx="38520" cy="297720"/>
              </a:xfrm>
              <a:prstGeom prst="rect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" name="椭圆 11"/>
              <p:cNvSpPr/>
              <p:nvPr/>
            </p:nvSpPr>
            <p:spPr>
              <a:xfrm>
                <a:off x="8172000" y="3120120"/>
                <a:ext cx="164880" cy="144360"/>
              </a:xfrm>
              <a:prstGeom prst="ellipse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" name="梯形 12"/>
              <p:cNvSpPr/>
              <p:nvPr/>
            </p:nvSpPr>
            <p:spPr>
              <a:xfrm>
                <a:off x="8162280" y="3222360"/>
                <a:ext cx="184320" cy="204120"/>
              </a:xfrm>
              <a:prstGeom prst="trapezoid">
                <a:avLst>
                  <a:gd name="adj" fmla="val 25000"/>
                </a:avLst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6" name="矩形 14"/>
            <p:cNvSpPr/>
            <p:nvPr/>
          </p:nvSpPr>
          <p:spPr>
            <a:xfrm>
              <a:off x="7460640" y="5189760"/>
              <a:ext cx="236160" cy="178560"/>
            </a:xfrm>
            <a:prstGeom prst="rect">
              <a:avLst/>
            </a:prstGeom>
            <a:solidFill>
              <a:srgbClr val="99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47" name="组合 20"/>
          <p:cNvGrpSpPr/>
          <p:nvPr/>
        </p:nvGrpSpPr>
        <p:grpSpPr>
          <a:xfrm>
            <a:off x="8013600" y="2279880"/>
            <a:ext cx="1282680" cy="700200"/>
            <a:chOff x="8013600" y="2279880"/>
            <a:chExt cx="1282680" cy="700200"/>
          </a:xfrm>
        </p:grpSpPr>
        <p:sp>
          <p:nvSpPr>
            <p:cNvPr id="248" name="任意多边形 17"/>
            <p:cNvSpPr/>
            <p:nvPr/>
          </p:nvSpPr>
          <p:spPr>
            <a:xfrm rot="20094000">
              <a:off x="8112600" y="2314800"/>
              <a:ext cx="284040" cy="5313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1090843" h="2040240">
                  <a:moveTo>
                    <a:pt x="395128" y="1796799"/>
                  </a:moveTo>
                  <a:lnTo>
                    <a:pt x="663504" y="1796799"/>
                  </a:lnTo>
                  <a:lnTo>
                    <a:pt x="663504" y="2040240"/>
                  </a:lnTo>
                  <a:lnTo>
                    <a:pt x="395128" y="2040240"/>
                  </a:lnTo>
                  <a:close/>
                  <a:moveTo>
                    <a:pt x="576200" y="1069"/>
                  </a:moveTo>
                  <a:cubicBezTo>
                    <a:pt x="750474" y="12584"/>
                    <a:pt x="913696" y="116585"/>
                    <a:pt x="1009194" y="288225"/>
                  </a:cubicBezTo>
                  <a:cubicBezTo>
                    <a:pt x="1118764" y="485158"/>
                    <a:pt x="1118002" y="734122"/>
                    <a:pt x="1007228" y="930225"/>
                  </a:cubicBezTo>
                  <a:cubicBezTo>
                    <a:pt x="942812" y="1044261"/>
                    <a:pt x="848436" y="1127954"/>
                    <a:pt x="740980" y="1174061"/>
                  </a:cubicBezTo>
                  <a:lnTo>
                    <a:pt x="666182" y="1198837"/>
                  </a:lnTo>
                  <a:lnTo>
                    <a:pt x="666182" y="1673562"/>
                  </a:lnTo>
                  <a:lnTo>
                    <a:pt x="372268" y="1673562"/>
                  </a:lnTo>
                  <a:lnTo>
                    <a:pt x="372268" y="928153"/>
                  </a:lnTo>
                  <a:lnTo>
                    <a:pt x="666182" y="928153"/>
                  </a:lnTo>
                  <a:lnTo>
                    <a:pt x="666182" y="929770"/>
                  </a:lnTo>
                  <a:lnTo>
                    <a:pt x="736375" y="879035"/>
                  </a:lnTo>
                  <a:cubicBezTo>
                    <a:pt x="761457" y="853281"/>
                    <a:pt x="783275" y="822154"/>
                    <a:pt x="800528" y="786270"/>
                  </a:cubicBezTo>
                  <a:cubicBezTo>
                    <a:pt x="853360" y="676384"/>
                    <a:pt x="853730" y="540996"/>
                    <a:pt x="801494" y="430697"/>
                  </a:cubicBezTo>
                  <a:cubicBezTo>
                    <a:pt x="733362" y="286830"/>
                    <a:pt x="591972" y="218238"/>
                    <a:pt x="459986" y="265022"/>
                  </a:cubicBezTo>
                  <a:cubicBezTo>
                    <a:pt x="344342" y="306014"/>
                    <a:pt x="260816" y="427165"/>
                    <a:pt x="248676" y="571518"/>
                  </a:cubicBezTo>
                  <a:lnTo>
                    <a:pt x="0" y="541223"/>
                  </a:lnTo>
                  <a:cubicBezTo>
                    <a:pt x="24526" y="293027"/>
                    <a:pt x="183340" y="86775"/>
                    <a:pt x="400342" y="21303"/>
                  </a:cubicBezTo>
                  <a:cubicBezTo>
                    <a:pt x="458790" y="3669"/>
                    <a:pt x="518109" y="-2769"/>
                    <a:pt x="576200" y="1069"/>
                  </a:cubicBezTo>
                  <a:close/>
                </a:path>
              </a:pathLst>
            </a:custGeom>
            <a:solidFill>
              <a:srgbClr val="6b6c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任意多边形 18"/>
            <p:cNvSpPr/>
            <p:nvPr/>
          </p:nvSpPr>
          <p:spPr>
            <a:xfrm rot="2952000">
              <a:off x="8859960" y="2432880"/>
              <a:ext cx="284040" cy="5313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1090843" h="2040240">
                  <a:moveTo>
                    <a:pt x="395128" y="1796799"/>
                  </a:moveTo>
                  <a:lnTo>
                    <a:pt x="663504" y="1796799"/>
                  </a:lnTo>
                  <a:lnTo>
                    <a:pt x="663504" y="2040240"/>
                  </a:lnTo>
                  <a:lnTo>
                    <a:pt x="395128" y="2040240"/>
                  </a:lnTo>
                  <a:close/>
                  <a:moveTo>
                    <a:pt x="576200" y="1069"/>
                  </a:moveTo>
                  <a:cubicBezTo>
                    <a:pt x="750474" y="12584"/>
                    <a:pt x="913696" y="116585"/>
                    <a:pt x="1009194" y="288225"/>
                  </a:cubicBezTo>
                  <a:cubicBezTo>
                    <a:pt x="1118764" y="485158"/>
                    <a:pt x="1118002" y="734122"/>
                    <a:pt x="1007228" y="930225"/>
                  </a:cubicBezTo>
                  <a:cubicBezTo>
                    <a:pt x="942812" y="1044261"/>
                    <a:pt x="848436" y="1127954"/>
                    <a:pt x="740980" y="1174061"/>
                  </a:cubicBezTo>
                  <a:lnTo>
                    <a:pt x="666182" y="1198837"/>
                  </a:lnTo>
                  <a:lnTo>
                    <a:pt x="666182" y="1673562"/>
                  </a:lnTo>
                  <a:lnTo>
                    <a:pt x="372268" y="1673562"/>
                  </a:lnTo>
                  <a:lnTo>
                    <a:pt x="372268" y="928153"/>
                  </a:lnTo>
                  <a:lnTo>
                    <a:pt x="666182" y="928153"/>
                  </a:lnTo>
                  <a:lnTo>
                    <a:pt x="666182" y="929770"/>
                  </a:lnTo>
                  <a:lnTo>
                    <a:pt x="736375" y="879035"/>
                  </a:lnTo>
                  <a:cubicBezTo>
                    <a:pt x="761457" y="853281"/>
                    <a:pt x="783275" y="822154"/>
                    <a:pt x="800528" y="786270"/>
                  </a:cubicBezTo>
                  <a:cubicBezTo>
                    <a:pt x="853360" y="676384"/>
                    <a:pt x="853730" y="540996"/>
                    <a:pt x="801494" y="430697"/>
                  </a:cubicBezTo>
                  <a:cubicBezTo>
                    <a:pt x="733362" y="286830"/>
                    <a:pt x="591972" y="218238"/>
                    <a:pt x="459986" y="265022"/>
                  </a:cubicBezTo>
                  <a:cubicBezTo>
                    <a:pt x="344342" y="306014"/>
                    <a:pt x="260816" y="427165"/>
                    <a:pt x="248676" y="571518"/>
                  </a:cubicBezTo>
                  <a:lnTo>
                    <a:pt x="0" y="541223"/>
                  </a:lnTo>
                  <a:cubicBezTo>
                    <a:pt x="24526" y="293027"/>
                    <a:pt x="183340" y="86775"/>
                    <a:pt x="400342" y="21303"/>
                  </a:cubicBezTo>
                  <a:cubicBezTo>
                    <a:pt x="458790" y="3669"/>
                    <a:pt x="518109" y="-2769"/>
                    <a:pt x="576200" y="1069"/>
                  </a:cubicBezTo>
                  <a:close/>
                </a:path>
              </a:pathLst>
            </a:custGeom>
            <a:solidFill>
              <a:srgbClr val="6b6c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任意多边形 19"/>
            <p:cNvSpPr/>
            <p:nvPr/>
          </p:nvSpPr>
          <p:spPr>
            <a:xfrm rot="563400">
              <a:off x="8498880" y="2314800"/>
              <a:ext cx="284040" cy="5313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1090843" h="2040240">
                  <a:moveTo>
                    <a:pt x="395128" y="1796799"/>
                  </a:moveTo>
                  <a:lnTo>
                    <a:pt x="663504" y="1796799"/>
                  </a:lnTo>
                  <a:lnTo>
                    <a:pt x="663504" y="2040240"/>
                  </a:lnTo>
                  <a:lnTo>
                    <a:pt x="395128" y="2040240"/>
                  </a:lnTo>
                  <a:close/>
                  <a:moveTo>
                    <a:pt x="576200" y="1069"/>
                  </a:moveTo>
                  <a:cubicBezTo>
                    <a:pt x="750474" y="12584"/>
                    <a:pt x="913696" y="116585"/>
                    <a:pt x="1009194" y="288225"/>
                  </a:cubicBezTo>
                  <a:cubicBezTo>
                    <a:pt x="1118764" y="485158"/>
                    <a:pt x="1118002" y="734122"/>
                    <a:pt x="1007228" y="930225"/>
                  </a:cubicBezTo>
                  <a:cubicBezTo>
                    <a:pt x="942812" y="1044261"/>
                    <a:pt x="848436" y="1127954"/>
                    <a:pt x="740980" y="1174061"/>
                  </a:cubicBezTo>
                  <a:lnTo>
                    <a:pt x="666182" y="1198837"/>
                  </a:lnTo>
                  <a:lnTo>
                    <a:pt x="666182" y="1673562"/>
                  </a:lnTo>
                  <a:lnTo>
                    <a:pt x="372268" y="1673562"/>
                  </a:lnTo>
                  <a:lnTo>
                    <a:pt x="372268" y="928153"/>
                  </a:lnTo>
                  <a:lnTo>
                    <a:pt x="666182" y="928153"/>
                  </a:lnTo>
                  <a:lnTo>
                    <a:pt x="666182" y="929770"/>
                  </a:lnTo>
                  <a:lnTo>
                    <a:pt x="736375" y="879035"/>
                  </a:lnTo>
                  <a:cubicBezTo>
                    <a:pt x="761457" y="853281"/>
                    <a:pt x="783275" y="822154"/>
                    <a:pt x="800528" y="786270"/>
                  </a:cubicBezTo>
                  <a:cubicBezTo>
                    <a:pt x="853360" y="676384"/>
                    <a:pt x="853730" y="540996"/>
                    <a:pt x="801494" y="430697"/>
                  </a:cubicBezTo>
                  <a:cubicBezTo>
                    <a:pt x="733362" y="286830"/>
                    <a:pt x="591972" y="218238"/>
                    <a:pt x="459986" y="265022"/>
                  </a:cubicBezTo>
                  <a:cubicBezTo>
                    <a:pt x="344342" y="306014"/>
                    <a:pt x="260816" y="427165"/>
                    <a:pt x="248676" y="571518"/>
                  </a:cubicBezTo>
                  <a:lnTo>
                    <a:pt x="0" y="541223"/>
                  </a:lnTo>
                  <a:cubicBezTo>
                    <a:pt x="24526" y="293027"/>
                    <a:pt x="183340" y="86775"/>
                    <a:pt x="400342" y="21303"/>
                  </a:cubicBezTo>
                  <a:cubicBezTo>
                    <a:pt x="458790" y="3669"/>
                    <a:pt x="518109" y="-2769"/>
                    <a:pt x="576200" y="1069"/>
                  </a:cubicBezTo>
                  <a:close/>
                </a:path>
              </a:pathLst>
            </a:custGeom>
            <a:solidFill>
              <a:srgbClr val="6b6c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1" name="内容占位符 2"/>
          <p:cNvSpPr/>
          <p:nvPr/>
        </p:nvSpPr>
        <p:spPr>
          <a:xfrm>
            <a:off x="2399040" y="2540520"/>
            <a:ext cx="482256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125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有问题先找百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问对专业领域的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提问具体到判断题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" descr=""/>
          <p:cNvPicPr/>
          <p:nvPr/>
        </p:nvPicPr>
        <p:blipFill>
          <a:blip r:embed="rId1"/>
          <a:stretch/>
        </p:blipFill>
        <p:spPr>
          <a:xfrm>
            <a:off x="-1938960" y="2520360"/>
            <a:ext cx="6681600" cy="63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直接连接符 30"/>
          <p:cNvCxnSpPr/>
          <p:nvPr/>
        </p:nvCxnSpPr>
        <p:spPr>
          <a:xfrm>
            <a:off x="2491560" y="0"/>
            <a:ext cx="360" cy="633240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54" name="剪去单角的矩形 18"/>
          <p:cNvSpPr/>
          <p:nvPr/>
        </p:nvSpPr>
        <p:spPr>
          <a:xfrm>
            <a:off x="1778040" y="1715760"/>
            <a:ext cx="8623080" cy="3855960"/>
          </a:xfrm>
          <a:prstGeom prst="snip1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5" name="直接连接符 20"/>
          <p:cNvCxnSpPr/>
          <p:nvPr/>
        </p:nvCxnSpPr>
        <p:spPr>
          <a:xfrm>
            <a:off x="7162560" y="5415480"/>
            <a:ext cx="2989080" cy="360"/>
          </a:xfrm>
          <a:prstGeom prst="straightConnector1">
            <a:avLst/>
          </a:prstGeom>
          <a:ln w="12700">
            <a:solidFill>
              <a:srgbClr val="990000"/>
            </a:solidFill>
          </a:ln>
        </p:spPr>
      </p:cxnSp>
      <p:sp>
        <p:nvSpPr>
          <p:cNvPr id="256" name="内容占位符 2"/>
          <p:cNvSpPr/>
          <p:nvPr/>
        </p:nvSpPr>
        <p:spPr>
          <a:xfrm>
            <a:off x="2360160" y="2541600"/>
            <a:ext cx="6244560" cy="24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28600" indent="-228600">
              <a:lnSpc>
                <a:spcPct val="125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世界是多元化的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看待事物的角度不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001"/>
              </a:spcBef>
              <a:buClr>
                <a:srgbClr val="6b6c70"/>
              </a:buClr>
              <a:buFont typeface="Wingdings" charset="2"/>
              <a:buChar char=""/>
            </a:pPr>
            <a:r>
              <a:rPr b="1" lang="zh-CN" sz="3300" spc="-1" strike="noStrike">
                <a:solidFill>
                  <a:srgbClr val="6b6c70"/>
                </a:solidFill>
                <a:latin typeface="微软雅黑"/>
                <a:ea typeface="微软雅黑"/>
              </a:rPr>
              <a:t>学会包容不同的看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直接箭头连接符 16"/>
          <p:cNvCxnSpPr/>
          <p:nvPr/>
        </p:nvCxnSpPr>
        <p:spPr>
          <a:xfrm>
            <a:off x="8142480" y="2741400"/>
            <a:ext cx="883080" cy="674640"/>
          </a:xfrm>
          <a:prstGeom prst="straightConnector1">
            <a:avLst/>
          </a:prstGeom>
          <a:ln w="28575">
            <a:solidFill>
              <a:srgbClr val="990000"/>
            </a:solidFill>
            <a:prstDash val="sysDash"/>
            <a:tailEnd len="med" type="triangle" w="med"/>
          </a:ln>
        </p:spPr>
      </p:cxnSp>
      <p:sp>
        <p:nvSpPr>
          <p:cNvPr id="258" name="梯形 9"/>
          <p:cNvSpPr/>
          <p:nvPr/>
        </p:nvSpPr>
        <p:spPr>
          <a:xfrm>
            <a:off x="9066960" y="3047040"/>
            <a:ext cx="894240" cy="1663560"/>
          </a:xfrm>
          <a:prstGeom prst="trapezoid">
            <a:avLst>
              <a:gd name="adj" fmla="val 25000"/>
            </a:avLst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椭圆 11"/>
          <p:cNvSpPr/>
          <p:nvPr/>
        </p:nvSpPr>
        <p:spPr>
          <a:xfrm>
            <a:off x="9133920" y="2453760"/>
            <a:ext cx="718200" cy="718200"/>
          </a:xfrm>
          <a:prstGeom prst="ellipse">
            <a:avLst/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9325800" y="4647240"/>
            <a:ext cx="248760" cy="759600"/>
          </a:xfrm>
          <a:prstGeom prst="rect">
            <a:avLst/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矩形 13"/>
          <p:cNvSpPr/>
          <p:nvPr/>
        </p:nvSpPr>
        <p:spPr>
          <a:xfrm>
            <a:off x="9533160" y="4591080"/>
            <a:ext cx="248760" cy="759600"/>
          </a:xfrm>
          <a:prstGeom prst="rect">
            <a:avLst/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圆角矩形 14"/>
          <p:cNvSpPr/>
          <p:nvPr/>
        </p:nvSpPr>
        <p:spPr>
          <a:xfrm rot="16908600">
            <a:off x="8961840" y="3828600"/>
            <a:ext cx="1062360" cy="269640"/>
          </a:xfrm>
          <a:prstGeom prst="roundRect">
            <a:avLst>
              <a:gd name="adj" fmla="val 50000"/>
            </a:avLst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椭圆 7"/>
          <p:cNvSpPr/>
          <p:nvPr/>
        </p:nvSpPr>
        <p:spPr>
          <a:xfrm>
            <a:off x="9066960" y="3307320"/>
            <a:ext cx="360360" cy="360360"/>
          </a:xfrm>
          <a:prstGeom prst="ellipse">
            <a:avLst/>
          </a:pr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任意多边形 4"/>
          <p:cNvSpPr/>
          <p:nvPr/>
        </p:nvSpPr>
        <p:spPr>
          <a:xfrm>
            <a:off x="7003440" y="2435400"/>
            <a:ext cx="1510560" cy="2979720"/>
          </a:xfrm>
          <a:custGeom>
            <a:avLst/>
            <a:gdLst>
              <a:gd name="textAreaLeft" fmla="*/ 0 w 1510560"/>
              <a:gd name="textAreaRight" fmla="*/ 1510920 w 151056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3024572" h="5965743">
                <a:moveTo>
                  <a:pt x="1522753" y="0"/>
                </a:moveTo>
                <a:cubicBezTo>
                  <a:pt x="1891369" y="0"/>
                  <a:pt x="2190192" y="298824"/>
                  <a:pt x="2190192" y="667439"/>
                </a:cubicBezTo>
                <a:cubicBezTo>
                  <a:pt x="2190192" y="897825"/>
                  <a:pt x="2073465" y="1100947"/>
                  <a:pt x="1895925" y="1220890"/>
                </a:cubicBezTo>
                <a:lnTo>
                  <a:pt x="1790587" y="1278065"/>
                </a:lnTo>
                <a:lnTo>
                  <a:pt x="1878267" y="1278065"/>
                </a:lnTo>
                <a:cubicBezTo>
                  <a:pt x="2069648" y="1278065"/>
                  <a:pt x="2258792" y="1375714"/>
                  <a:pt x="2373738" y="1524235"/>
                </a:cubicBezTo>
                <a:lnTo>
                  <a:pt x="2427139" y="1609373"/>
                </a:lnTo>
                <a:lnTo>
                  <a:pt x="2491574" y="1682114"/>
                </a:lnTo>
                <a:cubicBezTo>
                  <a:pt x="2515877" y="1719425"/>
                  <a:pt x="2536291" y="1762413"/>
                  <a:pt x="2551020" y="1809624"/>
                </a:cubicBezTo>
                <a:lnTo>
                  <a:pt x="3000793" y="3251297"/>
                </a:lnTo>
                <a:cubicBezTo>
                  <a:pt x="3059708" y="3440141"/>
                  <a:pt x="3005385" y="3625115"/>
                  <a:pt x="2879430" y="3664410"/>
                </a:cubicBezTo>
                <a:cubicBezTo>
                  <a:pt x="2753475" y="3703706"/>
                  <a:pt x="2603610" y="3582435"/>
                  <a:pt x="2544694" y="3393590"/>
                </a:cubicBezTo>
                <a:lnTo>
                  <a:pt x="2122133" y="2039142"/>
                </a:lnTo>
                <a:lnTo>
                  <a:pt x="2030079" y="2039142"/>
                </a:lnTo>
                <a:lnTo>
                  <a:pt x="2682162" y="4520456"/>
                </a:lnTo>
                <a:lnTo>
                  <a:pt x="2103043" y="4520456"/>
                </a:lnTo>
                <a:lnTo>
                  <a:pt x="2103043" y="5965742"/>
                </a:lnTo>
                <a:lnTo>
                  <a:pt x="1580529" y="5965742"/>
                </a:lnTo>
                <a:lnTo>
                  <a:pt x="1580529" y="4520456"/>
                </a:lnTo>
                <a:lnTo>
                  <a:pt x="1428129" y="4520456"/>
                </a:lnTo>
                <a:lnTo>
                  <a:pt x="1428129" y="5965743"/>
                </a:lnTo>
                <a:lnTo>
                  <a:pt x="905615" y="5965743"/>
                </a:lnTo>
                <a:lnTo>
                  <a:pt x="905615" y="4520456"/>
                </a:lnTo>
                <a:lnTo>
                  <a:pt x="291660" y="4520456"/>
                </a:lnTo>
                <a:lnTo>
                  <a:pt x="943744" y="2039142"/>
                </a:lnTo>
                <a:lnTo>
                  <a:pt x="897661" y="2039142"/>
                </a:lnTo>
                <a:lnTo>
                  <a:pt x="479879" y="3378272"/>
                </a:lnTo>
                <a:cubicBezTo>
                  <a:pt x="420963" y="3567116"/>
                  <a:pt x="271098" y="3688387"/>
                  <a:pt x="145143" y="3649091"/>
                </a:cubicBezTo>
                <a:cubicBezTo>
                  <a:pt x="19188" y="3609796"/>
                  <a:pt x="-35136" y="3424822"/>
                  <a:pt x="23780" y="3235978"/>
                </a:cubicBezTo>
                <a:lnTo>
                  <a:pt x="473553" y="1794305"/>
                </a:lnTo>
                <a:lnTo>
                  <a:pt x="477423" y="1784314"/>
                </a:lnTo>
                <a:lnTo>
                  <a:pt x="482107" y="1761653"/>
                </a:lnTo>
                <a:cubicBezTo>
                  <a:pt x="553810" y="1499671"/>
                  <a:pt x="857364" y="1278065"/>
                  <a:pt x="1125297" y="1278065"/>
                </a:cubicBezTo>
                <a:lnTo>
                  <a:pt x="1254919" y="1278065"/>
                </a:lnTo>
                <a:lnTo>
                  <a:pt x="1149582" y="1220890"/>
                </a:lnTo>
                <a:cubicBezTo>
                  <a:pt x="972042" y="1100947"/>
                  <a:pt x="855314" y="897825"/>
                  <a:pt x="855314" y="667439"/>
                </a:cubicBezTo>
                <a:cubicBezTo>
                  <a:pt x="855314" y="298824"/>
                  <a:pt x="1154137" y="0"/>
                  <a:pt x="1522753" y="0"/>
                </a:cubicBez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椭圆 5"/>
          <p:cNvSpPr/>
          <p:nvPr/>
        </p:nvSpPr>
        <p:spPr>
          <a:xfrm>
            <a:off x="7495560" y="3286800"/>
            <a:ext cx="244440" cy="244440"/>
          </a:xfrm>
          <a:prstGeom prst="ellipse">
            <a:avLst/>
          </a:prstGeom>
          <a:solidFill>
            <a:srgbClr val="c0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椭圆 6"/>
          <p:cNvSpPr/>
          <p:nvPr/>
        </p:nvSpPr>
        <p:spPr>
          <a:xfrm>
            <a:off x="7783920" y="3296520"/>
            <a:ext cx="244440" cy="244440"/>
          </a:xfrm>
          <a:prstGeom prst="ellipse">
            <a:avLst/>
          </a:prstGeom>
          <a:solidFill>
            <a:srgbClr val="c0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7" name="直接连接符 31"/>
          <p:cNvCxnSpPr/>
          <p:nvPr/>
        </p:nvCxnSpPr>
        <p:spPr>
          <a:xfrm flipH="1">
            <a:off x="2503080" y="6309360"/>
            <a:ext cx="7201080" cy="36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68" name="梯形 2"/>
          <p:cNvSpPr/>
          <p:nvPr/>
        </p:nvSpPr>
        <p:spPr>
          <a:xfrm>
            <a:off x="-8640" y="457200"/>
            <a:ext cx="5448960" cy="617040"/>
          </a:xfrm>
          <a:custGeom>
            <a:avLst/>
            <a:gdLst>
              <a:gd name="textAreaLeft" fmla="*/ 0 w 5448960"/>
              <a:gd name="textAreaRight" fmla="*/ 5449320 w 544896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4603431" h="468630">
                <a:moveTo>
                  <a:pt x="8571" y="468630"/>
                </a:moveTo>
                <a:lnTo>
                  <a:pt x="0" y="11430"/>
                </a:lnTo>
                <a:lnTo>
                  <a:pt x="4211952" y="0"/>
                </a:lnTo>
                <a:lnTo>
                  <a:pt x="4603431" y="468630"/>
                </a:lnTo>
                <a:lnTo>
                  <a:pt x="8571" y="468630"/>
                </a:lnTo>
                <a:close/>
              </a:path>
            </a:pathLst>
          </a:custGeom>
          <a:solidFill>
            <a:srgbClr val="990000"/>
          </a:solidFill>
          <a:ln>
            <a:solidFill>
              <a:srgbClr val="99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9" name="直接连接符 33"/>
          <p:cNvCxnSpPr/>
          <p:nvPr/>
        </p:nvCxnSpPr>
        <p:spPr>
          <a:xfrm>
            <a:off x="9693000" y="6310080"/>
            <a:ext cx="360" cy="560520"/>
          </a:xfrm>
          <a:prstGeom prst="straightConnector1">
            <a:avLst/>
          </a:prstGeom>
          <a:ln>
            <a:solidFill>
              <a:srgbClr val="990000"/>
            </a:solidFill>
          </a:ln>
        </p:spPr>
      </p:cxnSp>
      <p:sp>
        <p:nvSpPr>
          <p:cNvPr id="270" name="文本框 3"/>
          <p:cNvSpPr/>
          <p:nvPr/>
        </p:nvSpPr>
        <p:spPr>
          <a:xfrm>
            <a:off x="42840" y="424440"/>
            <a:ext cx="4780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少冲剑：多维度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" descr=""/>
          <p:cNvPicPr/>
          <p:nvPr/>
        </p:nvPicPr>
        <p:blipFill>
          <a:blip r:embed="rId1"/>
          <a:stretch/>
        </p:blipFill>
        <p:spPr>
          <a:xfrm>
            <a:off x="7217280" y="-1591200"/>
            <a:ext cx="6687360" cy="6382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275760" y="6332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  <Words>214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13:01:11Z</dcterms:created>
  <dc:creator>Elfie</dc:creator>
  <dc:description/>
  <dc:language>en-US</dc:language>
  <cp:lastModifiedBy>王玉清</cp:lastModifiedBy>
  <dcterms:modified xsi:type="dcterms:W3CDTF">2016-03-01T07:01:25Z</dcterms:modified>
  <cp:revision>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