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52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368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36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52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368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040" y="1031400"/>
            <a:ext cx="81820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852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53680" y="175572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336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852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53680" y="3864960"/>
            <a:ext cx="2633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031400"/>
            <a:ext cx="81820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3400" y="386496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1755720"/>
            <a:ext cx="3990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360" y="3864960"/>
            <a:ext cx="8177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3333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43344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36360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748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 Page </a:t>
            </a:r>
            <a:fld id="{C0C8A484-86AA-4A2F-B2A9-27063CEFAE60}" type="slidenum">
              <a:rPr b="0" lang="de-DE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4"/>
          <p:cNvSpPr/>
          <p:nvPr/>
        </p:nvSpPr>
        <p:spPr>
          <a:xfrm rot="10800000">
            <a:off x="5354280" y="6230520"/>
            <a:ext cx="927000" cy="514440"/>
          </a:xfrm>
          <a:prstGeom prst="leftArrow">
            <a:avLst>
              <a:gd name="adj1" fmla="val 51620"/>
              <a:gd name="adj2" fmla="val 51214"/>
            </a:avLst>
          </a:prstGeom>
          <a:gradFill rotWithShape="0">
            <a:gsLst>
              <a:gs pos="0">
                <a:srgbClr val="b7b7b7"/>
              </a:gs>
              <a:gs pos="100000">
                <a:srgbClr val="dcdcdc">
                  <a:alpha val="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6499080" y="6324480"/>
            <a:ext cx="2419560" cy="30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 rot="10800000">
            <a:off x="5354280" y="6230520"/>
            <a:ext cx="927000" cy="514440"/>
          </a:xfrm>
          <a:prstGeom prst="leftArrow">
            <a:avLst>
              <a:gd name="adj1" fmla="val 51620"/>
              <a:gd name="adj2" fmla="val 51214"/>
            </a:avLst>
          </a:prstGeom>
          <a:gradFill rotWithShape="0">
            <a:gsLst>
              <a:gs pos="0">
                <a:srgbClr val="b7b7b7"/>
              </a:gs>
              <a:gs pos="100000">
                <a:srgbClr val="dcdcdc">
                  <a:alpha val="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Ih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6499080" y="6324480"/>
            <a:ext cx="2419560" cy="30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3333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43344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36360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748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7480">
              <a:spcBef>
                <a:spcPts val="1687"/>
              </a:spcBef>
              <a:buClr>
                <a:srgbClr val="000000"/>
              </a:buClr>
              <a:buSzPct val="90000"/>
              <a:buFont typeface="Wingdings" charset="2"/>
              <a:buChar char="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1080" y="22636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夹板动态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11080" y="3828960"/>
            <a:ext cx="73231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1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574FA629-B2DD-462B-B26A-0ADBAD2BCA60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Software and Tools for Microsoft PowerPoi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The website with innovative solu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Save time and money by automating your present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Unbenannt-1"/>
          <p:cNvPicPr/>
          <p:nvPr/>
        </p:nvPicPr>
        <p:blipFill>
          <a:blip r:embed="rId1"/>
          <a:srcRect l="0" t="0" r="0" b="32236"/>
          <a:stretch/>
        </p:blipFill>
        <p:spPr>
          <a:xfrm>
            <a:off x="638280" y="4076640"/>
            <a:ext cx="2171520" cy="281160"/>
          </a:xfrm>
          <a:prstGeom prst="rect">
            <a:avLst/>
          </a:prstGeom>
          <a:ln w="0">
            <a:noFill/>
          </a:ln>
        </p:spPr>
      </p:pic>
      <p:sp>
        <p:nvSpPr>
          <p:cNvPr id="132" name="Line 15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61960" y="4324320"/>
            <a:ext cx="36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5f5f5f"/>
                </a:solidFill>
                <a:latin typeface="Arial"/>
                <a:ea typeface="宋体"/>
              </a:rPr>
              <a:t>www.presentation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586400" y="2327400"/>
            <a:ext cx="394308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177840" indent="-177840">
              <a:spcBef>
                <a:spcPts val="938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ith the use of this free template you accept the following 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and license condi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Not for commercial u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The template can be used freely by private persons. The commercial employment of the free templates is not permitted. Any further trade with contents as well as making the diagram/template/animations available in changed or unchanged form for downloading on other web sites or multiplying &amp; the selling on data media of any kind are forbid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In no event shall PresentationPoint be liable for any indirect, special or consequential damages arising out of or in connection with the use of the templa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In case of questions for commercial usage please get in contact with us. </a:t>
            </a: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3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  <a:ea typeface="宋体"/>
              </a:rPr>
              <a:t>E-Mail: info@presentationpoin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4568760" y="1995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4533840" y="520056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3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571A8E83-A076-452F-9260-A8CABC2054CF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3360" y="1755720"/>
            <a:ext cx="8177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F77FBB61-E469-4213-A915-946BF0021CD4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3720" y="1755720"/>
            <a:ext cx="4011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87840" y="1755720"/>
            <a:ext cx="401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15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3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37EB808B-0C42-4368-8A75-B1AA8DCC6AC3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60360" y="208116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86000"/>
          </a:bodyPr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1880" y="1736640"/>
            <a:ext cx="835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60360" y="398772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86000"/>
          </a:bodyPr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500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61880" y="3643200"/>
            <a:ext cx="835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640FEB02-AD50-4FA6-AC7E-5510718CE96A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324000" y="1765440"/>
            <a:ext cx="4170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4"/>
          <p:cNvSpPr/>
          <p:nvPr/>
        </p:nvSpPr>
        <p:spPr>
          <a:xfrm>
            <a:off x="4729320" y="258120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f49b17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7"/>
          <p:cNvSpPr/>
          <p:nvPr/>
        </p:nvSpPr>
        <p:spPr>
          <a:xfrm>
            <a:off x="4991040" y="396396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496954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9"/>
          <p:cNvSpPr/>
          <p:nvPr/>
        </p:nvSpPr>
        <p:spPr>
          <a:xfrm>
            <a:off x="4991040" y="1636560"/>
            <a:ext cx="1557360" cy="136080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b5412c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6"/>
          <p:cNvSpPr/>
          <p:nvPr/>
        </p:nvSpPr>
        <p:spPr>
          <a:xfrm>
            <a:off x="6605640" y="163656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caead5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5"/>
          <p:cNvSpPr/>
          <p:nvPr/>
        </p:nvSpPr>
        <p:spPr>
          <a:xfrm>
            <a:off x="7383600" y="258120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9ebea9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8"/>
          <p:cNvSpPr/>
          <p:nvPr/>
        </p:nvSpPr>
        <p:spPr>
          <a:xfrm>
            <a:off x="6605640" y="396396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658570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4"/>
          <p:cNvSpPr/>
          <p:nvPr/>
        </p:nvSpPr>
        <p:spPr>
          <a:xfrm>
            <a:off x="5866560" y="3260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C163F022-52F9-4AC2-AE14-EB367D476548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714920" y="1765440"/>
            <a:ext cx="3817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Schach"/>
          <p:cNvPicPr/>
          <p:nvPr/>
        </p:nvPicPr>
        <p:blipFill>
          <a:blip r:embed="rId1"/>
          <a:srcRect l="0" t="0" r="26025" b="0"/>
          <a:stretch/>
        </p:blipFill>
        <p:spPr>
          <a:xfrm>
            <a:off x="485640" y="1895400"/>
            <a:ext cx="3794400" cy="3421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33360" y="6516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FC97283E-4B80-428A-B924-2F53A070F651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962440" y="1841400"/>
            <a:ext cx="57686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99000"/>
          </a:bodyPr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962440" y="3852720"/>
            <a:ext cx="57686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 fontScale="99000"/>
          </a:bodyPr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Schach"/>
          <p:cNvPicPr/>
          <p:nvPr/>
        </p:nvPicPr>
        <p:blipFill>
          <a:blip r:embed="rId1"/>
          <a:srcRect l="0" t="0" r="5497" b="0"/>
          <a:stretch/>
        </p:blipFill>
        <p:spPr>
          <a:xfrm>
            <a:off x="450720" y="1884240"/>
            <a:ext cx="233856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chach"/>
          <p:cNvPicPr/>
          <p:nvPr/>
        </p:nvPicPr>
        <p:blipFill>
          <a:blip r:embed="rId2"/>
          <a:srcRect l="0" t="0" r="5497" b="0"/>
          <a:stretch/>
        </p:blipFill>
        <p:spPr>
          <a:xfrm>
            <a:off x="450720" y="3932280"/>
            <a:ext cx="2338560" cy="165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A96DD29B-E506-4BF2-B42A-38A2447F0B39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983040" y="164448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3040" y="164448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6"/>
          <p:cNvSpPr/>
          <p:nvPr/>
        </p:nvSpPr>
        <p:spPr>
          <a:xfrm>
            <a:off x="324000" y="1765440"/>
            <a:ext cx="3690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200160" y="643716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Here comes your footer 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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  Page </a:t>
            </a:r>
            <a:fld id="{0F45E697-E39F-4F04-948B-1A14E11E3228}" type="slidenum">
              <a:rPr b="0" lang="de-DE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1031400"/>
            <a:ext cx="8182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24000" y="1765440"/>
            <a:ext cx="3690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5"/>
          <p:cNvGraphicFramePr/>
          <p:nvPr/>
        </p:nvGraphicFramePr>
        <p:xfrm>
          <a:off x="4168800" y="1736640"/>
          <a:ext cx="42768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8800" y="1736640"/>
                    <a:ext cx="42768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200160" y="6516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cp:keywords/>
  <dc:language>en-US</dc:language>
  <cp:lastModifiedBy>王玉清</cp:lastModifiedBy>
  <cp:lastPrinted>2005-03-15T07:48:11Z</cp:lastPrinted>
  <dcterms:modified xsi:type="dcterms:W3CDTF">2016-02-19T07:18:41Z</dcterms:modified>
  <cp:revision>527</cp:revision>
  <dc:subject/>
  <dc:title>Clip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_PPL_Language">
    <vt:r8>1031</vt:r8>
  </property>
</Properties>
</file>