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996135566117"/>
          <c:y val="0.0197722726573319"/>
          <c:w val="0.959978678985475"/>
          <c:h val="0.9796891829512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ffd320"/>
                  </a:gs>
                  <a:gs pos="100000">
                    <a:srgbClr val="ffffcc"/>
                  </a:gs>
                </a:gsLst>
                <a:lin ang="5400000"/>
              </a:gradFill>
              <a:ln w="36000">
                <a:solidFill>
                  <a:srgbClr val="ffd320"/>
                </a:solidFill>
                <a:round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f950e"/>
                  </a:gs>
                  <a:gs pos="100000">
                    <a:srgbClr val="ffd320"/>
                  </a:gs>
                </a:gsLst>
                <a:lin ang="5400000"/>
              </a:gradFill>
              <a:ln w="36000">
                <a:solidFill>
                  <a:srgbClr val="ff950e"/>
                </a:solidFill>
                <a:round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9336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1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2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3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4"/>
            <c:invertIfNegative val="0"/>
            <c:spPr>
              <a:solidFill>
                <a:srgbClr val="64577a"/>
              </a:solidFill>
              <a:ln w="18000">
                <a:noFill/>
              </a:ln>
            </c:spPr>
          </c:dPt>
          <c:dPt>
            <c:idx val="5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6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7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8"/>
            <c:invertIfNegative val="0"/>
            <c:spPr>
              <a:solidFill>
                <a:srgbClr val="64577a"/>
              </a:solidFill>
              <a:ln w="1800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8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11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4</c:v>
                </c:pt>
                <c:pt idx="3">
                  <c:v>5</c:v>
                </c:pt>
                <c:pt idx="4">
                  <c:v>6</c:v>
                </c:pt>
                <c:pt idx="5">
                  <c:v>7</c:v>
                </c:pt>
                <c:pt idx="6">
                  <c:v>8</c:v>
                </c:pt>
                <c:pt idx="7">
                  <c:v>9</c:v>
                </c:pt>
                <c:pt idx="8">
                  <c:v>10</c:v>
                </c:pt>
              </c:numCache>
            </c:numRef>
          </c:val>
        </c:ser>
        <c:gapWidth val="100"/>
        <c:overlap val="0"/>
        <c:axId val="7703416"/>
        <c:axId val="32814680"/>
      </c:barChart>
      <c:catAx>
        <c:axId val="7703416"/>
        <c:scaling>
          <c:orientation val="minMax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36000">
            <a:solidFill>
              <a:srgbClr val="64577a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pPr>
          </a:p>
        </c:txPr>
        <c:crossAx val="32814680"/>
        <c:crossesAt val="0"/>
        <c:auto val="1"/>
        <c:lblAlgn val="ctr"/>
        <c:lblOffset val="100"/>
        <c:noMultiLvlLbl val="0"/>
      </c:catAx>
      <c:valAx>
        <c:axId val="32814680"/>
        <c:scaling>
          <c:orientation val="minMax"/>
          <c:max val="10"/>
          <c:min val="1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36000">
            <a:solidFill>
              <a:srgbClr val="64577a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7703416"/>
        <c:crosses val="min"/>
        <c:crossBetween val="between"/>
        <c:majorUnit val="1"/>
        <c:minorUnit val="1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32046-A7A5-4B5D-B2BE-DB310EFA0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CD965-9F1E-4561-94CA-355067382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CC732-B718-4264-A965-98F93400D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41F67-74EA-465F-B17F-C1BBBD82F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18086-EABF-4D4C-9034-F315416A7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FEF5B-ECDA-4E0F-B6F1-80AB5B4DD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B4118-F115-4DCA-91DF-C4AF49071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158A9-3DEB-4B67-A487-2EF080571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63436-74CB-4C41-9262-3CFCFCFD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9D817-2EAD-43F9-BEFB-05AC4AF83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69A-E213-4C2E-93BE-9F9B90E8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DB1-F3EE-4D7B-B854-40AC52F2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54E-FF8E-4755-BF9A-EA014567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AD5-6FE6-46F8-997A-8102F51F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5F1-CBDA-47EC-BE67-84429B32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E57-DE78-43CE-BA06-95E3FD9F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CE9-2470-400B-96F7-A7FB890E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5ED-97AA-41C1-B9BF-DE331743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849-F3DC-4D9F-9340-163B1818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882-80E3-4F42-9EB8-CFE1E74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13A-357E-4515-8537-8136F38A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524-F463-4880-8CCF-AF77DDE9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23CF5-D924-4E5B-8B5F-D6F628A6D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10" descr=""/>
          <p:cNvPicPr/>
          <p:nvPr/>
        </p:nvPicPr>
        <p:blipFill>
          <a:blip r:embed="rId2"/>
          <a:stretch/>
        </p:blipFill>
        <p:spPr>
          <a:xfrm>
            <a:off x="2803680" y="622440"/>
            <a:ext cx="4614840" cy="511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6567480" y="6588000"/>
            <a:ext cx="1843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0" y="-17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9"/>
          <p:cNvSpPr/>
          <p:nvPr/>
        </p:nvSpPr>
        <p:spPr>
          <a:xfrm>
            <a:off x="7704000" y="5465880"/>
            <a:ext cx="6494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AutoShape 5"/>
          <p:cNvCxnSpPr>
            <a:stCxn id="63" idx="0"/>
            <a:endCxn id="61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6"/>
          <p:cNvCxnSpPr>
            <a:stCxn id="61" idx="5"/>
            <a:endCxn id="62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1"/>
          <p:cNvSpPr/>
          <p:nvPr/>
        </p:nvSpPr>
        <p:spPr>
          <a:xfrm>
            <a:off x="1179360" y="3645000"/>
            <a:ext cx="1686240" cy="168588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"/>
          <p:cNvSpPr/>
          <p:nvPr/>
        </p:nvSpPr>
        <p:spPr>
          <a:xfrm>
            <a:off x="3827520" y="3909960"/>
            <a:ext cx="1168200" cy="116856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3575160" y="5472000"/>
            <a:ext cx="1168200" cy="116856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575160" y="2343240"/>
            <a:ext cx="1168200" cy="116820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6"/>
          <p:cNvCxnSpPr>
            <a:stCxn id="74" idx="7"/>
            <a:endCxn id="77" idx="2"/>
          </p:cNvCxnSpPr>
          <p:nvPr/>
        </p:nvCxnSpPr>
        <p:spPr>
          <a:xfrm flipV="1">
            <a:off x="2616120" y="2927160"/>
            <a:ext cx="9597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AutoShape 7"/>
          <p:cNvCxnSpPr>
            <a:stCxn id="74" idx="5"/>
            <a:endCxn id="76" idx="2"/>
          </p:cNvCxnSpPr>
          <p:nvPr/>
        </p:nvCxnSpPr>
        <p:spPr>
          <a:xfrm>
            <a:off x="2616120" y="5082840"/>
            <a:ext cx="95976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8"/>
          <p:cNvCxnSpPr>
            <a:stCxn id="74" idx="6"/>
            <a:endCxn id="75" idx="2"/>
          </p:cNvCxnSpPr>
          <p:nvPr/>
        </p:nvCxnSpPr>
        <p:spPr>
          <a:xfrm>
            <a:off x="2863440" y="448776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AutoShape 9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"/>
          <p:cNvSpPr/>
          <p:nvPr/>
        </p:nvSpPr>
        <p:spPr>
          <a:xfrm>
            <a:off x="2457360" y="2084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233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123336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681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2457360" y="3487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2457360" y="4892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679920" y="417204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ccbb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6245280" y="3719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9"/>
          <p:cNvCxnSpPr>
            <a:stCxn id="91" idx="2"/>
            <a:endCxn id="92" idx="2"/>
          </p:cNvCxnSpPr>
          <p:nvPr/>
        </p:nvCxnSpPr>
        <p:spPr>
          <a:xfrm>
            <a:off x="4427280" y="482256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Text Box 10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9a89a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64577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>
              <a:gd name="textAreaLeft" fmla="*/ 0 w 3618000"/>
              <a:gd name="textAreaRight" fmla="*/ 3618360 w 361800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1166760"/>
              <a:gd name="textAreaBottom" fmla="*/ 1166760 h 1166760"/>
            </a:gdLst>
            <a:ahLst/>
            <a:rect l="textAreaLeft" t="textAreaTop" r="textAreaRight" b="textAreaBottom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23960" y="6896160"/>
            <a:ext cx="4537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 flipV="1">
            <a:off x="1030320" y="5299200"/>
            <a:ext cx="4683240" cy="111096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0960"/>
              <a:gd name="textAreaBottom" fmla="*/ 943200 h 11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V="1">
            <a:off x="1697040" y="4133160"/>
            <a:ext cx="3370320" cy="107964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640"/>
              <a:gd name="textAreaBottom" fmla="*/ 894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"/>
          <p:cNvGraphicFramePr/>
          <p:nvPr/>
        </p:nvGraphicFramePr>
        <p:xfrm>
          <a:off x="684360" y="2173320"/>
          <a:ext cx="8103960" cy="467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118" name="AutoShape 2"/>
          <p:cNvCxnSpPr>
            <a:endCxn id="119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64577a"/>
            </a:solidFill>
            <a:miter/>
            <a:tailEnd len="med" type="triangle" w="med"/>
          </a:ln>
        </p:spPr>
      </p:cxnSp>
      <p:sp>
        <p:nvSpPr>
          <p:cNvPr id="119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5"/>
          <p:cNvCxnSpPr>
            <a:stCxn id="120" idx="0"/>
            <a:endCxn id="120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6"/>
          <p:cNvCxnSpPr>
            <a:endCxn id="120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23" name="Text Box 7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04720" y="56484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745799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46:42Z</dcterms:created>
  <dc:creator>User</dc:creator>
  <dc:description>A &lt;a href="http://templates.redoffice.com/template/cateShow.php?class=mb&amp;categoryid=117&amp;sid=165"&gt;business&lt;/a&gt; man stands on the floor painted with arrows in two different directions. This template will fit presentations on commercial, decision, success, cooperation, team, etc.&lt;a href="http://templates.redoffice.com/template/cateShow.php?class=mb&amp;categoryid=117&amp;sid=165"&gt;more about Business Impress Templates&lt;/a&gt;.</dc:description>
  <cp:keywords>presentation background Presentation Black Business people Decision Redoffice Templates Redoffice.com</cp:keywords>
  <dc:language>en-US</dc:language>
  <cp:lastModifiedBy>a</cp:lastModifiedBy>
  <dcterms:modified xsi:type="dcterms:W3CDTF">2015-07-25T01:58:18Z</dcterms:modified>
  <cp:revision>11</cp:revision>
  <dc:subject>&lt;a href="http://templates.redoffice.com/template/cateShow.php?class=mb&amp;categoryid=117&amp;sid=165"&gt;Business&lt;/a&gt;</dc:subject>
  <dc:title>Business peo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cense">
    <vt:lpwstr>&lt;a href="http://templates.services.openoffice.org/bsd-license"&gt;BSD&lt;/a&gt;</vt:lpwstr>
  </property>
</Properties>
</file>