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CB2-F6B7-4CAB-8B5C-CE2713C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B07-1BD0-40B2-AD27-CABF08B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2A5-EA2C-4712-98F9-0BC041A4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ACB-6EAB-4BA5-AC85-C423B047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03B-EF44-4C80-8074-2B80771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B5E-BEE1-476F-9B92-E90F1FD7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3C5-6003-4210-BAB0-96189FAF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F2D-0B51-45D8-8A7F-CC23266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752-E3A1-41DE-9805-787FB166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3F8-178B-4731-89AD-90B15596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EAE-0107-46E7-9B2F-680D08A5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CF9-29FD-4980-8089-E09904E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83628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c1c1c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DE0-86F1-4C73-BB64-48B163DEFE9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nordridesign.com/about.html" TargetMode="External"/><Relationship Id="rId3" Type="http://schemas.openxmlformats.org/officeDocument/2006/relationships/hyperlink" Target="http://www.nordridesign.com/service_ppt_service.html" TargetMode="External"/><Relationship Id="rId4" Type="http://schemas.openxmlformats.org/officeDocument/2006/relationships/hyperlink" Target="http://www.nordridesign.com/service_ppt_service.html" TargetMode="External"/><Relationship Id="rId5" Type="http://schemas.openxmlformats.org/officeDocument/2006/relationships/hyperlink" Target="http://www.nordridesign.com/service_ppt.html" TargetMode="External"/><Relationship Id="rId6" Type="http://schemas.openxmlformats.org/officeDocument/2006/relationships/hyperlink" Target="http://www.nordridesign.com/service_ppt.html" TargetMode="External"/><Relationship Id="rId7" Type="http://schemas.openxmlformats.org/officeDocument/2006/relationships/hyperlink" Target="http://www.nordridesign.com/service_ppt_pro.html" TargetMode="External"/><Relationship Id="rId8" Type="http://schemas.openxmlformats.org/officeDocument/2006/relationships/hyperlink" Target="http://www.nordridesign.com/service_ppt_pro.html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商务人士蓝色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280" y="2670120"/>
            <a:ext cx="7419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Text Box 77">
            <a:hlinkClick r:id="rId1" action="ppaction://hlinksldjump"/>
          </p:cNvPr>
          <p:cNvSpPr/>
          <p:nvPr/>
        </p:nvSpPr>
        <p:spPr>
          <a:xfrm>
            <a:off x="1253520" y="1844640"/>
            <a:ext cx="2462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2"/>
              </a:rPr>
              <a:t>The Team / Nordui团队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1395720" y="2406600"/>
            <a:ext cx="198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3"/>
              </a:rPr>
              <a:t>Objectives / 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4"/>
              </a:rPr>
              <a:t>服务项目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1397520" y="2982960"/>
            <a:ext cx="310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5"/>
              </a:rPr>
              <a:t>Our advantage / Nordui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6"/>
              </a:rPr>
              <a:t>设计优势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Text Box 80"/>
          <p:cNvSpPr/>
          <p:nvPr/>
        </p:nvSpPr>
        <p:spPr>
          <a:xfrm>
            <a:off x="1396800" y="3559320"/>
            <a:ext cx="25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7"/>
              </a:rPr>
              <a:t>Service delivery / 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8"/>
              </a:rPr>
              <a:t>设计流程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Text Box 81"/>
          <p:cNvSpPr/>
          <p:nvPr/>
        </p:nvSpPr>
        <p:spPr>
          <a:xfrm>
            <a:off x="1368360" y="4135320"/>
            <a:ext cx="20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ontact us /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联系我们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此处添加标题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pic>
        <p:nvPicPr>
          <p:cNvPr id="94" name="Picture 5" descr="nordritemplate"/>
          <p:cNvPicPr/>
          <p:nvPr/>
        </p:nvPicPr>
        <p:blipFill>
          <a:blip r:embed="rId1"/>
          <a:stretch/>
        </p:blipFill>
        <p:spPr>
          <a:xfrm>
            <a:off x="7567560" y="4916520"/>
            <a:ext cx="1576440" cy="194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826920" y="632304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模板下载 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0760" y="3103560"/>
            <a:ext cx="74199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NordriDesignStudio</dc:creator>
  <dc:description/>
  <dc:language>en-US</dc:language>
  <cp:lastModifiedBy>王玉清</cp:lastModifiedBy>
  <dcterms:modified xsi:type="dcterms:W3CDTF">2016-02-21T07:31:02Z</dcterms:modified>
  <cp:revision>12</cp:revision>
  <dc:subject/>
  <dc:title>PowerPoint Template</dc:title>
</cp:coreProperties>
</file>