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569A66-B119-46D5-B72D-B5DD12EB6B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BDBC6-FC66-488B-ACD9-82A91C5F5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812EBF-A164-4065-87F9-48A9AD72DC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712956-803C-4B92-9F7D-81B599971B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47993E-0514-4E1D-B7E6-D1F4B5C95B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03FCA3-1A3E-41E0-965C-4FE9133F4F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1DFFB1-DFE4-499C-9475-3795F31F3E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478A87-6396-427F-B1C0-AE0F1AD5A9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20828C-2491-44BA-9531-0F6A691C84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87635E-E56B-491B-BBDC-A48797FD6C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613AE-4294-436E-A2B6-BA48BB638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9EA01-4AFC-4942-94AF-EB9C8FF26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92144-EE00-4438-A358-8673B7699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BAAD9-C6C7-4285-ABAD-122E5D019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0572B6-6CF5-4D5C-92AF-59A0E755FB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91E939-8889-4D9B-AD7A-A3F0EFE06B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44905F-2654-433A-8644-09AF2496CA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FD1AC-3648-48A5-9B89-39A6427B8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7DC08-2CA6-4603-887E-DC9E65AD3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282D7-5C4A-425F-B0FD-72355F94E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41939-A416-4F9C-8C5B-BD664B5EA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792E9-CE54-4D97-B925-FBACFD8C0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951ED-1B04-42B5-84AC-7CEBFEE5F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0BDE8-AB46-4F0D-9103-EE6B27E9B0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75A3D-7E6C-450A-9EA0-4D9FF779F0F6}"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4766760"/>
            <a:ext cx="213372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4766760"/>
            <a:ext cx="213372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D418D-5A52-46EF-A612-3CEE14336409}"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3"/>
          <p:cNvSpPr/>
          <p:nvPr/>
        </p:nvSpPr>
        <p:spPr>
          <a:xfrm>
            <a:off x="2019960" y="268200"/>
            <a:ext cx="5317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5397"/>
                </a:solidFill>
                <a:latin typeface="微软雅黑"/>
                <a:ea typeface="微软雅黑"/>
              </a:rPr>
              <a:t>商务团队通用</a:t>
            </a:r>
            <a:r>
              <a:rPr b="1" lang="en-US" sz="4000" spc="-1" strike="noStrike">
                <a:solidFill>
                  <a:srgbClr val="005397"/>
                </a:solidFill>
                <a:latin typeface="微软雅黑"/>
                <a:ea typeface="微软雅黑"/>
              </a:rPr>
              <a:t>PPT</a:t>
            </a:r>
            <a:r>
              <a:rPr b="1" lang="zh-CN" sz="4000" spc="-1" strike="noStrike">
                <a:solidFill>
                  <a:srgbClr val="005397"/>
                </a:solidFill>
                <a:latin typeface="微软雅黑"/>
                <a:ea typeface="微软雅黑"/>
              </a:rPr>
              <a:t>模板完整版下载</a:t>
            </a:r>
            <a:endParaRPr b="0" lang="en-US" sz="4000" spc="-1" strike="noStrike">
              <a:solidFill>
                <a:srgbClr val="000000"/>
              </a:solidFill>
              <a:latin typeface="Arial"/>
            </a:endParaRPr>
          </a:p>
        </p:txBody>
      </p:sp>
      <p:sp>
        <p:nvSpPr>
          <p:cNvPr id="83" name="矩形 12"/>
          <p:cNvSpPr/>
          <p:nvPr/>
        </p:nvSpPr>
        <p:spPr>
          <a:xfrm>
            <a:off x="457200" y="480528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06280"/>
            <a:ext cx="8229600" cy="857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单击此处添加段落文字内容</a:t>
            </a:r>
            <a:endParaRPr b="0" lang="en-US" sz="2800" spc="-1" strike="noStrike">
              <a:solidFill>
                <a:srgbClr val="000000"/>
              </a:solidFill>
              <a:latin typeface="Calibri"/>
            </a:endParaRPr>
          </a:p>
        </p:txBody>
      </p:sp>
      <p:sp>
        <p:nvSpPr>
          <p:cNvPr id="85" name=""/>
          <p:cNvSpPr txBox="1"/>
          <p:nvPr/>
        </p:nvSpPr>
        <p:spPr>
          <a:xfrm>
            <a:off x="457200" y="1200240"/>
            <a:ext cx="8229600" cy="339408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单击添加段落文字单击添加段落文字单击添加段落文字单击添加段落文字。单击添加段落文字单击添加段落文字。</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6T08:01:37Z</dcterms:created>
  <dc:creator>yingzi</dc:creator>
  <dc:description>www.quick-learning.com.cn</dc:description>
  <cp:keywords>ppt幻灯设计/ppt模板设计</cp:keywords>
  <dc:language>en-US</dc:language>
  <cp:lastModifiedBy>王玉清</cp:lastModifiedBy>
  <dcterms:modified xsi:type="dcterms:W3CDTF">2016-02-21T04:11:34Z</dcterms:modified>
  <cp:revision>30</cp:revision>
  <dc:subject/>
  <dc:title>PowerPoint Template</dc:title>
</cp:coreProperties>
</file>