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A02B-A29F-4897-90D5-E94D8D9916C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08BD-ADD9-4D0B-9465-AEAC6D95817E}" type="slidenum">
              <a:rPr b="0" lang="zh-CN" sz="1200" spc="-1" strike="noStrike">
                <a:solidFill>
                  <a:srgbClr val="30311d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FA26-8324-48FA-9C47-CD4C1BC3F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0B8D-DAC3-440B-8D0A-38046036A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5DCB-A2A7-428A-830A-991DEB4FB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D2A3-5896-4E0A-8B23-89A2BE0D1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F2CD8-6B3E-4209-B8AE-7E9B76E2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B6FD6-7CA2-4181-9F42-BA55E7DB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FFE26-AAA0-4F23-B347-52848ADB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DDC33-5585-4327-9DBD-51947C90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43F34-3302-4CCA-AC1B-88AF6486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4C8D4-FE1D-4F62-A343-D0AB17C0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A5331-83B5-4C15-BC75-802B341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3F7F-98FE-4E20-8D8B-B62D1BAE9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39D48-6BED-4181-BF19-7B9A4DA3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8E2E5-A25F-4FBF-BAB1-12BCBF19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36534-70C0-461D-AF28-834187F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AB987-B72C-405A-8C84-CEE898A9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908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6240" y="16761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908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6240" y="4143960"/>
            <a:ext cx="2576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4D48-D6EB-4A49-BCEB-B16A533D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312A-AA1E-4E56-9FDE-811EBD08E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1338-1214-4B5B-93E7-65B4DCAD4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348F-EA7C-449A-B86F-0688F0F6A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38080"/>
            <a:ext cx="6781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5A16-E2D9-4B1B-ADE9-4B515E22E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7993-B4BF-4D2B-B19A-BB104DF96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120" y="41439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A4B3-AF33-4063-9E2B-E47D9DB35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120" y="1676160"/>
            <a:ext cx="3904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43960"/>
            <a:ext cx="8001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07ED-D890-439B-9C44-BBC245388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3"/>
          <p:cNvSpPr/>
          <p:nvPr/>
        </p:nvSpPr>
        <p:spPr>
          <a:xfrm>
            <a:off x="0" y="981000"/>
            <a:ext cx="9144000" cy="5329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657240" y="64609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4F88-8FA4-4A69-93D3-60EB9624FB0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5"/>
          <p:cNvSpPr/>
          <p:nvPr/>
        </p:nvSpPr>
        <p:spPr>
          <a:xfrm>
            <a:off x="685800" y="1447920"/>
            <a:ext cx="7924680" cy="0"/>
          </a:xfrm>
          <a:prstGeom prst="line">
            <a:avLst/>
          </a:prstGeom>
          <a:ln w="28440">
            <a:solidFill>
              <a:srgbClr val="1a48a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3"/>
          <p:cNvSpPr/>
          <p:nvPr/>
        </p:nvSpPr>
        <p:spPr>
          <a:xfrm>
            <a:off x="179280" y="2637000"/>
            <a:ext cx="8785440" cy="1584000"/>
          </a:xfrm>
          <a:prstGeom prst="rect">
            <a:avLst/>
          </a:prstGeom>
          <a:solidFill>
            <a:srgbClr val="ffff99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2" name="AutoShape 42"/>
          <p:cNvSpPr/>
          <p:nvPr/>
        </p:nvSpPr>
        <p:spPr>
          <a:xfrm>
            <a:off x="152280" y="190440"/>
            <a:ext cx="8839440" cy="6400800"/>
          </a:xfrm>
          <a:prstGeom prst="roundRect">
            <a:avLst>
              <a:gd name="adj" fmla="val 5458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3" name="Line 56"/>
          <p:cNvSpPr/>
          <p:nvPr/>
        </p:nvSpPr>
        <p:spPr>
          <a:xfrm>
            <a:off x="9144000" y="2565360"/>
            <a:ext cx="0" cy="1871640"/>
          </a:xfrm>
          <a:prstGeom prst="line">
            <a:avLst/>
          </a:prstGeom>
          <a:ln w="9360">
            <a:solidFill>
              <a:srgbClr val="3031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4" name="Freeform 68"/>
          <p:cNvSpPr/>
          <p:nvPr/>
        </p:nvSpPr>
        <p:spPr>
          <a:xfrm>
            <a:off x="179280" y="2637000"/>
            <a:ext cx="8785440" cy="215640"/>
          </a:xfrm>
          <a:custGeom>
            <a:avLst/>
            <a:gdLst/>
            <a:ahLst/>
            <a:rect l="l" t="t" r="r" b="b"/>
            <a:pathLst>
              <a:path w="5534" h="136">
                <a:moveTo>
                  <a:pt x="0" y="0"/>
                </a:moveTo>
                <a:cubicBezTo>
                  <a:pt x="185" y="15"/>
                  <a:pt x="370" y="30"/>
                  <a:pt x="635" y="45"/>
                </a:cubicBezTo>
                <a:cubicBezTo>
                  <a:pt x="900" y="60"/>
                  <a:pt x="1225" y="76"/>
                  <a:pt x="1588" y="91"/>
                </a:cubicBezTo>
                <a:cubicBezTo>
                  <a:pt x="1951" y="106"/>
                  <a:pt x="2427" y="136"/>
                  <a:pt x="2812" y="136"/>
                </a:cubicBezTo>
                <a:cubicBezTo>
                  <a:pt x="3197" y="136"/>
                  <a:pt x="3576" y="106"/>
                  <a:pt x="3901" y="91"/>
                </a:cubicBezTo>
                <a:cubicBezTo>
                  <a:pt x="4226" y="76"/>
                  <a:pt x="4491" y="60"/>
                  <a:pt x="4763" y="45"/>
                </a:cubicBezTo>
                <a:cubicBezTo>
                  <a:pt x="5035" y="30"/>
                  <a:pt x="5406" y="7"/>
                  <a:pt x="5534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5" name="Freeform 69"/>
          <p:cNvSpPr/>
          <p:nvPr/>
        </p:nvSpPr>
        <p:spPr>
          <a:xfrm flipV="1">
            <a:off x="179280" y="4075560"/>
            <a:ext cx="8785440" cy="144360"/>
          </a:xfrm>
          <a:custGeom>
            <a:avLst/>
            <a:gdLst/>
            <a:ahLst/>
            <a:rect l="l" t="t" r="r" b="b"/>
            <a:pathLst>
              <a:path w="5534" h="136">
                <a:moveTo>
                  <a:pt x="0" y="0"/>
                </a:moveTo>
                <a:cubicBezTo>
                  <a:pt x="185" y="15"/>
                  <a:pt x="370" y="30"/>
                  <a:pt x="635" y="45"/>
                </a:cubicBezTo>
                <a:cubicBezTo>
                  <a:pt x="900" y="60"/>
                  <a:pt x="1225" y="76"/>
                  <a:pt x="1588" y="91"/>
                </a:cubicBezTo>
                <a:cubicBezTo>
                  <a:pt x="1951" y="106"/>
                  <a:pt x="2427" y="136"/>
                  <a:pt x="2812" y="136"/>
                </a:cubicBezTo>
                <a:cubicBezTo>
                  <a:pt x="3197" y="136"/>
                  <a:pt x="3576" y="106"/>
                  <a:pt x="3901" y="91"/>
                </a:cubicBezTo>
                <a:cubicBezTo>
                  <a:pt x="4226" y="76"/>
                  <a:pt x="4491" y="60"/>
                  <a:pt x="4763" y="45"/>
                </a:cubicBezTo>
                <a:cubicBezTo>
                  <a:pt x="5035" y="30"/>
                  <a:pt x="5406" y="7"/>
                  <a:pt x="5534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a48a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57b9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88fd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03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0311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0311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311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22824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200040" y="66132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0311d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78132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D86C-C1DC-4A6E-8CDC-4DC70D773F6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3068640"/>
            <a:ext cx="833904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9900"/>
                </a:solidFill>
                <a:latin typeface="Verdana"/>
                <a:ea typeface="宋体"/>
              </a:rPr>
              <a:t>树叶通用</a:t>
            </a:r>
            <a:r>
              <a:rPr b="1" i="1" lang="en-US" sz="4000" spc="-1" strike="noStrike">
                <a:solidFill>
                  <a:srgbClr val="009900"/>
                </a:solidFill>
                <a:latin typeface="Verdana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9900"/>
                </a:solidFill>
                <a:latin typeface="Verdana"/>
                <a:ea typeface="宋体"/>
              </a:rPr>
              <a:t>模板免费下载</a:t>
            </a:r>
            <a:endParaRPr b="1" lang="en-US" sz="4000" spc="-1" strike="noStrike">
              <a:solidFill>
                <a:srgbClr val="1a48a4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424404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30311d"/>
              </a:solidFill>
              <a:latin typeface="Verdana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0311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30311d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30311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6781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a48a4"/>
              </a:solidFill>
              <a:latin typeface="Verdana"/>
              <a:ea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30311d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5"/>
          <p:cNvSpPr txBox="1"/>
          <p:nvPr/>
        </p:nvSpPr>
        <p:spPr>
          <a:xfrm>
            <a:off x="2133720" y="3200400"/>
            <a:ext cx="4876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a48a4"/>
                    </a:gs>
                    <a:gs pos="100000">
                      <a:srgbClr val="488fd6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30311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a48a4"/>
                  </a:gs>
                  <a:gs pos="100000">
                    <a:srgbClr val="488fd6"/>
                  </a:gs>
                </a:gsLst>
                <a:lin ang="0"/>
              </a:gradFill>
              <a:effectLst>
                <a:outerShdw dist="53966" dir="2700000" blurRad="0" rotWithShape="0">
                  <a:srgbClr val="30311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5:55:31Z</dcterms:created>
  <dc:creator>haier</dc:creator>
  <dc:description/>
  <dc:language>en-US</dc:language>
  <cp:lastModifiedBy>王玉清</cp:lastModifiedBy>
  <dcterms:modified xsi:type="dcterms:W3CDTF">2016-02-22T03:37:06Z</dcterms:modified>
  <cp:revision>29</cp:revision>
  <dc:subject/>
  <dc:title>PowerPoint Template</dc:title>
</cp:coreProperties>
</file>