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DB2-AF68-4FA1-A528-C01E5E44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E65-431D-45D6-A487-68EF37B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761-ED5C-4C95-8B2D-B41DD634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FBC-5E1D-4033-A77E-5A5E28AC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04A-341F-4467-BC7E-9CDBF88A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C45-255C-41E0-B1DF-84CC7629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8DC-1857-46A6-B1A8-F4D5B947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BA5-C983-413F-BDDF-6FEDB610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B5B-9E88-4F3E-9654-3F2A5C39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4CC-7F51-42E6-8866-6B12EE4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3A9-FA49-4162-A58D-334EB829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70D-FD78-4F8C-9C86-5B3EFD39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9F5B-3A07-481D-9433-5FF239AF2E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-208080"/>
            <a:ext cx="71294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商者商务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473800" y="403200"/>
            <a:ext cx="3851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5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25800" y="-171360"/>
            <a:ext cx="3382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2"/>
          <p:cNvSpPr/>
          <p:nvPr/>
        </p:nvSpPr>
        <p:spPr>
          <a:xfrm>
            <a:off x="2014560" y="1125360"/>
            <a:ext cx="6950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000000"/>
                </a:solidFill>
                <a:latin typeface="Verdana"/>
              </a:rPr>
              <a:t>Lorem ipsum dolor sit amet, consectet adipiscing elit, sed diam nonummy nibh euismod tincidunt ut laoreet dolore aliquam erat volutp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000000"/>
                </a:solidFill>
                <a:latin typeface="Verdana"/>
              </a:rPr>
              <a:t>Lorem ipsum dolor sit amet, consetetur sadipscing elitr, sed diam nonumy eirmod tempor invidunt ut labore et dolore magna aliquyam erat, sed diam volupt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000000"/>
                </a:solidFill>
                <a:latin typeface="Verdana"/>
              </a:rPr>
              <a:t>Lorem ipsum dolor sit amet, consetetur sadipscing elitr, sed diam nonumy eirmod tempor invidunt ut labore et dolo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6:19:00Z</dcterms:created>
  <dc:creator>ppt宝藏</dc:creator>
  <dc:description/>
  <dc:language>en-US</dc:language>
  <cp:lastModifiedBy>a</cp:lastModifiedBy>
  <dcterms:modified xsi:type="dcterms:W3CDTF">2015-07-25T07:04:43Z</dcterms:modified>
  <cp:revision>25</cp:revision>
  <dc:subject/>
  <dc:title>www.pptbz.com</dc:title>
</cp:coreProperties>
</file>