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15236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58C-4000-4497-B6E0-A5852EAE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6EE-31D7-4AFD-B437-E974F94A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256-0BD3-4BC6-AD06-C2C0060B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240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844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240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844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735-38CD-425F-837C-E7222768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2A8-2009-4FBE-9BF1-5B9AD1DF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9C8-DAF4-4C15-BEDD-68BAE42C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448-334D-412E-BACD-D0E93BB8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263-51A4-4499-B5F6-A43FA35C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274320"/>
            <a:ext cx="1036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BDD-0277-485F-965A-0D0CB372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40E-6A77-4858-A073-45209836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1B4-B9E6-47FF-92DA-71881CD5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7A1-43F7-411F-BCAD-9A48E14D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244920"/>
            <a:ext cx="2687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6960" y="6244920"/>
            <a:ext cx="3648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8040" y="6244920"/>
            <a:ext cx="2687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D8D6-C147-43B0-8351-0D730711D2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标题 1"/>
          <p:cNvSpPr/>
          <p:nvPr/>
        </p:nvSpPr>
        <p:spPr>
          <a:xfrm>
            <a:off x="863640" y="1847880"/>
            <a:ext cx="9794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团队通用</a:t>
            </a:r>
            <a:r>
              <a:rPr b="1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99720" y="66531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0d0d0d"/>
                </a:solidFill>
                <a:latin typeface="Arial"/>
              </a:rPr>
              <a:t>模板下载：</a:t>
            </a: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www.1ppt.com/moban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0"/>
            <a:ext cx="1147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标题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99720" y="64119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ww.1ppt.com/moban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王玉清</cp:lastModifiedBy>
  <dcterms:modified xsi:type="dcterms:W3CDTF">2016-02-21T04:05:03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