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E40E82B3-5728-4C06-8DA3-82949FB3D33A}" type="presOf" srcId="{92E4D4CE-1AA4-4D52-99F4-DB896DDAFFFA}" destId="{5DFF97FA-0CE8-42E3-99F3-6BA9AB47BDE4}" srcOrd="0" destOrd="0" presId="urn:microsoft.com/office/officeart/2005/8/layout/hProcess4"/>
    <dgm:cxn modelId="{A5404E69-AFBA-4891-94A5-B993B5C60EFC}" type="presOf" srcId="{485CBBDC-7747-464B-AE27-6B3085887870}" destId="{4BC9813E-4A7A-4CB0-8296-9B7382C9EE8C}" srcOrd="1" destOrd="0" presId="urn:microsoft.com/office/officeart/2005/8/layout/hProcess4"/>
    <dgm:cxn modelId="{14585ED6-939C-4AA3-9B6A-A63AF5AE0429}" type="presOf" srcId="{9E89A21A-8EF4-44A0-B841-7968BBDFC9FF}" destId="{5BB9E358-5475-4CE7-A9FF-190361B2025F}" srcOrd="0" destOrd="0" presId="urn:microsoft.com/office/officeart/2005/8/layout/hProcess4"/>
    <dgm:cxn modelId="{D6BAC4A3-5B00-481B-BEAB-2FE8030D5FD8}" type="presOf" srcId="{26C2D5BE-D3B7-4078-8850-D1577E0EAA64}" destId="{4C3F0DFD-E151-48A6-AE4F-C6F354545060}" srcOrd="1" destOrd="0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1341EB1C-03B3-4014-B7C5-9F10246EC48E}" type="presOf" srcId="{7F0BA62A-557B-48FA-8619-3ED9E37E60BF}" destId="{9BB0DF1C-8119-4D95-8FD1-9A934D11E6BD}" srcOrd="0" destOrd="0" presId="urn:microsoft.com/office/officeart/2005/8/layout/hProcess4"/>
    <dgm:cxn modelId="{43B04CD3-60FD-4165-AFBF-E1C70A9194EB}" type="presOf" srcId="{485CBBDC-7747-464B-AE27-6B3085887870}" destId="{FC50B94C-004B-4787-85D5-3A3E056960FA}" srcOrd="0" destOrd="0" presId="urn:microsoft.com/office/officeart/2005/8/layout/hProcess4"/>
    <dgm:cxn modelId="{2818523A-A115-4AC5-9718-7AFB069891A6}" type="presOf" srcId="{056215A8-69AD-40E5-8456-96418DE2A40E}" destId="{31672554-0D19-476A-B7BC-18C88177C059}" srcOrd="0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C5449E8A-C649-42C3-932F-207B85A2633B}" type="presOf" srcId="{B5640EBF-A38F-4B26-A6B1-C2C83622E08C}" destId="{4BC9813E-4A7A-4CB0-8296-9B7382C9EE8C}" srcOrd="1" destOrd="1" presId="urn:microsoft.com/office/officeart/2005/8/layout/hProcess4"/>
    <dgm:cxn modelId="{9E1488EA-61D7-4451-B66E-B85E287309E4}" type="presOf" srcId="{AF1F2C4F-ABA5-4F83-9D71-66B3E3F62438}" destId="{9E23C27C-2F6B-486A-A68D-A03A32B1239A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7387B803-8A95-4B2F-BBF9-003584AA6C40}" type="presOf" srcId="{26C2D5BE-D3B7-4078-8850-D1577E0EAA64}" destId="{63D14D58-4324-4CD4-91C6-84C9C31952C1}" srcOrd="0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B517A2F9-E006-423A-A229-9C16315C503D}" type="presOf" srcId="{8367871A-EDCD-4CA6-8EF0-60AA517B3978}" destId="{B38E120F-788A-4AB6-8C7C-93AD58183F25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23359843-8DB3-48BE-A94F-3781D856F325}" type="presOf" srcId="{B5640EBF-A38F-4B26-A6B1-C2C83622E08C}" destId="{FC50B94C-004B-4787-85D5-3A3E056960FA}" srcOrd="0" destOrd="1" presId="urn:microsoft.com/office/officeart/2005/8/layout/hProcess4"/>
    <dgm:cxn modelId="{31D44E9E-451F-4F9B-95A4-21D8D64D2BC9}" type="presParOf" srcId="{31672554-0D19-476A-B7BC-18C88177C059}" destId="{0742B591-10E8-4ED7-A22B-728BD0474B35}" srcOrd="0" destOrd="0" presId="urn:microsoft.com/office/officeart/2005/8/layout/hProcess4"/>
    <dgm:cxn modelId="{8467490A-B6D6-4DB9-80E9-2CC19F6A8614}" type="presParOf" srcId="{31672554-0D19-476A-B7BC-18C88177C059}" destId="{A56ECD29-B374-4629-B21B-E23A8D6D3FEF}" srcOrd="1" destOrd="0" presId="urn:microsoft.com/office/officeart/2005/8/layout/hProcess4"/>
    <dgm:cxn modelId="{36CD78FB-27DC-4511-85DA-AF8673F9D8B3}" type="presParOf" srcId="{31672554-0D19-476A-B7BC-18C88177C059}" destId="{8DFC6E79-4DCF-4180-84F5-504313A724AF}" srcOrd="2" destOrd="0" presId="urn:microsoft.com/office/officeart/2005/8/layout/hProcess4"/>
    <dgm:cxn modelId="{58EB8EEA-2812-47E6-9D9D-9916C3B69228}" type="presParOf" srcId="{8DFC6E79-4DCF-4180-84F5-504313A724AF}" destId="{2D90EFE3-3538-4E13-8A34-91B866287411}" srcOrd="0" destOrd="0" presId="urn:microsoft.com/office/officeart/2005/8/layout/hProcess4"/>
    <dgm:cxn modelId="{F957DAD7-E5D3-4C27-874D-3BF1427E5DC0}" type="presParOf" srcId="{2D90EFE3-3538-4E13-8A34-91B866287411}" destId="{B35AEF57-13F9-47EB-9EA8-B89045E288E8}" srcOrd="0" destOrd="0" presId="urn:microsoft.com/office/officeart/2005/8/layout/hProcess4"/>
    <dgm:cxn modelId="{BF5974B6-737A-4F23-B809-F023328D1865}" type="presParOf" srcId="{2D90EFE3-3538-4E13-8A34-91B866287411}" destId="{03E88B35-7F3C-41D1-8F4E-6C7D6123A4BE}" srcOrd="1" destOrd="0" presId="urn:microsoft.com/office/officeart/2005/8/layout/hProcess4"/>
    <dgm:cxn modelId="{9BB1F54C-1198-446E-9CB4-58B49BBE046F}" type="presParOf" srcId="{2D90EFE3-3538-4E13-8A34-91B866287411}" destId="{3F18238D-FC7E-4D9E-91A6-3FA8723FA6F3}" srcOrd="2" destOrd="0" presId="urn:microsoft.com/office/officeart/2005/8/layout/hProcess4"/>
    <dgm:cxn modelId="{340C258E-2657-48B7-A1F2-0BCEEB8FE1C2}" type="presParOf" srcId="{2D90EFE3-3538-4E13-8A34-91B866287411}" destId="{9E23C27C-2F6B-486A-A68D-A03A32B1239A}" srcOrd="3" destOrd="0" presId="urn:microsoft.com/office/officeart/2005/8/layout/hProcess4"/>
    <dgm:cxn modelId="{6F86F516-33B2-4D4E-8567-04DDDF3ADFDE}" type="presParOf" srcId="{2D90EFE3-3538-4E13-8A34-91B866287411}" destId="{6D7DC70B-8128-4A4E-9491-B8F080EB3F6D}" srcOrd="4" destOrd="0" presId="urn:microsoft.com/office/officeart/2005/8/layout/hProcess4"/>
    <dgm:cxn modelId="{8312FF93-14F5-40F4-8F0A-6160FBC99089}" type="presParOf" srcId="{8DFC6E79-4DCF-4180-84F5-504313A724AF}" destId="{9BB0DF1C-8119-4D95-8FD1-9A934D11E6BD}" srcOrd="1" destOrd="0" presId="urn:microsoft.com/office/officeart/2005/8/layout/hProcess4"/>
    <dgm:cxn modelId="{94CF02CD-4130-4244-89DD-BBB2FF5E45F7}" type="presParOf" srcId="{8DFC6E79-4DCF-4180-84F5-504313A724AF}" destId="{87D069B2-A318-469D-920D-8C8D6360C269}" srcOrd="2" destOrd="0" presId="urn:microsoft.com/office/officeart/2005/8/layout/hProcess4"/>
    <dgm:cxn modelId="{61AD148D-6371-4667-A65C-5DF5D47DD60D}" type="presParOf" srcId="{87D069B2-A318-469D-920D-8C8D6360C269}" destId="{D9C54001-D2D4-4735-BB11-90C2AE687347}" srcOrd="0" destOrd="0" presId="urn:microsoft.com/office/officeart/2005/8/layout/hProcess4"/>
    <dgm:cxn modelId="{16DA3025-8B75-45EA-A0AC-A878DACBC56A}" type="presParOf" srcId="{87D069B2-A318-469D-920D-8C8D6360C269}" destId="{63D14D58-4324-4CD4-91C6-84C9C31952C1}" srcOrd="1" destOrd="0" presId="urn:microsoft.com/office/officeart/2005/8/layout/hProcess4"/>
    <dgm:cxn modelId="{02AC4E1C-C788-4ABD-AD22-94EA7A88B1A6}" type="presParOf" srcId="{87D069B2-A318-469D-920D-8C8D6360C269}" destId="{4C3F0DFD-E151-48A6-AE4F-C6F354545060}" srcOrd="2" destOrd="0" presId="urn:microsoft.com/office/officeart/2005/8/layout/hProcess4"/>
    <dgm:cxn modelId="{25C8C41C-88C1-4A52-A379-DE0BBE15555B}" type="presParOf" srcId="{87D069B2-A318-469D-920D-8C8D6360C269}" destId="{B38E120F-788A-4AB6-8C7C-93AD58183F25}" srcOrd="3" destOrd="0" presId="urn:microsoft.com/office/officeart/2005/8/layout/hProcess4"/>
    <dgm:cxn modelId="{E18C4268-AC8D-47E3-A6BD-FE578B10B011}" type="presParOf" srcId="{87D069B2-A318-469D-920D-8C8D6360C269}" destId="{9422B2A4-9EAC-41F2-8DC8-4055C40D3CD1}" srcOrd="4" destOrd="0" presId="urn:microsoft.com/office/officeart/2005/8/layout/hProcess4"/>
    <dgm:cxn modelId="{27C54F52-184D-4728-A77C-51F06E81D413}" type="presParOf" srcId="{8DFC6E79-4DCF-4180-84F5-504313A724AF}" destId="{5DFF97FA-0CE8-42E3-99F3-6BA9AB47BDE4}" srcOrd="3" destOrd="0" presId="urn:microsoft.com/office/officeart/2005/8/layout/hProcess4"/>
    <dgm:cxn modelId="{858D95DD-BC80-4ADF-92E3-4D3D26AD0469}" type="presParOf" srcId="{8DFC6E79-4DCF-4180-84F5-504313A724AF}" destId="{CEB7E3D8-09F7-4230-906C-1376BB2D0E9C}" srcOrd="4" destOrd="0" presId="urn:microsoft.com/office/officeart/2005/8/layout/hProcess4"/>
    <dgm:cxn modelId="{224D3D66-5F64-4F3C-897A-A0575CF38C21}" type="presParOf" srcId="{CEB7E3D8-09F7-4230-906C-1376BB2D0E9C}" destId="{0EE0EF3F-28A5-4BA3-8A64-E002C7712EC1}" srcOrd="0" destOrd="0" presId="urn:microsoft.com/office/officeart/2005/8/layout/hProcess4"/>
    <dgm:cxn modelId="{637A8FB5-4B62-4208-93B2-1DB805EA56D5}" type="presParOf" srcId="{CEB7E3D8-09F7-4230-906C-1376BB2D0E9C}" destId="{FC50B94C-004B-4787-85D5-3A3E056960FA}" srcOrd="1" destOrd="0" presId="urn:microsoft.com/office/officeart/2005/8/layout/hProcess4"/>
    <dgm:cxn modelId="{DF3283BC-9A69-41B6-879F-FDE14D01F41A}" type="presParOf" srcId="{CEB7E3D8-09F7-4230-906C-1376BB2D0E9C}" destId="{4BC9813E-4A7A-4CB0-8296-9B7382C9EE8C}" srcOrd="2" destOrd="0" presId="urn:microsoft.com/office/officeart/2005/8/layout/hProcess4"/>
    <dgm:cxn modelId="{ED5D2B16-FCC3-4C9F-A17D-8147855BD7CC}" type="presParOf" srcId="{CEB7E3D8-09F7-4230-906C-1376BB2D0E9C}" destId="{5BB9E358-5475-4CE7-A9FF-190361B2025F}" srcOrd="3" destOrd="0" presId="urn:microsoft.com/office/officeart/2005/8/layout/hProcess4"/>
    <dgm:cxn modelId="{B5B9CBF9-87B9-44FF-A610-CB978D73D8DB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FA71E825-3D58-4D62-B535-94C5BC65C812}" type="presOf" srcId="{44A90609-BB3E-480F-AFB3-4030EE69BDE3}" destId="{A3DE3145-70E8-4745-9719-D5DE2F3A54F2}" srcOrd="1" destOrd="0" presId="urn:microsoft.com/office/officeart/2005/8/layout/cycle8"/>
    <dgm:cxn modelId="{076778EE-9489-4FEB-B1BA-7594B85D64F8}" type="presOf" srcId="{E764F87A-9F38-4E74-9783-EB2C2D1A56D8}" destId="{B2518E15-CB8E-4DD1-8ECA-E912B4C8B840}" srcOrd="0" destOrd="0" presId="urn:microsoft.com/office/officeart/2005/8/layout/cycle8"/>
    <dgm:cxn modelId="{32F3FF4E-8844-4A39-BF83-14805C8A8B78}" type="presOf" srcId="{110555D6-43D3-4D01-871E-4072A02A042A}" destId="{8E3D39C8-6AF4-4F0E-93C3-9670CB03196E}" srcOrd="1" destOrd="0" presId="urn:microsoft.com/office/officeart/2005/8/layout/cycle8"/>
    <dgm:cxn modelId="{C07BDEDB-7959-4EFE-B3C5-C970C9714E32}" type="presOf" srcId="{E764F87A-9F38-4E74-9783-EB2C2D1A56D8}" destId="{BC7FD5E8-2D26-4708-A112-F5FCCA1C9986}" srcOrd="1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535D86C9-0745-4441-8CE2-C22D94C2A7EE}" type="presOf" srcId="{110555D6-43D3-4D01-871E-4072A02A042A}" destId="{E493F9E3-DAAF-4A13-993B-B812B9596939}" srcOrd="0" destOrd="0" presId="urn:microsoft.com/office/officeart/2005/8/layout/cycle8"/>
    <dgm:cxn modelId="{14B38502-3F84-4CE5-BBB9-53CF47DE6066}" type="presOf" srcId="{44A90609-BB3E-480F-AFB3-4030EE69BDE3}" destId="{C6FAC3EC-49C4-4B5A-B0A3-DB5DCDE88E3E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105E843A-8B28-4318-8BD7-D136B0A2D949}" type="presOf" srcId="{FB8F2EB7-87A2-43F3-B58F-248EAB3FC864}" destId="{A45B7F23-0F21-4C06-AF0A-CBBBA8690A5F}" srcOrd="0" destOrd="0" presId="urn:microsoft.com/office/officeart/2005/8/layout/cycle8"/>
    <dgm:cxn modelId="{192C6F60-94A3-4BE4-A080-D4CEE22102BE}" type="presParOf" srcId="{A45B7F23-0F21-4C06-AF0A-CBBBA8690A5F}" destId="{E493F9E3-DAAF-4A13-993B-B812B9596939}" srcOrd="0" destOrd="0" presId="urn:microsoft.com/office/officeart/2005/8/layout/cycle8"/>
    <dgm:cxn modelId="{A863D0FC-72E9-42CD-A40C-BB207433AE4E}" type="presParOf" srcId="{A45B7F23-0F21-4C06-AF0A-CBBBA8690A5F}" destId="{D5ACF9A8-5608-4C14-86A6-0A6071C17D4F}" srcOrd="1" destOrd="0" presId="urn:microsoft.com/office/officeart/2005/8/layout/cycle8"/>
    <dgm:cxn modelId="{125A8A66-CA9F-4CCB-9F6A-E0B98FB89F3D}" type="presParOf" srcId="{A45B7F23-0F21-4C06-AF0A-CBBBA8690A5F}" destId="{A1538A13-6228-4252-AD9B-57EE81079F3F}" srcOrd="2" destOrd="0" presId="urn:microsoft.com/office/officeart/2005/8/layout/cycle8"/>
    <dgm:cxn modelId="{37A81CF0-F229-4DBE-883F-FC2AA3F66508}" type="presParOf" srcId="{A45B7F23-0F21-4C06-AF0A-CBBBA8690A5F}" destId="{8E3D39C8-6AF4-4F0E-93C3-9670CB03196E}" srcOrd="3" destOrd="0" presId="urn:microsoft.com/office/officeart/2005/8/layout/cycle8"/>
    <dgm:cxn modelId="{A919C266-23F8-4E7B-809A-0462F8D16821}" type="presParOf" srcId="{A45B7F23-0F21-4C06-AF0A-CBBBA8690A5F}" destId="{C6FAC3EC-49C4-4B5A-B0A3-DB5DCDE88E3E}" srcOrd="4" destOrd="0" presId="urn:microsoft.com/office/officeart/2005/8/layout/cycle8"/>
    <dgm:cxn modelId="{5453EADD-A6A2-4509-A704-C98FC37B0862}" type="presParOf" srcId="{A45B7F23-0F21-4C06-AF0A-CBBBA8690A5F}" destId="{2AA4EE0A-4C4A-4D84-AB12-73572B2BC71A}" srcOrd="5" destOrd="0" presId="urn:microsoft.com/office/officeart/2005/8/layout/cycle8"/>
    <dgm:cxn modelId="{FD6A2949-87FF-43F8-901A-83A8DE8C220A}" type="presParOf" srcId="{A45B7F23-0F21-4C06-AF0A-CBBBA8690A5F}" destId="{D2598D74-D251-4214-8C98-67D55D7F86B3}" srcOrd="6" destOrd="0" presId="urn:microsoft.com/office/officeart/2005/8/layout/cycle8"/>
    <dgm:cxn modelId="{91F66ED1-49BB-4007-84C0-A49C8F272236}" type="presParOf" srcId="{A45B7F23-0F21-4C06-AF0A-CBBBA8690A5F}" destId="{A3DE3145-70E8-4745-9719-D5DE2F3A54F2}" srcOrd="7" destOrd="0" presId="urn:microsoft.com/office/officeart/2005/8/layout/cycle8"/>
    <dgm:cxn modelId="{E9EFA487-8210-4988-8344-1A3F746CE8D2}" type="presParOf" srcId="{A45B7F23-0F21-4C06-AF0A-CBBBA8690A5F}" destId="{B2518E15-CB8E-4DD1-8ECA-E912B4C8B840}" srcOrd="8" destOrd="0" presId="urn:microsoft.com/office/officeart/2005/8/layout/cycle8"/>
    <dgm:cxn modelId="{250FC174-8903-4872-B6D4-9F5FA4B2A754}" type="presParOf" srcId="{A45B7F23-0F21-4C06-AF0A-CBBBA8690A5F}" destId="{3FC5E115-2604-40D3-9C15-E8CE66A86819}" srcOrd="9" destOrd="0" presId="urn:microsoft.com/office/officeart/2005/8/layout/cycle8"/>
    <dgm:cxn modelId="{41E87332-7FBF-45FD-BA90-AF773CF040B8}" type="presParOf" srcId="{A45B7F23-0F21-4C06-AF0A-CBBBA8690A5F}" destId="{507D4A05-B4BA-4FF1-BB33-E8BF7E156836}" srcOrd="10" destOrd="0" presId="urn:microsoft.com/office/officeart/2005/8/layout/cycle8"/>
    <dgm:cxn modelId="{28B833C1-6CFD-45B1-8AB5-0E96ED9F9F0A}" type="presParOf" srcId="{A45B7F23-0F21-4C06-AF0A-CBBBA8690A5F}" destId="{BC7FD5E8-2D26-4708-A112-F5FCCA1C9986}" srcOrd="11" destOrd="0" presId="urn:microsoft.com/office/officeart/2005/8/layout/cycle8"/>
    <dgm:cxn modelId="{344806A9-AAE3-406E-896B-74CA9AAF8821}" type="presParOf" srcId="{A45B7F23-0F21-4C06-AF0A-CBBBA8690A5F}" destId="{123601F8-2575-4F18-AC70-067D5FDA137D}" srcOrd="12" destOrd="0" presId="urn:microsoft.com/office/officeart/2005/8/layout/cycle8"/>
    <dgm:cxn modelId="{E74F9092-303E-4CE9-BDB1-9598148A46C4}" type="presParOf" srcId="{A45B7F23-0F21-4C06-AF0A-CBBBA8690A5F}" destId="{C8BC481C-ED52-4204-A38E-DFD50067CD27}" srcOrd="13" destOrd="0" presId="urn:microsoft.com/office/officeart/2005/8/layout/cycle8"/>
    <dgm:cxn modelId="{E3E4F2AE-2725-4697-8C86-8C47EF281C6E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F89-E876-48CA-9D48-24417866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000-4AED-4431-BBB4-E5FFCB9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E0C-B0C2-47D4-983E-EF4D2897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F82-836D-4656-A8CF-192E6336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6FB7-1568-4C52-8E6F-C61D144E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477-8766-43A5-A098-EE61F269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5A9E-4927-4A30-A6B3-C0190150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829-ED6E-4068-9FD0-F197473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411-6C1C-48AF-97FE-900899A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6A8-AFF1-4497-86E8-B7C91BB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18EB-036D-4FA2-ABF3-88B3EE1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8C7-86C7-4FDD-B302-5B58315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7EE-DA0F-404D-91F4-A98004F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378E-E166-452C-BA57-1D5A4F7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3FBF-30C3-4D10-B5C6-61436C1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9FC-A8A9-4636-9721-9615BB6D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F4F-D0FF-48DC-BFA7-8AE956F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454-604E-493F-AB37-B3E5A8C9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D7-6891-4A1F-AC6B-6371E4E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760-60F7-4D31-9B4C-0BF6F54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8F7-5551-4F94-8C91-2965015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25C-4FFF-4A7C-AD5F-D2B7D39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04E-B449-43E0-AA4F-07E55A2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5CA-0463-4D0B-838D-6E489DD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BF4E77-42D6-449C-B663-7747E7D5A0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d69b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06463-1C6A-41A9-8274-42F7444422C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Power Point</a:t>
            </a:r>
            <a:br>
              <a:rPr sz="5400"/>
            </a:b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928800" y="3571920"/>
            <a:ext cx="45003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166480" y="459000"/>
            <a:ext cx="5373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透明猪头存钱罐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68729429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68058184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4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450036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4</Template>
  <TotalTime>42</TotalTime>
  <Application>LibreOffice/7.4.7.2$Linux_X86_64 LibreOffice_project/40$Build-2</Application>
  <AppVersion>15.0000</AppVersion>
  <Words>64</Words>
  <Paragraphs>18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3:07:30Z</dcterms:created>
  <dc:creator>YlmF</dc:creator>
  <dc:description/>
  <dc:language>en-US</dc:language>
  <cp:lastModifiedBy>王玉清</cp:lastModifiedBy>
  <dcterms:modified xsi:type="dcterms:W3CDTF">2016-02-15T04:32:48Z</dcterms:modified>
  <cp:revision>7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